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3AF1-6A60-4EB3-BE0C-7EBF116E1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484E-3800-4657-805E-BC0888EB9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1070-8A5F-4DD7-91B0-C40B95C35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2183-3095-4C1E-95F0-D5F6860E5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3795-9C7D-46EA-B387-785D29FB6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6CDA-E647-4308-B19A-C03727D2C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52B5-CA6A-4DD5-B80C-52B296C02B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FC67-547E-44DE-A15E-7FA05E5A7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5883-F5DE-4618-B656-7B60D5F4F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32A6-525C-4460-9D56-5C156A370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43C5-9884-4C74-88E9-016B19BFB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A47F-9203-48FD-9E3C-C389B1FAA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7734-EA9C-4729-BFF2-98DB247F9D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B4BB-06FE-4E4D-870F-9A3A8D6F14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CF40-32FF-4462-BCAA-508BF365A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E8A6-F874-4AEA-8CD7-A11F628BFC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1068-83F4-46F1-8873-0F952E390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45AE-761A-4B98-AE37-FE1412C8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72EB-6AC4-4089-8A0B-18372C94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EA2A-B3EF-4D4B-81CE-337CB958B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DA05-E644-4DD0-8774-E39F080EA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6A1F-6FC9-4577-8A05-5AFC5B7A2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FB6F-65DC-40C2-8C09-0BFC9309B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7E01-D9D3-4DC2-8113-89D2410DC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8A3B80E-DEB1-487D-91B4-C511ACAF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8580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3049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26560" y="129528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40384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4114800" y="63241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26F6037-9136-4800-BAD2-B72A32252055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34320" y="6172200"/>
            <a:ext cx="8316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185840"/>
            <a:ext cx="76975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Optical Velocimeters</a:t>
            </a:r>
            <a:br>
              <a:rPr sz="4800"/>
            </a:br>
            <a:br>
              <a:rPr sz="4800"/>
            </a:br>
            <a:br>
              <a:rPr sz="44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f. 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955440" cy="924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9055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tical Measurements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”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ster Degree in Enginee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mation-, Electronics-, Physics-, Telecommunication- Engineering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693B-8FE0-440E-BC8A-CE11049222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8199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schemes (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angle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_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scatt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./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back_scatt.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5760" y="1268280"/>
            <a:ext cx="3416400" cy="256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900600" y="1087560"/>
            <a:ext cx="3484440" cy="2790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354640" y="1596960"/>
            <a:ext cx="333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841400" y="3957480"/>
            <a:ext cx="5104080" cy="2754360"/>
            <a:chOff x="1841400" y="3957480"/>
            <a:chExt cx="5104080" cy="2754360"/>
          </a:xfrm>
        </p:grpSpPr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1841400" y="3957480"/>
              <a:ext cx="510408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89640" y="6613560"/>
              <a:ext cx="333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17840" y="4883040"/>
              <a:ext cx="1400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36920" y="4889520"/>
              <a:ext cx="271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23DC-8363-446F-A229-6D6D0B3F71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LDV: photos of 3D LDV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73640" y="4199040"/>
            <a:ext cx="3781440" cy="2523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268280" y="4206960"/>
            <a:ext cx="2890800" cy="2536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rcRect l="0" t="24248" r="0" b="9699"/>
          <a:stretch/>
        </p:blipFill>
        <p:spPr>
          <a:xfrm>
            <a:off x="1793880" y="1254240"/>
            <a:ext cx="562284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57A3-C0EE-41D6-B01B-2953F33095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practical exampl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rcRect l="0" t="12313" r="0" b="0"/>
          <a:stretch/>
        </p:blipFill>
        <p:spPr>
          <a:xfrm>
            <a:off x="190440" y="1066680"/>
            <a:ext cx="5997600" cy="4156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413080" y="5024520"/>
            <a:ext cx="135396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rcRect l="0" t="0" r="0" b="2392"/>
          <a:stretch/>
        </p:blipFill>
        <p:spPr>
          <a:xfrm>
            <a:off x="4022640" y="4994280"/>
            <a:ext cx="4643640" cy="1863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22400" y="1633680"/>
            <a:ext cx="254160" cy="14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2400" y="14382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284640" y="2975040"/>
                <a:ext cx="2084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79B8-E780-498E-BEBE-B95489D01F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properti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69880" y="1108080"/>
            <a:ext cx="3857760" cy="5248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29320" y="1324080"/>
            <a:ext cx="3828960" cy="5229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59520" y="6216480"/>
            <a:ext cx="21337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64480" y="6300720"/>
            <a:ext cx="12063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88240" y="6191280"/>
            <a:ext cx="12063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473880"/>
            <a:ext cx="82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BookT"/>
              </a:rPr>
              <a:t>for the Doppler analysis of LDV signal see the Text Book (Prof. Don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8240" y="332748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32120" y="332568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995720" y="512640"/>
                <a:ext cx="26114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θ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CABF-AB86-45A4-988E-A1614B022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IV (only measurement "principle"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65480" y="2536920"/>
            <a:ext cx="4143240" cy="299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92120" y="1420920"/>
            <a:ext cx="8386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velocity measurement of the particles in the fluid is done “lighting” the investigation zone, with laser light (or with fast light flashes and using a multi-exposure slow cam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5120" y="5638680"/>
            <a:ext cx="84391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mages of the particles as a function of ti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re detected with a fast CCD camera, from which one can reconstruct the entire spatial profile (field) of velocities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B2D0-2F2C-4550-9F71-288858D3BA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81080" y="509760"/>
            <a:ext cx="812952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velox with optical barrier (e.g. 104 C2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3" name=""/>
          <p:cNvSpPr/>
          <p:nvPr/>
        </p:nvSpPr>
        <p:spPr>
          <a:xfrm>
            <a:off x="3762360" y="5869080"/>
            <a:ext cx="50371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85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Detection with NIR laser (Class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No interception/counter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PLATE imaging by photo/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rcRect l="0" t="0" r="17555" b="0"/>
          <a:stretch/>
        </p:blipFill>
        <p:spPr>
          <a:xfrm>
            <a:off x="4680" y="1089000"/>
            <a:ext cx="3660840" cy="5757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362400" y="1085760"/>
            <a:ext cx="2543040" cy="322920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6014880" y="1430280"/>
            <a:ext cx="3137040" cy="3457800"/>
            <a:chOff x="6014880" y="1430280"/>
            <a:chExt cx="3137040" cy="3457800"/>
          </a:xfrm>
        </p:grpSpPr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6467400" y="2892600"/>
              <a:ext cx="112716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540480" y="1430280"/>
              <a:ext cx="22114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optical barr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= 0.5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6520" y="2249640"/>
              <a:ext cx="0" cy="17697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86680" y="2263680"/>
              <a:ext cx="0" cy="17701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57960" y="2482920"/>
              <a:ext cx="82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1560" y="2220840"/>
              <a:ext cx="649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91360" y="413064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42400" y="413064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ff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4880" y="4465800"/>
              <a:ext cx="31370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/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6400" y="3362400"/>
              <a:ext cx="82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50000" y="3390840"/>
              <a:ext cx="649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753000" y="4984920"/>
            <a:ext cx="55609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.g.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50 km/h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2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0.1 km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03520" y="2527200"/>
            <a:ext cx="11952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1351000">
            <a:off x="414000" y="1910880"/>
            <a:ext cx="1028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8F67-F8E4-4FB4-91F0-B06E61A1E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0760" y="1846440"/>
            <a:ext cx="1076040" cy="485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73040" y="2965320"/>
            <a:ext cx="1632240" cy="509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123920" y="2460600"/>
            <a:ext cx="1631880" cy="509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938160" y="1944720"/>
            <a:ext cx="1631880" cy="509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64960" y="4027320"/>
            <a:ext cx="86583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target is hit by the laser and retro-diffused light is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11813" t="27563" r="8269" b="35439"/>
          <a:stretch/>
        </p:blipFill>
        <p:spPr>
          <a:xfrm>
            <a:off x="239760" y="4465800"/>
            <a:ext cx="6075360" cy="2111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845320" y="1476360"/>
            <a:ext cx="2234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,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,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,OF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,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706320" y="1438200"/>
            <a:ext cx="1632240" cy="509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9440" y="1320840"/>
            <a:ext cx="0" cy="2187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00360" y="1335240"/>
            <a:ext cx="12600" cy="2187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50880" y="1382760"/>
            <a:ext cx="239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52520" y="1152360"/>
            <a:ext cx="64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3440" y="308124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Book Antiqua"/>
              </a:rPr>
              <a:t>2,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87200" y="522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velox with optical barrier (e.g. 104 C2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rcRect l="0" t="11151" r="0" b="0"/>
          <a:stretch/>
        </p:blipFill>
        <p:spPr>
          <a:xfrm rot="280800">
            <a:off x="6632640" y="4591080"/>
            <a:ext cx="135072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5103720"/>
            <a:ext cx="8982000" cy="12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3440" y="153504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Book Antiqua"/>
              </a:rPr>
              <a:t>1,O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3440" y="256212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Book Antiqua"/>
              </a:rPr>
              <a:t>1,OFF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3440" y="2066760"/>
            <a:ext cx="719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Book Antiqua"/>
              </a:rPr>
              <a:t>2,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73400" y="1846440"/>
            <a:ext cx="1076400" cy="48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2000" y="2332080"/>
            <a:ext cx="5429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145120" y="2309400"/>
            <a:ext cx="286380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28920" y="2308320"/>
            <a:ext cx="7495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735360" y="1352520"/>
            <a:ext cx="719280" cy="550800"/>
            <a:chOff x="3735360" y="1352520"/>
            <a:chExt cx="719280" cy="550800"/>
          </a:xfrm>
        </p:grpSpPr>
        <p:sp>
          <p:nvSpPr>
            <p:cNvPr id="285" name=""/>
            <p:cNvSpPr/>
            <p:nvPr/>
          </p:nvSpPr>
          <p:spPr>
            <a:xfrm>
              <a:off x="3735360" y="135252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,OFF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30760" y="1754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834080" y="1352520"/>
            <a:ext cx="718920" cy="550800"/>
            <a:chOff x="4834080" y="1352520"/>
            <a:chExt cx="718920" cy="550800"/>
          </a:xfrm>
        </p:grpSpPr>
        <p:sp>
          <p:nvSpPr>
            <p:cNvPr id="288" name=""/>
            <p:cNvSpPr/>
            <p:nvPr/>
          </p:nvSpPr>
          <p:spPr>
            <a:xfrm>
              <a:off x="4834080" y="135252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,O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7960" y="1754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3087720" y="2584440"/>
            <a:ext cx="60674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asurement independent from vehicle profile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ouble-detection  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1,I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21,OFF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within 1 km/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ows discarding fake readings and meas.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10040" y="2311560"/>
            <a:ext cx="22860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28920" y="2308320"/>
            <a:ext cx="507960" cy="14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78440" y="1844640"/>
            <a:ext cx="812520" cy="1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3280" y="2314440"/>
            <a:ext cx="2762280" cy="1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94760" y="2316240"/>
            <a:ext cx="25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0392-B21F-4EF3-8E25-2D713045E9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87200" y="522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velox with optical barrier (e.g. 104 C2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7" name=""/>
          <p:cNvSpPr/>
          <p:nvPr/>
        </p:nvSpPr>
        <p:spPr>
          <a:xfrm>
            <a:off x="311040" y="1353960"/>
            <a:ext cx="868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-planarit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Orizz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) of the optical barrier with the road is impor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instrument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alibra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s mandatory by law every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3680" y="2660760"/>
            <a:ext cx="52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horizontal instrument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ut if inclined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the measu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h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v</a:t>
            </a:r>
            <a:r>
              <a:rPr b="1" lang="en-US" sz="2800" spc="-1" strike="noStrike" baseline="30000">
                <a:solidFill>
                  <a:srgbClr val="ff0000"/>
                </a:solidFill>
                <a:latin typeface="Book Antiqua"/>
              </a:rPr>
              <a:t>*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co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&gt;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the velocity can be “overestim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74720" y="2243160"/>
            <a:ext cx="2763720" cy="3132000"/>
            <a:chOff x="774720" y="2243160"/>
            <a:chExt cx="2763720" cy="313200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44560" y="3585960"/>
              <a:ext cx="11271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633680" y="2943000"/>
              <a:ext cx="0" cy="177012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63840" y="2957400"/>
              <a:ext cx="0" cy="17701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35120" y="3376440"/>
              <a:ext cx="82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28720" y="3143160"/>
              <a:ext cx="649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68520" y="482436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19200" y="4824360"/>
              <a:ext cx="71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ff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3560" y="4056120"/>
              <a:ext cx="82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27160" y="4084560"/>
              <a:ext cx="649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751040" y="2962080"/>
              <a:ext cx="1440" cy="1690920"/>
            </a:xfrm>
            <a:prstGeom prst="line">
              <a:avLst/>
            </a:prstGeom>
            <a:ln w="31680">
              <a:solidFill>
                <a:srgbClr val="3333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4800" y="3029040"/>
              <a:ext cx="5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314080" y="2962080"/>
              <a:ext cx="1800" cy="1690920"/>
            </a:xfrm>
            <a:prstGeom prst="line">
              <a:avLst/>
            </a:prstGeom>
            <a:ln w="31680">
              <a:solidFill>
                <a:srgbClr val="3333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720" y="2243160"/>
              <a:ext cx="27637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d =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co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&lt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43280" y="2798640"/>
              <a:ext cx="215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84440" y="461628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6400" y="4611600"/>
              <a:ext cx="71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0000ff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57120" y="5845320"/>
            <a:ext cx="86011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f well aligned and calibrated, the instrument can reach accuracy levels well below 1% that – “poor us!” – are more than adequate for the measurement, given with a “tolerance” of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3360" y="5151600"/>
            <a:ext cx="86011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misalignment barrier-to-road of 10° gives a measurement error of 1.5%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in excess!), corresponding to +2.3 km/h at 15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1800" y="2016000"/>
            <a:ext cx="3036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horizontal vs. inc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ABE2-C9AB-4B0C-8740-4D3E468C7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ele-laser (Doppler velocimeter) “???”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421240" y="2138400"/>
            <a:ext cx="1631880" cy="509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31880" y="2144880"/>
            <a:ext cx="1314360" cy="495000"/>
          </a:xfrm>
          <a:prstGeom prst="rect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9440" y="2460600"/>
            <a:ext cx="7336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2109960"/>
            <a:ext cx="314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17720" y="2239920"/>
            <a:ext cx="8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BookT"/>
              </a:rPr>
              <a:t>LA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17880" y="2303640"/>
            <a:ext cx="3379680" cy="196560"/>
          </a:xfrm>
          <a:custGeom>
            <a:avLst/>
            <a:gdLst/>
            <a:ahLst/>
            <a:rect l="l" t="t" r="r" b="b"/>
            <a:pathLst>
              <a:path w="2101" h="124">
                <a:moveTo>
                  <a:pt x="8" y="0"/>
                </a:moveTo>
                <a:cubicBezTo>
                  <a:pt x="1054" y="15"/>
                  <a:pt x="2101" y="30"/>
                  <a:pt x="2100" y="51"/>
                </a:cubicBezTo>
                <a:cubicBezTo>
                  <a:pt x="2099" y="72"/>
                  <a:pt x="1049" y="98"/>
                  <a:pt x="0" y="12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136240" y="2494080"/>
            <a:ext cx="297000" cy="6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46240" y="2254320"/>
            <a:ext cx="88920" cy="276120"/>
          </a:xfrm>
          <a:prstGeom prst="rect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0480" y="2389320"/>
            <a:ext cx="34020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24080" y="5664240"/>
            <a:ext cx="6824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iven the high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Doppl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Doppl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lt;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, repeate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measurements “could” be averaged in a short time, reducing measuremen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502000" y="1096920"/>
            <a:ext cx="2307960" cy="1104840"/>
            <a:chOff x="2502000" y="1096920"/>
            <a:chExt cx="2307960" cy="1104840"/>
          </a:xfrm>
        </p:grpSpPr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2502000" y="1100160"/>
              <a:ext cx="122004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3589560" y="1096920"/>
              <a:ext cx="1220400" cy="11019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19080" y="1406520"/>
                <a:ext cx="95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351400" y="2825640"/>
                <a:ext cx="1959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ν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320920" y="2549520"/>
            <a:ext cx="2765520" cy="1104840"/>
            <a:chOff x="2320920" y="2549520"/>
            <a:chExt cx="2765520" cy="1104840"/>
          </a:xfrm>
        </p:grpSpPr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2320920" y="2552760"/>
              <a:ext cx="146196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3624120" y="2549520"/>
              <a:ext cx="1462320" cy="110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2166840" y="1695600"/>
            <a:ext cx="31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130480" y="3145680"/>
            <a:ext cx="31528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81240" y="1114560"/>
            <a:ext cx="128520" cy="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52960" y="1109520"/>
            <a:ext cx="128520" cy="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19640" y="2562120"/>
            <a:ext cx="128520" cy="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09960" y="2562120"/>
            <a:ext cx="128520" cy="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76400" y="264312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ITCCenturyBookT"/>
              </a:rPr>
              <a:t>o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263844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ITCCenturyBookT"/>
              </a:rPr>
              <a:t>o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81320" y="1190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81160" y="1190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25320" y="2867040"/>
                <a:ext cx="14637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072040" y="1673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12840" y="3133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ITCCenturyBookT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9440" y="3705120"/>
            <a:ext cx="816768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y beat-note analysis we “could” detect a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ppl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Dopple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ob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= 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= ( 1/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[for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1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m (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300 THz), </a:t>
            </a:r>
            <a:r>
              <a:rPr b="0" i="1" lang="en-US" sz="1800" spc="-1" strike="noStrike">
                <a:solidFill>
                  <a:srgbClr val="ff0000"/>
                </a:solidFill>
                <a:latin typeface="Book Antiqua"/>
              </a:rPr>
              <a:t>v 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108 km/h = 3 m/s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3 MHz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[for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1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m (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300 THz),   </a:t>
            </a:r>
            <a:r>
              <a:rPr b="0" i="1" lang="en-US" sz="1800" spc="-1" strike="noStrike">
                <a:solidFill>
                  <a:srgbClr val="ff0000"/>
                </a:solidFill>
                <a:latin typeface="Book Antiqua"/>
              </a:rPr>
              <a:t>v 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36 km/h = 1 m/s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1 MHz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[for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1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m (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300 THz), </a:t>
            </a:r>
            <a:r>
              <a:rPr b="0" i="1" lang="en-US" sz="1800" spc="-1" strike="noStrike">
                <a:solidFill>
                  <a:srgbClr val="ff0000"/>
                </a:solidFill>
                <a:latin typeface="Book Antiqua"/>
              </a:rPr>
              <a:t>v 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180 km/h = 5 m/s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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= 5 MHz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99DE-E93E-4D45-8171-603BB59B5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ele-laser “pistol” (TOF telemeter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3" name=""/>
          <p:cNvSpPr/>
          <p:nvPr/>
        </p:nvSpPr>
        <p:spPr>
          <a:xfrm>
            <a:off x="641520" y="1639800"/>
            <a:ext cx="37717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chnical specs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ea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4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Range=6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Range=±320 km/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904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di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3 m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ser cl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1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2 km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176800" y="1461960"/>
            <a:ext cx="3502080" cy="498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1E87-B9B4-49ED-AE00-A9AEDBE3B2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159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"/>
          <p:cNvSpPr/>
          <p:nvPr/>
        </p:nvSpPr>
        <p:spPr>
          <a:xfrm>
            <a:off x="528480" y="1677960"/>
            <a:ext cx="80359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Measurement principles and applic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ppler effect (on laser beam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eterodyne method for velocimetry (laser Dopp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8480" y="3379680"/>
            <a:ext cx="795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Velocity measurements in flui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DV (Laser Doppler Velocimetry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IV (Particle Image Velocim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079960"/>
            <a:ext cx="85676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velo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optical barri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tele-laser (time of flight and Dopp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3A2-7205-4F45-B27A-F7345DAD2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ele-laser (TOF telemeter 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56" name=""/>
          <p:cNvSpPr/>
          <p:nvPr/>
        </p:nvSpPr>
        <p:spPr>
          <a:xfrm>
            <a:off x="441360" y="4776840"/>
            <a:ext cx="865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 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250 kHz) 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6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6680" y="4181400"/>
            <a:ext cx="88218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31880" y="1413000"/>
            <a:ext cx="6861240" cy="1094760"/>
            <a:chOff x="731880" y="1413000"/>
            <a:chExt cx="6861240" cy="109476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2600280" y="1413000"/>
              <a:ext cx="50184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"/>
            <a:stretch/>
          </p:blipFill>
          <p:spPr>
            <a:xfrm>
              <a:off x="5421240" y="1677600"/>
              <a:ext cx="16318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31880" y="1684080"/>
              <a:ext cx="1314360" cy="49500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9440" y="2000160"/>
              <a:ext cx="733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1649160"/>
              <a:ext cx="314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ook Antiqu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17720" y="17794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TCCenturyBookT"/>
                </a:rPr>
                <a:t>LA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117880" y="1842840"/>
              <a:ext cx="3379320" cy="196560"/>
              <a:chOff x="2117880" y="1842840"/>
              <a:chExt cx="3379320" cy="19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2117880" y="1842840"/>
                <a:ext cx="3379320" cy="196560"/>
              </a:xfrm>
              <a:custGeom>
                <a:avLst/>
                <a:gdLst/>
                <a:ahLst/>
                <a:rect l="l" t="t" r="r" b="b"/>
                <a:pathLst>
                  <a:path w="2101" h="124">
                    <a:moveTo>
                      <a:pt x="8" y="0"/>
                    </a:moveTo>
                    <a:cubicBezTo>
                      <a:pt x="1054" y="15"/>
                      <a:pt x="2101" y="30"/>
                      <a:pt x="2100" y="51"/>
                    </a:cubicBezTo>
                    <a:cubicBezTo>
                      <a:pt x="2099" y="72"/>
                      <a:pt x="1049" y="98"/>
                      <a:pt x="0" y="124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136600" y="2032920"/>
                <a:ext cx="295920" cy="6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046240" y="1793520"/>
              <a:ext cx="88920" cy="27612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0480" y="1928520"/>
              <a:ext cx="3402000" cy="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63680" y="2062080"/>
              <a:ext cx="143532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L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1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= c</a:t>
              </a: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/2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89160" y="2408040"/>
              <a:ext cx="3228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43040" y="2695680"/>
            <a:ext cx="7649280" cy="1096920"/>
            <a:chOff x="743040" y="2695680"/>
            <a:chExt cx="7649280" cy="1096920"/>
          </a:xfrm>
        </p:grpSpPr>
        <p:pic>
          <p:nvPicPr>
            <p:cNvPr id="373" name="" descr=""/>
            <p:cNvPicPr/>
            <p:nvPr/>
          </p:nvPicPr>
          <p:blipFill>
            <a:blip r:embed="rId4"/>
            <a:stretch/>
          </p:blipFill>
          <p:spPr>
            <a:xfrm>
              <a:off x="3889440" y="2695680"/>
              <a:ext cx="5014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5"/>
            <a:stretch/>
          </p:blipFill>
          <p:spPr>
            <a:xfrm>
              <a:off x="6218280" y="2949840"/>
              <a:ext cx="16318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43040" y="2955960"/>
              <a:ext cx="1314360" cy="49536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59000" y="3272040"/>
              <a:ext cx="733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3000" y="2921040"/>
              <a:ext cx="31428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ook Antiqu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28880" y="30513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TCCenturyBookT"/>
                </a:rPr>
                <a:t>LA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128680" y="3116520"/>
              <a:ext cx="4163760" cy="196560"/>
              <a:chOff x="2128680" y="3116520"/>
              <a:chExt cx="4163760" cy="19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128680" y="3116520"/>
                <a:ext cx="4163760" cy="196560"/>
              </a:xfrm>
              <a:custGeom>
                <a:avLst/>
                <a:gdLst/>
                <a:ahLst/>
                <a:rect l="l" t="t" r="r" b="b"/>
                <a:pathLst>
                  <a:path w="2101" h="124">
                    <a:moveTo>
                      <a:pt x="8" y="0"/>
                    </a:moveTo>
                    <a:cubicBezTo>
                      <a:pt x="1054" y="15"/>
                      <a:pt x="2101" y="30"/>
                      <a:pt x="2100" y="51"/>
                    </a:cubicBezTo>
                    <a:cubicBezTo>
                      <a:pt x="2099" y="72"/>
                      <a:pt x="1049" y="98"/>
                      <a:pt x="0" y="124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151360" y="3306600"/>
                <a:ext cx="364680" cy="6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057400" y="3065760"/>
              <a:ext cx="88920" cy="276120"/>
            </a:xfrm>
            <a:prstGeom prst="rect">
              <a:avLst/>
            </a:prstGeom>
            <a:solidFill>
              <a:srgbClr val="63a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41640" y="3200400"/>
              <a:ext cx="4178160" cy="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84520" y="3346560"/>
              <a:ext cx="14353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640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L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2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= c</a:t>
              </a: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/2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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52800" y="3681720"/>
              <a:ext cx="4086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46240" y="5326200"/>
            <a:ext cx="82771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iven the high value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repeated TOF measurements can be averaged in a short time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av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0 ms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ea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4 s: average of 40 readings of TOF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meas. and 39 readings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ave@400m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reducing measurement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3080" y="2482920"/>
            <a:ext cx="2147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0.4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1960" y="2201760"/>
            <a:ext cx="60012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97720" y="2306520"/>
            <a:ext cx="2147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5.6/20 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@ 50/18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554F-854B-4D5D-8339-85F3AD95C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oppler effect (on laser beams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3" name=""/>
          <p:cNvSpPr/>
          <p:nvPr/>
        </p:nvSpPr>
        <p:spPr>
          <a:xfrm>
            <a:off x="369720" y="3560760"/>
            <a:ext cx="8658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observed optical frequency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is smaller tha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ne emitted by the laser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when the object moves far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[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ob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object gets closer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3040" y="2152800"/>
            <a:ext cx="1314360" cy="495000"/>
          </a:xfrm>
          <a:prstGeom prst="rect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62240"/>
            <a:ext cx="88920" cy="276120"/>
          </a:xfrm>
          <a:prstGeom prst="rect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58920" y="1619280"/>
            <a:ext cx="1940040" cy="144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89440" y="1616040"/>
            <a:ext cx="1940040" cy="144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34200" y="2305080"/>
            <a:ext cx="190440" cy="190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3920" y="2400480"/>
            <a:ext cx="733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24800" y="1979640"/>
            <a:ext cx="314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28880" y="2247840"/>
            <a:ext cx="8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BookT"/>
              </a:rPr>
              <a:t>LA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28600" y="1565280"/>
                <a:ext cx="58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81760" y="2540160"/>
                <a:ext cx="16351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048360" y="173340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BookT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19880" y="198108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4770360"/>
            <a:ext cx="88218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sidering a velocit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&lt;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ppl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obs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= 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&lt;&lt;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s much smaller then the optic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[for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=0.6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m (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=500 THz), </a:t>
            </a:r>
            <a:r>
              <a:rPr b="0" i="1" lang="en-US" sz="2000" spc="-1" strike="noStrike">
                <a:solidFill>
                  <a:srgbClr val="ff0000"/>
                </a:solidFill>
                <a:latin typeface="Book Antiqua"/>
              </a:rPr>
              <a:t>v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=1 m/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1.7 MHz,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1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3.3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Book Antiqua"/>
              </a:rPr>
              <a:t>-9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3 ppb!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63C6-51FB-44CF-9367-612B19B5FF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eterodyne method for velocimetr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4393" t="3425" r="0" b="0"/>
          <a:stretch/>
        </p:blipFill>
        <p:spPr>
          <a:xfrm>
            <a:off x="162000" y="1384200"/>
            <a:ext cx="4281480" cy="267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20840" y="2630520"/>
            <a:ext cx="65268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5240" y="1465200"/>
            <a:ext cx="45734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dete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a few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n the optical beam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0THz we can not use a monochromator or OSA but much better (be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&lt;1) to measure the “heterodyne” beat signal with a reference lase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60840" y="2571840"/>
            <a:ext cx="703080" cy="21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4240" y="2506680"/>
            <a:ext cx="48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7480" y="2604960"/>
            <a:ext cx="79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"/>
              </a:rPr>
              <a:t>633 n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3146400"/>
            <a:ext cx="2261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jection at cos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of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n the direction of the laser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7120" y="1693800"/>
            <a:ext cx="4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27040" y="4246560"/>
            <a:ext cx="5867640" cy="2473200"/>
            <a:chOff x="1427040" y="4246560"/>
            <a:chExt cx="5867640" cy="247320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1427040" y="4246560"/>
              <a:ext cx="5867640" cy="24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48200" y="4762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7440" y="518328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5240" y="516888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34040" y="514044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6520" y="516888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76720" y="5229360"/>
              <a:ext cx="22860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7360" y="5315040"/>
              <a:ext cx="22860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3520" y="5035680"/>
              <a:ext cx="176040" cy="150840"/>
            </a:xfrm>
            <a:custGeom>
              <a:avLst/>
              <a:gdLst/>
              <a:ahLst/>
              <a:rect l="l" t="t" r="r" b="b"/>
              <a:pathLst>
                <a:path w="111" h="95">
                  <a:moveTo>
                    <a:pt x="0" y="29"/>
                  </a:moveTo>
                  <a:cubicBezTo>
                    <a:pt x="10" y="0"/>
                    <a:pt x="62" y="41"/>
                    <a:pt x="81" y="47"/>
                  </a:cubicBezTo>
                  <a:cubicBezTo>
                    <a:pt x="87" y="55"/>
                    <a:pt x="111" y="90"/>
                    <a:pt x="111" y="9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30400" y="1979640"/>
            <a:ext cx="176400" cy="150840"/>
          </a:xfrm>
          <a:custGeom>
            <a:avLst/>
            <a:gdLst/>
            <a:ahLst/>
            <a:rect l="l" t="t" r="r" b="b"/>
            <a:pathLst>
              <a:path w="111" h="95">
                <a:moveTo>
                  <a:pt x="0" y="29"/>
                </a:moveTo>
                <a:cubicBezTo>
                  <a:pt x="10" y="0"/>
                  <a:pt x="62" y="41"/>
                  <a:pt x="81" y="47"/>
                </a:cubicBezTo>
                <a:cubicBezTo>
                  <a:pt x="87" y="55"/>
                  <a:pt x="111" y="90"/>
                  <a:pt x="111" y="9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2320" y="2776680"/>
            <a:ext cx="125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300" spc="-1" strike="noStrike">
                <a:solidFill>
                  <a:srgbClr val="000000"/>
                </a:solidFill>
                <a:latin typeface="Century"/>
              </a:rPr>
              <a:t>f=</a:t>
            </a:r>
            <a:r>
              <a:rPr b="1" i="1" lang="en-US" sz="13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300" spc="-1" strike="noStrike">
                <a:solidFill>
                  <a:srgbClr val="000000"/>
                </a:solidFill>
                <a:latin typeface="Book Antiqua"/>
              </a:rPr>
              <a:t>cos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</a:t>
            </a:r>
            <a:r>
              <a:rPr b="1" i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300" spc="-1" strike="noStrike">
                <a:solidFill>
                  <a:srgbClr val="000000"/>
                </a:solidFill>
                <a:latin typeface="Book Antiqua"/>
              </a:rPr>
              <a:t> /</a:t>
            </a:r>
            <a:r>
              <a:rPr b="1" i="1" lang="en-US" sz="13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B376-C430-4479-9FEC-E924C51CC4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aser Doppler Velocimetry (LDV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9" name=""/>
          <p:cNvSpPr/>
          <p:nvPr/>
        </p:nvSpPr>
        <p:spPr>
          <a:xfrm>
            <a:off x="368280" y="1409760"/>
            <a:ext cx="877572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D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a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vented in 1964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is still today a great success of optical measurements, to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ontactl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tect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de range of velocities in moving fl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DV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chnique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re use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 measure velocity of fluid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liquids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gases)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rrying diffusing (scattering) particl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naturally present or artificially “inseminated” in the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" y="3610080"/>
            <a:ext cx="86583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diffusion, o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catter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due to interaction of the e.m. field and the particle can be mainly of two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ayleig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&lt;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constant with th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i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st.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max. f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orward scatt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040" y="5218200"/>
            <a:ext cx="8285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04560" indent="-3045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ment signa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can be seen as due to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560" indent="-304560">
              <a:lnSpc>
                <a:spcPct val="9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ossing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ppl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ff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terferometri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has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175F-850C-444B-AA5F-0C9629A3A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measurement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set-up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3" name=""/>
          <p:cNvSpPr/>
          <p:nvPr/>
        </p:nvSpPr>
        <p:spPr>
          <a:xfrm>
            <a:off x="306360" y="5789520"/>
            <a:ext cx="8672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two collimated beams impinge off-axis on the lens and are focused at distanc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rom the lens in an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nterferenc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4600" y="1531800"/>
            <a:ext cx="8261280" cy="406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60680" y="5340240"/>
            <a:ext cx="547560" cy="25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595520"/>
            <a:ext cx="2141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Two-beams 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5120" y="4840200"/>
            <a:ext cx="11588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diamond" w="lg"/>
            <a:tailEnd len="med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16640" y="4905360"/>
            <a:ext cx="674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7040" y="3338640"/>
            <a:ext cx="193680" cy="25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19640" y="2865600"/>
            <a:ext cx="2682720" cy="3327120"/>
            <a:chOff x="6119640" y="2865600"/>
            <a:chExt cx="2682720" cy="3327120"/>
          </a:xfrm>
        </p:grpSpPr>
        <p:sp>
          <p:nvSpPr>
            <p:cNvPr id="141" name=""/>
            <p:cNvSpPr/>
            <p:nvPr/>
          </p:nvSpPr>
          <p:spPr>
            <a:xfrm>
              <a:off x="6119640" y="2865600"/>
              <a:ext cx="513000" cy="583920"/>
            </a:xfrm>
            <a:prstGeom prst="ellipse">
              <a:avLst/>
            </a:prstGeom>
            <a:noFill/>
            <a:ln w="158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6364080" y="3486240"/>
              <a:ext cx="2438280" cy="27064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8960" y="6477120"/>
            <a:ext cx="8672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example: </a:t>
            </a:r>
            <a:r>
              <a:rPr b="0" i="1" lang="en-US" sz="2400" spc="-1" strike="noStrike">
                <a:solidFill>
                  <a:srgbClr val="80808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=0.5cm and </a:t>
            </a:r>
            <a:r>
              <a:rPr b="0" i="1" lang="en-US" sz="2400" spc="-1" strike="noStrike">
                <a:solidFill>
                  <a:srgbClr val="808080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=250mm </a:t>
            </a:r>
            <a:r>
              <a:rPr b="0" lang="en-US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</a:t>
            </a:r>
            <a:r>
              <a:rPr b="0" lang="en-US" sz="1200" spc="-1" strike="noStrike">
                <a:solidFill>
                  <a:srgbClr val="80808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20mrad=1.15°</a:t>
            </a:r>
            <a:r>
              <a:rPr b="0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808080"/>
                </a:solidFill>
                <a:latin typeface="Book Antiqua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2679840"/>
            <a:ext cx="120600" cy="101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92960" y="2695680"/>
            <a:ext cx="5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8160" y="2685960"/>
            <a:ext cx="5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66040" y="2644920"/>
            <a:ext cx="540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2647800"/>
            <a:ext cx="540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91440" y="247320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05560" y="2610000"/>
            <a:ext cx="165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3F79-E5A3-42D2-AD6E-CEB535C09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interference fringe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" y="4675320"/>
            <a:ext cx="8837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Φ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Book Antiqua"/>
              </a:rPr>
              <a:t>(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A)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[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]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(O)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-[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]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(A)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fringe spacing </a:t>
            </a: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dark/d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1154" r="0" b="0"/>
          <a:stretch/>
        </p:blipFill>
        <p:spPr>
          <a:xfrm>
            <a:off x="1163520" y="1057320"/>
            <a:ext cx="5059440" cy="3557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1080" y="5192640"/>
            <a:ext cx="887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O to A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(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2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A)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(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1(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(0+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+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(0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-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64240" y="5856120"/>
                <a:ext cx="16495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391440" y="5916600"/>
            <a:ext cx="2035080" cy="811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64240" y="1555920"/>
            <a:ext cx="240192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imated be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avefronts approx. plane with width ±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interaction zone is wide</a:t>
            </a:r>
            <a:br>
              <a:rPr sz="2400"/>
            </a:br>
            <a:r>
              <a:rPr b="0" lang="en-US" sz="2400" spc="-1" strike="noStrike">
                <a:solidFill>
                  <a:srgbClr val="99cc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99cc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99cc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99cc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99cc00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99cc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99cc00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99cc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99cc00"/>
                </a:solidFill>
                <a:latin typeface="Book Antiqua"/>
              </a:rPr>
              <a:t>cos</a:t>
            </a:r>
            <a:r>
              <a:rPr b="0" i="1" lang="en-US" sz="2400" spc="-1" strike="noStrike">
                <a:solidFill>
                  <a:srgbClr val="99cc00"/>
                </a:solidFill>
                <a:latin typeface="Symbol"/>
                <a:ea typeface="Symbol"/>
              </a:rPr>
              <a:t></a:t>
            </a: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ff00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00ff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00ff"/>
                </a:solidFill>
                <a:latin typeface="Book Antiqua"/>
              </a:rPr>
              <a:t>2</a:t>
            </a:r>
            <a:r>
              <a:rPr b="0" i="1" lang="en-US" sz="2400" spc="-1" strike="noStrike">
                <a:solidFill>
                  <a:srgbClr val="ff00ff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ff00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00ff"/>
                </a:solidFill>
                <a:latin typeface="Book Antiqua"/>
              </a:rPr>
              <a:t>sin</a:t>
            </a:r>
            <a:r>
              <a:rPr b="0" i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325600"/>
            <a:ext cx="284040" cy="951120"/>
          </a:xfrm>
          <a:custGeom>
            <a:avLst/>
            <a:gdLst/>
            <a:ahLst/>
            <a:rect l="l" t="t" r="r" b="b"/>
            <a:pathLst>
              <a:path w="179" h="599">
                <a:moveTo>
                  <a:pt x="8" y="0"/>
                </a:moveTo>
                <a:cubicBezTo>
                  <a:pt x="68" y="68"/>
                  <a:pt x="129" y="136"/>
                  <a:pt x="154" y="192"/>
                </a:cubicBezTo>
                <a:cubicBezTo>
                  <a:pt x="179" y="248"/>
                  <a:pt x="166" y="298"/>
                  <a:pt x="161" y="338"/>
                </a:cubicBezTo>
                <a:cubicBezTo>
                  <a:pt x="156" y="378"/>
                  <a:pt x="150" y="386"/>
                  <a:pt x="123" y="430"/>
                </a:cubicBezTo>
                <a:cubicBezTo>
                  <a:pt x="96" y="474"/>
                  <a:pt x="23" y="566"/>
                  <a:pt x="0" y="59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59480" y="3139920"/>
            <a:ext cx="649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1614600"/>
            <a:ext cx="12600" cy="669960"/>
          </a:xfrm>
          <a:prstGeom prst="line">
            <a:avLst/>
          </a:prstGeom>
          <a:ln w="1908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93480" y="1940040"/>
            <a:ext cx="1145880" cy="12600"/>
          </a:xfrm>
          <a:prstGeom prst="line">
            <a:avLst/>
          </a:prstGeom>
          <a:ln w="1908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4320" y="6129360"/>
            <a:ext cx="647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Φ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Book Antiqua"/>
              </a:rPr>
              <a:t>(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A)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Φ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=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(2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)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in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=2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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45680" y="2797200"/>
            <a:ext cx="451080" cy="3240"/>
          </a:xfrm>
          <a:prstGeom prst="line">
            <a:avLst/>
          </a:prstGeom>
          <a:ln w="1908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352160" y="2443320"/>
            <a:ext cx="3240" cy="3650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2795760"/>
            <a:ext cx="217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400" spc="-1" strike="noStrike">
                <a:solidFill>
                  <a:srgbClr val="99cc00"/>
                </a:solidFill>
                <a:latin typeface="Book Antiqu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5840" y="2481120"/>
            <a:ext cx="217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400" spc="-1" strike="noStrike">
                <a:solidFill>
                  <a:srgbClr val="ff00ff"/>
                </a:solidFill>
                <a:latin typeface="Book Antiqu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4720" y="3738600"/>
            <a:ext cx="1498680" cy="228600"/>
          </a:xfrm>
          <a:prstGeom prst="rect">
            <a:avLst/>
          </a:prstGeom>
          <a:solidFill>
            <a:srgbClr val="808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4720" y="3319560"/>
            <a:ext cx="1498680" cy="228600"/>
          </a:xfrm>
          <a:prstGeom prst="rect">
            <a:avLst/>
          </a:prstGeom>
          <a:solidFill>
            <a:srgbClr val="808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4720" y="3319560"/>
            <a:ext cx="1498680" cy="1085760"/>
          </a:xfrm>
          <a:prstGeom prst="rect">
            <a:avLst/>
          </a:prstGeom>
          <a:solidFill>
            <a:srgbClr val="808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4176720"/>
            <a:ext cx="1498680" cy="228600"/>
          </a:xfrm>
          <a:prstGeom prst="rect">
            <a:avLst/>
          </a:prstGeom>
          <a:solidFill>
            <a:srgbClr val="808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76600" y="3178080"/>
            <a:ext cx="145800" cy="1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067200" y="2848680"/>
            <a:ext cx="1182240" cy="708840"/>
            <a:chOff x="3067200" y="2848680"/>
            <a:chExt cx="1182240" cy="708840"/>
          </a:xfrm>
        </p:grpSpPr>
        <p:sp>
          <p:nvSpPr>
            <p:cNvPr id="173" name=""/>
            <p:cNvSpPr/>
            <p:nvPr/>
          </p:nvSpPr>
          <p:spPr>
            <a:xfrm rot="19891800">
              <a:off x="3063960" y="3125160"/>
              <a:ext cx="5540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000" spc="-1" strike="noStrike">
                  <a:solidFill>
                    <a:srgbClr val="0000ff"/>
                  </a:solidFill>
                  <a:latin typeface="Book Antiqua"/>
                </a:rPr>
                <a:t>+k</a:t>
              </a:r>
              <a:r>
                <a:rPr b="1" lang="en-US" sz="800" spc="-1" strike="noStrike" baseline="-25000">
                  <a:solidFill>
                    <a:srgbClr val="0000ff"/>
                  </a:solidFill>
                  <a:latin typeface="Book Antiqua"/>
                </a:rPr>
                <a:t>2</a:t>
              </a:r>
              <a:r>
                <a:rPr b="1" i="1" lang="en-US" sz="1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1" lang="en-US" sz="1000" spc="-1" strike="noStrike">
                  <a:solidFill>
                    <a:srgbClr val="0000ff"/>
                  </a:solidFill>
                  <a:latin typeface="Book Antiqua"/>
                </a:rPr>
                <a:t>sin</a:t>
              </a:r>
              <a:r>
                <a:rPr b="1" i="1" lang="en-US" sz="1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339720" y="3235320"/>
              <a:ext cx="212760" cy="1076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504960" y="3201480"/>
              <a:ext cx="142920" cy="24444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311280" y="3296880"/>
              <a:ext cx="142920" cy="24444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1708200">
              <a:off x="3698280" y="2972880"/>
              <a:ext cx="5540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000" spc="-1" strike="noStrike">
                  <a:solidFill>
                    <a:srgbClr val="0000ff"/>
                  </a:solidFill>
                  <a:latin typeface="Book Antiqua"/>
                </a:rPr>
                <a:t>-k</a:t>
              </a:r>
              <a:r>
                <a:rPr b="1" lang="en-US" sz="800" spc="-1" strike="noStrike" baseline="-25000">
                  <a:solidFill>
                    <a:srgbClr val="0000ff"/>
                  </a:solidFill>
                  <a:latin typeface="Book Antiqua"/>
                </a:rPr>
                <a:t>1</a:t>
              </a:r>
              <a:r>
                <a:rPr b="1" i="1" lang="en-US" sz="1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1" lang="en-US" sz="1000" spc="-1" strike="noStrike">
                  <a:solidFill>
                    <a:srgbClr val="0000ff"/>
                  </a:solidFill>
                  <a:latin typeface="Book Antiqua"/>
                </a:rPr>
                <a:t>sin</a:t>
              </a:r>
              <a:r>
                <a:rPr b="1" i="1" lang="en-US" sz="1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48240" y="3046320"/>
              <a:ext cx="209520" cy="39996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360" y="3166920"/>
              <a:ext cx="235080" cy="39060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831840" y="3094920"/>
              <a:ext cx="219240" cy="1270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512120" y="5948280"/>
            <a:ext cx="439560" cy="3240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78600" y="6427800"/>
            <a:ext cx="351000" cy="2602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2240" y="6491160"/>
            <a:ext cx="60055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Light peaks repeated at distance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(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a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75240" y="5905440"/>
            <a:ext cx="1641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D</a:t>
            </a:r>
            <a:r>
              <a:rPr b="1" lang="en-US" sz="1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sin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lang="en-US" sz="1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071-D4C3-4A5B-B045-96DE781ACA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relation velocity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frequenc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4680" y="1249200"/>
            <a:ext cx="4654440" cy="3799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70000" y="5216400"/>
            <a:ext cx="86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optical beam profile, crossed by particles, is Gaussian and hence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iffused light intensity profile varies with posi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The frequency of alternating light-dark-light depends on the fringe distance and particle/fluid velocit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 = 1/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8200" y="1241280"/>
            <a:ext cx="1352520" cy="52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3240" y="1230480"/>
            <a:ext cx="16812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32240" y="1382760"/>
            <a:ext cx="3911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5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ckness of  crossing zone changes with position of crossing line (in the lit zone) but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light-light distance remains constantly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orthogonal direction to the interference zo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n a time axis the distance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between light peaks depends on velocity 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380960"/>
            <a:ext cx="1558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 repetition period of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light 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120" y="3249720"/>
            <a:ext cx="119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 1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lang="en-US" sz="1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094200"/>
            <a:ext cx="1242720" cy="587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92440" y="2098800"/>
            <a:ext cx="1644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 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b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19440" y="4102200"/>
            <a:ext cx="1644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.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be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3685-B066-42FE-B7A7-7712E81B24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808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DV: signal period and frequency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97" name=""/>
          <p:cNvSpPr/>
          <p:nvPr/>
        </p:nvSpPr>
        <p:spPr>
          <a:xfrm>
            <a:off x="306360" y="4300560"/>
            <a:ext cx="8837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D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D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 period of diffused light  signal (light-dark-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84200" y="1368360"/>
            <a:ext cx="6388200" cy="2773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828880" y="1536480"/>
            <a:ext cx="317520" cy="2058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4040" y="2619360"/>
            <a:ext cx="486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66920" y="4888080"/>
                <a:ext cx="39927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∝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174760" y="4840200"/>
            <a:ext cx="4243680" cy="105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6360" y="6066000"/>
            <a:ext cx="8837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 SENSITIVITY: 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2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(Hz/m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7160" y="4572000"/>
            <a:ext cx="137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Symbol"/>
                <a:ea typeface="Symbol"/>
              </a:rPr>
              <a:t>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578480"/>
            <a:ext cx="137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6360" y="6473880"/>
            <a:ext cx="8386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 of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:    1) counter;    2) electron. AS;   3)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78600" y="2475000"/>
            <a:ext cx="1523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07EB-00F4-4CE6-9B2C-B1C832570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2T23:11:32Z</dcterms:created>
  <dc:creator>C. Svelto</dc:creator>
  <dc:description/>
  <dc:language>en-US</dc:language>
  <cp:lastModifiedBy>Cesare Svelto</cp:lastModifiedBy>
  <cp:lastPrinted>1999-09-13T09:18:36Z</cp:lastPrinted>
  <dcterms:modified xsi:type="dcterms:W3CDTF">2015-01-26T07:03:05Z</dcterms:modified>
  <cp:revision>619</cp:revision>
  <dc:subject/>
  <dc:title>Misure sui laser</dc:title>
</cp:coreProperties>
</file>