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84000" cy="1014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957480" y="-360"/>
            <a:ext cx="302760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2BECF36-C043-4968-83EF-7BCE248772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57240" y="761760"/>
            <a:ext cx="5068800" cy="380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1680" y="4820760"/>
            <a:ext cx="5121000" cy="4565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9639000"/>
            <a:ext cx="302724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957480" y="9639000"/>
            <a:ext cx="3027600" cy="507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7ACCCFE-2A50-4757-BD6A-4C2CC8D4C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3957480" y="0"/>
            <a:ext cx="3027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3805BD4-174D-4545-A0D3-FFF5A3AC6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57480" y="9639360"/>
            <a:ext cx="3027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3662A82-20D3-4339-B8F5-83A5840DB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57240" y="762120"/>
            <a:ext cx="5068800" cy="3801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226800" y="4782960"/>
            <a:ext cx="6521400" cy="5105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ongiorno a tutt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o Cesare Svel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 Politecnico di Mil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sta mattina vi parlerò 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rgenti 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lle pricipa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 la lor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atter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veremo la struttura dei laser a stato solido e dei laser a semoconduttore (diodi las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la caratterizzazione di sorgent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ma par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 mio intervento sarà seguita da una lezione del Prof. Elio Bava s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i descrittivi dell’instabilità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sulle relative tecniche di mis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conda met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la mia presentazione descriverò, dal punto di vista sperimentale, alcun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todi ed esperienze di stabil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la realizzazione d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3957480" y="0"/>
            <a:ext cx="3027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82DE782-AB5C-4A18-B404-E0FBE17C6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957480" y="9639360"/>
            <a:ext cx="3027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67527D0-25ED-4679-A104-6E38E2E95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57240" y="762120"/>
            <a:ext cx="5068800" cy="38019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6800" y="4782960"/>
            <a:ext cx="6521400" cy="5105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ongiorno a tutt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o Cesare Svel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 Politecnico di Mil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sta mattina vi parlerò 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rgenti 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lle pricipa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 la lor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atter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veremo la struttura dei laser a stato solido e dei laser a semoconduttore (diodi las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la caratterizzazione di sorgent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ma par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 mio intervento sarà seguita da una lezione del Prof. Elio Bava s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i descrittivi dell’instabilità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sulle relative tecniche di mis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conda met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la mia presentazione descriverò, dal punto di vista sperimentale, alcun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todi ed esperienze di stabil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la realizzazione d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957480" y="0"/>
            <a:ext cx="3027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FE5490-30B5-4632-BCE4-AC9A9AC2B4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957480" y="9639360"/>
            <a:ext cx="3027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3E10BBB-EC36-4527-B88E-9DAB4A1A1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57240" y="762120"/>
            <a:ext cx="5068800" cy="3801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26800" y="4782960"/>
            <a:ext cx="6521400" cy="5105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ongiorno a tutt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o Cesare Svel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 Politecnico di Mil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sta mattina vi parlerò 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rgenti 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lle pricipa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 la lor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atter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veremo la struttura dei laser a stato solido e dei laser a semoconduttore (diodi las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la caratterizzazione di sorgent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ma par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 mio intervento sarà seguita da una lezione del Prof. Elio Bava s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i descrittivi dell’instabilità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sulle relative tecniche di mis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conda met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la mia presentazione descriverò, dal punto di vista sperimentale, alcun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todi ed esperienze di stabil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la realizzazione d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3957480" y="0"/>
            <a:ext cx="3027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67C55FD-1FAF-4BAF-9F49-5916EEE76C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957480" y="9639360"/>
            <a:ext cx="3027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D2EF3D0-231A-48E9-AB1C-7BF3F5D4C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57240" y="762120"/>
            <a:ext cx="5068800" cy="38019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26800" y="4782960"/>
            <a:ext cx="6521400" cy="5105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ongiorno a tutt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o Cesare Svel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 Politecnico di Mil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sta mattina vi parlerò 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rgenti 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lle pricipa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 la lor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atter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veremo la struttura dei laser a stato solido e dei laser a semoconduttore (diodi las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la caratterizzazione di sorgent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ma par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 mio intervento sarà seguita da una lezione del Prof. Elio Bava s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i descrittivi dell’instabilità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sulle relative tecniche di mis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conda met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la mia presentazione descriverò, dal punto di vista sperimentale, alcun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todi ed esperienze di stabil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la realizzazione d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3957480" y="0"/>
            <a:ext cx="3027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B6748E7-0B07-4F52-8A06-6CE7D1368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957480" y="9639360"/>
            <a:ext cx="3027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A1454EF-D84A-443E-9252-D677248E8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57240" y="762120"/>
            <a:ext cx="5068800" cy="38019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226800" y="4782960"/>
            <a:ext cx="6521400" cy="5105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ongiorno a tutt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o Cesare Svel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 Politecnico di Mil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sta mattina vi parlerò 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rgenti 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lle pricipa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 la lor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atter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veremo la struttura dei laser a stato solido e dei laser a semoconduttore (diodi las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la caratterizzazione di sorgent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ma par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 mio intervento sarà seguita da una lezione del Prof. Elio Bava s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i descrittivi dell’instabilità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sulle relative tecniche di mis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conda met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la mia presentazione descriverò, dal punto di vista sperimentale, alcun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todi ed esperienze di stabil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la realizzazione d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3957480" y="0"/>
            <a:ext cx="3027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11C74C1-65E6-4B6B-BA2D-4C2610E08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957480" y="9639360"/>
            <a:ext cx="3027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09E0155-3D3A-46AA-B38A-FF5C3515A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57240" y="762120"/>
            <a:ext cx="5068800" cy="38019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26800" y="4782960"/>
            <a:ext cx="6521400" cy="5105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ongiorno a tutt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o Cesare Svel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 Politecnico di Mil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sta mattina vi parlerò 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rgenti 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lle pricipa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 la lor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atter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veremo la struttura dei laser a stato solido e dei laser a semoconduttore (diodi las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la caratterizzazione di sorgent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ma par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 mio intervento sarà seguita da una lezione del Prof. Elio Bava s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i descrittivi dell’instabilità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sulle relative tecniche di mis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conda met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la mia presentazione descriverò, dal punto di vista sperimentale, alcun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todi ed esperienze di stabil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la realizzazione d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3957480" y="0"/>
            <a:ext cx="3027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E0C4DDD-A96D-4661-A631-6924E262A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957480" y="9639360"/>
            <a:ext cx="3027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E84697C-1D37-460C-B0DC-46824A583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57240" y="762120"/>
            <a:ext cx="5068800" cy="38019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26800" y="4782960"/>
            <a:ext cx="6521400" cy="5105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ongiorno a tutt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o Cesare Svel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 Politecnico di Mil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sta mattina vi parlerò  del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rgenti 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lle pricipa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 la lor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atter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veremo la struttura dei laser a stato solido e dei laser a semoconduttore (diodi las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la caratterizzazione di sorgent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ser in continu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de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ma par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 mio intervento sarà seguita da una lezione del Prof. Elio Bava s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i descrittivi dell’instabilità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sulle relative tecniche di mis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conda met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la mia presentazione descriverò, dal punto di vista sperimentale, alcun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todi ed esperienze di stabilizzazi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 la realizzazione d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pioni ottici di frequenz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9F86-3700-4475-B406-79D622227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15CF-8164-4F7B-B4C1-76FB32949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1747-BAB6-4C33-B396-87F6EB55C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104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840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368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104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840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A91B-BDC2-4F5C-9130-C8DA5C9B7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75F7-26C3-44CA-AAA1-E2094299EC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CEC2-01BE-43D9-9322-FE9B5BD88B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4065-C0A9-42D0-9347-AFBD090197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5ACF-4A25-4EB8-B28B-C9B411ACDA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3D9EE-B060-4A23-A100-99BE9D96D5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2640" y="533160"/>
            <a:ext cx="6629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8203-708C-4F7D-9DF0-2935447B91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84793-5451-41E4-9FED-EB4886F8A6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AA94-94FF-47E9-BC03-A3C6AAF19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C5F5F-190E-4E2B-AD1E-43D5295D9A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706F-712D-4F07-AF86-F6B65C5394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FF5B-4189-4040-96DD-1EDB226FDE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AABF-BA2B-4CF0-9B42-8C8D0BF8B7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104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38400" y="213336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368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104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38400" y="4163400"/>
            <a:ext cx="234000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0770-2553-488A-9BB0-6DE9ABB2F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2A28-58AD-482E-8C3F-319ACAC39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C78B-540C-42BC-8595-58FD53ABB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7B66-80CB-4398-88E7-7856A143E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533160"/>
            <a:ext cx="6629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A2D3-2B9F-41E1-B234-0FA3A78B1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9CDB-FC2C-4354-9B31-BF9B18740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47880" y="416340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2323-3F2F-48EB-919C-96CF144CC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36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47880" y="2133360"/>
            <a:ext cx="354636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3680" y="4163400"/>
            <a:ext cx="7267320" cy="18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6DDA-58C1-46E1-880F-0F948EA4E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2" marL="985680" indent="-20448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3" marL="1306440" indent="-20628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4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5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6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FAC93CB3-CD15-451B-AE55-9F01C8EDE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3" name="AutoShape 7"/>
          <p:cNvSpPr/>
          <p:nvPr/>
        </p:nvSpPr>
        <p:spPr>
          <a:xfrm flipH="1">
            <a:off x="0" y="685800"/>
            <a:ext cx="914400" cy="712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" name="AutoShape 8"/>
          <p:cNvSpPr/>
          <p:nvPr/>
        </p:nvSpPr>
        <p:spPr>
          <a:xfrm>
            <a:off x="914400" y="304920"/>
            <a:ext cx="7095960" cy="316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5" name="AutoShape 9"/>
          <p:cNvSpPr/>
          <p:nvPr/>
        </p:nvSpPr>
        <p:spPr>
          <a:xfrm>
            <a:off x="8026560" y="1295280"/>
            <a:ext cx="1117440" cy="208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4"/>
          <p:cNvSpPr/>
          <p:nvPr/>
        </p:nvSpPr>
        <p:spPr>
          <a:xfrm flipH="1">
            <a:off x="0" y="843120"/>
            <a:ext cx="914400" cy="712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914400" y="425520"/>
            <a:ext cx="7095960" cy="316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8026560" y="1655640"/>
            <a:ext cx="1117440" cy="208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1143000" y="6294600"/>
            <a:ext cx="1104840" cy="21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4"/>
          <a:stretch/>
        </p:blipFill>
        <p:spPr>
          <a:xfrm>
            <a:off x="6934320" y="6172200"/>
            <a:ext cx="831600" cy="415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CenturyBook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3680" y="2133360"/>
            <a:ext cx="726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spcBef>
                <a:spcPts val="601"/>
              </a:spcBef>
              <a:buClr>
                <a:srgbClr val="000000"/>
              </a:buClr>
              <a:buFont typeface="ITCCenturyBookT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1" marL="666720" indent="-2444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2" marL="985680" indent="-20448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3" marL="1306440" indent="-20628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4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5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lvl="6" marL="1625760" indent="-204840">
              <a:spcBef>
                <a:spcPts val="601"/>
              </a:spcBef>
              <a:buClr>
                <a:srgbClr val="000000"/>
              </a:buClr>
              <a:buFont typeface="ITCCenturyBookT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CenturyBook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114800" y="632412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800" spc="-1" strike="noStrike">
                <a:solidFill>
                  <a:srgbClr val="000000"/>
                </a:solidFill>
                <a:latin typeface="Univer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9D389567-CF06-4DC1-B5D8-BEFE57AD680A}" type="slidenum">
              <a:rPr b="0" lang="en-US" sz="800" spc="-1" strike="noStrike">
                <a:solidFill>
                  <a:srgbClr val="000000"/>
                </a:solidFill>
                <a:latin typeface="Univers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ome.dei.polimi.it/svelto/didattica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6997323E-44CD-4C2F-93E9-D4BB93DB0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7732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Optical Measurements</a:t>
            </a: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”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ster Degree in Engineer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utomation-, Electronics-, Physics-, Telecommunication- Engineering</a:t>
            </a:r>
            <a:endParaRPr b="0" lang="en-US" sz="28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84360" y="2131920"/>
            <a:ext cx="76975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86000"/>
          </a:bodyPr>
          <a:p>
            <a:pPr algn="ctr">
              <a:lnSpc>
                <a:spcPct val="7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4000"/>
            </a:b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Introduction to the Cour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and Logistics Information</a:t>
            </a:r>
            <a:br>
              <a:rPr sz="4400"/>
            </a:br>
            <a:br>
              <a:rPr sz="4400"/>
            </a:br>
            <a:br>
              <a:rPr sz="3600"/>
            </a:b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prof. Cesare Svelto</a:t>
            </a:r>
            <a:br>
              <a:rPr sz="3200"/>
            </a:br>
            <a:br>
              <a:rPr sz="800"/>
            </a:b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olitecnico di Milan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pic>
        <p:nvPicPr>
          <p:cNvPr id="96" name="Picture 5" descr="Logo PoliMI"/>
          <p:cNvPicPr/>
          <p:nvPr/>
        </p:nvPicPr>
        <p:blipFill>
          <a:blip r:embed="rId1"/>
          <a:stretch/>
        </p:blipFill>
        <p:spPr>
          <a:xfrm>
            <a:off x="8101080" y="333360"/>
            <a:ext cx="95544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0D937991-2BDA-4AC6-AF29-1D357ED6C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fessors and meetings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447920"/>
            <a:ext cx="83678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89080" indent="-289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rofessor: Prof. Dr. Eng. Cesare SVELTO (Ph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◊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esare.svelto@polimi.it (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-stud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 02</a:t>
            </a: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399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3610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0">
              <a:lnSpc>
                <a:spcPct val="100000"/>
              </a:lnSpc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◊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bile. (for emergency) 340 / 97 61 929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0">
              <a:lnSpc>
                <a:spcPct val="100000"/>
              </a:lnSpc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◊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http://www.elet.polimi.it/upload/svelto/didattica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95280" y="3068640"/>
            <a:ext cx="83678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eetings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ith students: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◊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ednesday 10.00–12.00 hrs (inform of the visi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r also in other days/times, with an appointment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◊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e-mail: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subjec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R-stud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 “topic”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95280" y="4724280"/>
            <a:ext cx="83678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ssistant Professors: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◊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r. Eng. Enrico RANDONE (Ph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rico.randone@unipv.it   347</a:t>
            </a: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85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48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507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100000"/>
              </a:lnSpc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◊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r. Eng. Alessandro PESATORI (Ph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essandro.pesatori@polimi.it   02</a:t>
            </a: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399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3609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6786BFE4-D067-4AE7-8A02-9B27FF902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Didactic material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47920"/>
            <a:ext cx="83678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lides of the Course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“Electro-Optical Instrumentation: Sensing and Measuring with Lasers”, S. Donati, Prentice Hall, 200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available at CLUP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Library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ote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copies of lecture notes of previous students)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-30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ther didactical material and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xercise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previous class-works with solved exercises), on the WEB pag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 u="sng">
                <a:solidFill>
                  <a:srgbClr val="ff78ff"/>
                </a:solidFill>
                <a:uFillTx/>
                <a:latin typeface="Book Antiqua"/>
                <a:hlinkClick r:id="rId1"/>
              </a:rPr>
              <a:t>http://home.dei.polimi.it/svelto/didattica/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0">
              <a:lnSpc>
                <a:spcPct val="90000"/>
              </a:lnSpc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307800" indent="0">
              <a:lnSpc>
                <a:spcPct val="90000"/>
              </a:lnSpc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on the WEB site a previous register (in Italian) with detailed topics and dates of the lectures is available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57080" y="6021360"/>
            <a:ext cx="813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07800" indent="-307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Your COMMENTS are very welcome!</a:t>
            </a:r>
            <a:endParaRPr b="0" lang="en-US" sz="32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06377D33-4062-4A16-8446-377F29154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gram of the Course (1/2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01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01320" indent="-30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ASER sour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nciples, properties, applications, safety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1320" indent="-30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ight (Photo-)Detecto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rect and thermal detectors: measurement propert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tection of optical signals: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mplitude (direct) and Phase/Frequency (coherent) photo-detect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1320" indent="-30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ASER Telemet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iangulators, Time-Of-Flight (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ulse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CW-mod), LIDAR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1320" indent="-30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terferometry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1320" indent="0">
              <a:lnSpc>
                <a:spcPct val="90000"/>
              </a:lnSpc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nciples, limits, distance and velocity measurements, vibrometry, profilomety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1320" indent="-30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ptical Gyroscope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301320" indent="0">
              <a:lnSpc>
                <a:spcPct val="90000"/>
              </a:lnSpc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agnac effect, sensibility in terms of phase and frequency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Ring Laser Gyro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RLG) and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Fiber Optics Gyro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FOG), properties and application fields, MEM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Gyro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49497D0E-C72A-4F0B-AD3B-A19162698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gram of the Course (2/2)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47560"/>
            <a:ext cx="8439120" cy="51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ptical Fiber Sensor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0">
              <a:lnSpc>
                <a:spcPct val="90000"/>
              </a:lnSpc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mperature, strain, electric current, magnetic field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ASER velocimeter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0">
              <a:lnSpc>
                <a:spcPct val="90000"/>
              </a:lnSpc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oppler velocimetry, PIV and LDV, "autovelox"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struments for Optical Measurements in the Laboratory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0">
              <a:lnSpc>
                <a:spcPct val="90000"/>
              </a:lnSpc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power-met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wavemete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CCD-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camer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OSA, OTDR,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insertion los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BER, PMD, …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0">
              <a:lnSpc>
                <a:spcPct val="90000"/>
              </a:lnSpc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NOGRAPHIC TOPIC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tability and Stabilization of LASER Oscillato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mplitude- and frequency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nois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its suppression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Ultra-High-Resolution Optical Measurement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  <a:p>
            <a:pPr marL="289080" indent="0">
              <a:lnSpc>
                <a:spcPct val="90000"/>
              </a:lnSpc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igh-resolution LAS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spectroscop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tec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gravitational waves</a:t>
            </a:r>
            <a:endParaRPr b="0" lang="en-US" sz="2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60820F68-033E-453E-8451-303885B48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rganization of the Course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353440" cy="51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86200" indent="-286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Course, counting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5 Credits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(CFU), is articulated in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30 hrs of Lectures (LEZ) and 20 hrs of Exercitations (ES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nd 3 hrs of optional visiting to the Laboratory Measurements (LAB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86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  <a:p>
            <a:pPr marL="286200" indent="-286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etailed schedule of lectures and exercitations: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86200" indent="0">
              <a:lnSpc>
                <a:spcPct val="100000"/>
              </a:lnSpc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onday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8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.3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–10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.0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oom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.0.4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Via Golgi 40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86200" indent="0">
              <a:lnSpc>
                <a:spcPct val="100000"/>
              </a:lnSpc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Wednesday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8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.3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–10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.0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oom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.0.4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(Via Golgi 40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86200" indent="0">
              <a:lnSpc>
                <a:spcPct val="100000"/>
              </a:lnSpc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n demand from the students, a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aus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t about half lecture is possible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86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  <a:p>
            <a:pPr marL="286200" indent="-286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XA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O intermediate exam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uring the semester (lectures paused for IE)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written exam class-work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(typically 4 exercises in 2 hrs, see on WEB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xam Dates (“Appelli”)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(2+2+2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=6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) with the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ption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of additional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ora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interrogation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(on demand from the student or from the teacher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ossibility of long-term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“freezing” votes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  <a:p>
            <a:pPr marL="286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(exam class-works with problems solutions available on WEB)</a:t>
            </a:r>
            <a:endParaRPr b="0" lang="en-US" sz="20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3"/>
          <p:cNvSpPr/>
          <p:nvPr/>
        </p:nvSpPr>
        <p:spPr>
          <a:xfrm>
            <a:off x="8001000" y="65530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F06B52DD-4D23-4809-905D-3EB235DFF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ITCCenturyBook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3280" y="2924280"/>
            <a:ext cx="518472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62064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Book Antiqua"/>
              </a:rPr>
              <a:t>Let’s START . . .</a:t>
            </a:r>
            <a:endParaRPr b="0" lang="en-US" sz="5400" spc="-1" strike="noStrike">
              <a:solidFill>
                <a:srgbClr val="000000"/>
              </a:solidFill>
              <a:latin typeface="ITCCenturyBook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2T23:11:32Z</dcterms:created>
  <dc:creator>C. Svelto</dc:creator>
  <dc:description/>
  <dc:language>en-US</dc:language>
  <cp:lastModifiedBy>Administrator</cp:lastModifiedBy>
  <cp:lastPrinted>1999-09-13T09:18:36Z</cp:lastPrinted>
  <dcterms:modified xsi:type="dcterms:W3CDTF">2016-09-19T11:36:27Z</dcterms:modified>
  <cp:revision>379</cp:revision>
  <dc:subject/>
  <dc:title>Misure sui laser</dc:title>
</cp:coreProperties>
</file>