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7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53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7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53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7800" y="75960"/>
            <a:ext cx="707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ick to edit the title text forma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026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1026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2" marL="1093680" indent="-16992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3" marL="1549440" indent="-1778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4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5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6" marL="2004840" indent="-176040">
              <a:spcBef>
                <a:spcPts val="1026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406440" y="1155600"/>
            <a:ext cx="8517960" cy="134640"/>
            <a:chOff x="406440" y="1155600"/>
            <a:chExt cx="8517960" cy="134640"/>
          </a:xfrm>
        </p:grpSpPr>
        <p:sp>
          <p:nvSpPr>
            <p:cNvPr id="3" name="AutoShape 4"/>
            <p:cNvSpPr/>
            <p:nvPr/>
          </p:nvSpPr>
          <p:spPr>
            <a:xfrm>
              <a:off x="475200" y="1222200"/>
              <a:ext cx="8449200" cy="68040"/>
            </a:xfrm>
            <a:prstGeom prst="parallelogram">
              <a:avLst>
                <a:gd name="adj" fmla="val -26148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32360" y="1175400"/>
              <a:ext cx="8445600" cy="74520"/>
            </a:xfrm>
            <a:prstGeom prst="parallelogram">
              <a:avLst>
                <a:gd name="adj" fmla="val -24322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406440" y="1155600"/>
              <a:ext cx="8448480" cy="82800"/>
            </a:xfrm>
            <a:prstGeom prst="parallelogram">
              <a:avLst>
                <a:gd name="adj" fmla="val -21489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" name="Text Box 16"/>
          <p:cNvSpPr/>
          <p:nvPr/>
        </p:nvSpPr>
        <p:spPr>
          <a:xfrm>
            <a:off x="5556240" y="6622200"/>
            <a:ext cx="358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ctr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fld id="{75AC8459-12FF-47A4-A4F8-D28C604129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431640" y="4324320"/>
            <a:ext cx="871236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Slides by Eng.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Enrico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Maria Randone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, PhD.</a:t>
            </a:r>
            <a:endParaRPr b="1" lang="en-US" sz="20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Dipartimento di Elettronica - Università di Pavia</a:t>
            </a: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Tel.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  0382 98 5224        e-mail: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600" spc="-1" strike="noStrike" u="sng">
                <a:solidFill>
                  <a:srgbClr val="3333cc"/>
                </a:solidFill>
                <a:uFillTx/>
                <a:latin typeface="Century Gothic"/>
              </a:rPr>
              <a:t>enrico.randone@unipv.it</a:t>
            </a:r>
            <a:endParaRPr b="1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It is acknowledged the origin of some figures, photos and texts</a:t>
            </a:r>
            <a:endParaRPr b="1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as didactic material originally produced by Prof. Silvano Donati (Università di Pavia)</a:t>
            </a:r>
            <a:endParaRPr b="1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and/or Dr. Eng. Guido Giuliani (Università di Pavia)</a:t>
            </a:r>
            <a:endParaRPr b="1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81160" y="1379520"/>
            <a:ext cx="86151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700"/>
            </a:br>
            <a:r>
              <a:rPr b="1" i="1" lang="en-US" sz="5400" spc="-1" strike="noStrike">
                <a:solidFill>
                  <a:srgbClr val="969696"/>
                </a:solidFill>
                <a:latin typeface="Century Gothic"/>
              </a:rPr>
              <a:t>”</a:t>
            </a:r>
            <a:r>
              <a:rPr b="1" i="1" lang="en-US" sz="5400" spc="-1" strike="noStrike">
                <a:solidFill>
                  <a:srgbClr val="969696"/>
                </a:solidFill>
                <a:latin typeface="Century Gothic"/>
              </a:rPr>
              <a:t>LASER INTERFEROMETRY”</a:t>
            </a:r>
            <a:br>
              <a:rPr sz="5400"/>
            </a:br>
            <a:br>
              <a:rPr sz="2000"/>
            </a:br>
            <a:r>
              <a:rPr b="1" i="1" lang="en-US" sz="4000" spc="-1" strike="noStrike">
                <a:solidFill>
                  <a:srgbClr val="969696"/>
                </a:solidFill>
                <a:latin typeface="Century Gothic"/>
              </a:rPr>
              <a:t>part 3  </a:t>
            </a:r>
            <a:r>
              <a:rPr b="1" i="1" lang="it-IT" sz="4000" spc="-1" strike="noStrike">
                <a:solidFill>
                  <a:srgbClr val="969696"/>
                </a:solidFill>
                <a:latin typeface="Century Gothic"/>
              </a:rPr>
              <a:t>-  ESPI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1360" y="1666440"/>
            <a:ext cx="8393040" cy="971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ples of ESPI frame-subtraction images obtained from a static mechanical deformation (left) or from deformation due to a temperature gradient (right) applied to the target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81160" y="2944800"/>
            <a:ext cx="8581680" cy="344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48840" y="85320"/>
            <a:ext cx="80326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Frame-Subtraction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” 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echnique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 (I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41000" y="1654200"/>
            <a:ext cx="8263080" cy="1884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las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= 632.8 nm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oint A is always unperturbed by the deformation applied to the target (“reference-phase point”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hat are the possible displacements of points B, C, D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304560" y="3782160"/>
            <a:ext cx="2565360" cy="2626920"/>
            <a:chOff x="304560" y="3782160"/>
            <a:chExt cx="2565360" cy="2626920"/>
          </a:xfrm>
        </p:grpSpPr>
        <p:pic>
          <p:nvPicPr>
            <p:cNvPr id="101" name="Picture 18" descr=""/>
            <p:cNvPicPr/>
            <p:nvPr/>
          </p:nvPicPr>
          <p:blipFill>
            <a:blip r:embed="rId1"/>
            <a:srcRect l="13429" t="0" r="12735" b="5509"/>
            <a:stretch/>
          </p:blipFill>
          <p:spPr>
            <a:xfrm>
              <a:off x="370440" y="3902760"/>
              <a:ext cx="2499480" cy="241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04560" y="5888520"/>
              <a:ext cx="436680" cy="520560"/>
              <a:chOff x="304560" y="5888520"/>
              <a:chExt cx="436680" cy="520560"/>
            </a:xfrm>
          </p:grpSpPr>
          <p:sp>
            <p:nvSpPr>
              <p:cNvPr id="103" name="Oval 7"/>
              <p:cNvSpPr/>
              <p:nvPr/>
            </p:nvSpPr>
            <p:spPr>
              <a:xfrm>
                <a:off x="622440" y="6173640"/>
                <a:ext cx="45720" cy="4608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04" name="Text Box 8"/>
              <p:cNvSpPr/>
              <p:nvPr/>
            </p:nvSpPr>
            <p:spPr>
              <a:xfrm>
                <a:off x="304560" y="5888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A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9"/>
            <p:cNvGrpSpPr/>
            <p:nvPr/>
          </p:nvGrpSpPr>
          <p:grpSpPr>
            <a:xfrm>
              <a:off x="1225800" y="4122000"/>
              <a:ext cx="436680" cy="520560"/>
              <a:chOff x="1225800" y="4122000"/>
              <a:chExt cx="436680" cy="520560"/>
            </a:xfrm>
          </p:grpSpPr>
          <p:sp>
            <p:nvSpPr>
              <p:cNvPr id="106" name="Oval 10"/>
              <p:cNvSpPr/>
              <p:nvPr/>
            </p:nvSpPr>
            <p:spPr>
              <a:xfrm>
                <a:off x="1540800" y="4406400"/>
                <a:ext cx="47880" cy="4608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07" name="Text Box 11"/>
              <p:cNvSpPr/>
              <p:nvPr/>
            </p:nvSpPr>
            <p:spPr>
              <a:xfrm>
                <a:off x="1225800" y="4122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C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2"/>
            <p:cNvGrpSpPr/>
            <p:nvPr/>
          </p:nvGrpSpPr>
          <p:grpSpPr>
            <a:xfrm>
              <a:off x="2373480" y="3782160"/>
              <a:ext cx="436680" cy="520560"/>
              <a:chOff x="2373480" y="3782160"/>
              <a:chExt cx="436680" cy="520560"/>
            </a:xfrm>
          </p:grpSpPr>
          <p:sp>
            <p:nvSpPr>
              <p:cNvPr id="109" name="Oval 13"/>
              <p:cNvSpPr/>
              <p:nvPr/>
            </p:nvSpPr>
            <p:spPr>
              <a:xfrm>
                <a:off x="2688480" y="4066560"/>
                <a:ext cx="47880" cy="4608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10" name="Text Box 14"/>
              <p:cNvSpPr/>
              <p:nvPr/>
            </p:nvSpPr>
            <p:spPr>
              <a:xfrm>
                <a:off x="2373480" y="378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B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5"/>
            <p:cNvGrpSpPr/>
            <p:nvPr/>
          </p:nvGrpSpPr>
          <p:grpSpPr>
            <a:xfrm>
              <a:off x="2325600" y="5416560"/>
              <a:ext cx="436680" cy="520560"/>
              <a:chOff x="2325600" y="5416560"/>
              <a:chExt cx="436680" cy="520560"/>
            </a:xfrm>
          </p:grpSpPr>
          <p:sp>
            <p:nvSpPr>
              <p:cNvPr id="112" name="Oval 16"/>
              <p:cNvSpPr/>
              <p:nvPr/>
            </p:nvSpPr>
            <p:spPr>
              <a:xfrm>
                <a:off x="2642760" y="5699880"/>
                <a:ext cx="46080" cy="468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2325600" y="5416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D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20" descr=""/>
          <p:cNvPicPr/>
          <p:nvPr/>
        </p:nvPicPr>
        <p:blipFill>
          <a:blip r:embed="rId2"/>
          <a:srcRect l="19998" t="6938" r="13059" b="10148"/>
          <a:stretch/>
        </p:blipFill>
        <p:spPr>
          <a:xfrm>
            <a:off x="3405240" y="3867120"/>
            <a:ext cx="27036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1"/>
          <p:cNvGrpSpPr/>
          <p:nvPr/>
        </p:nvGrpSpPr>
        <p:grpSpPr>
          <a:xfrm>
            <a:off x="3508920" y="5603040"/>
            <a:ext cx="436680" cy="520560"/>
            <a:chOff x="3508920" y="5603040"/>
            <a:chExt cx="436680" cy="520560"/>
          </a:xfrm>
        </p:grpSpPr>
        <p:sp>
          <p:nvSpPr>
            <p:cNvPr id="116" name="Oval 22"/>
            <p:cNvSpPr/>
            <p:nvPr/>
          </p:nvSpPr>
          <p:spPr>
            <a:xfrm>
              <a:off x="3816720" y="5884560"/>
              <a:ext cx="42480" cy="406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3508920" y="5603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grpSp>
        <p:nvGrpSpPr>
          <p:cNvPr id="118" name="Group 24"/>
          <p:cNvGrpSpPr/>
          <p:nvPr/>
        </p:nvGrpSpPr>
        <p:grpSpPr>
          <a:xfrm>
            <a:off x="4956840" y="4179240"/>
            <a:ext cx="436680" cy="520560"/>
            <a:chOff x="4956840" y="4179240"/>
            <a:chExt cx="436680" cy="520560"/>
          </a:xfrm>
        </p:grpSpPr>
        <p:sp>
          <p:nvSpPr>
            <p:cNvPr id="119" name="Oval 25"/>
            <p:cNvSpPr/>
            <p:nvPr/>
          </p:nvSpPr>
          <p:spPr>
            <a:xfrm>
              <a:off x="5264640" y="4460760"/>
              <a:ext cx="42480" cy="406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4956840" y="4179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grpSp>
        <p:nvGrpSpPr>
          <p:cNvPr id="121" name="Group 27"/>
          <p:cNvGrpSpPr/>
          <p:nvPr/>
        </p:nvGrpSpPr>
        <p:grpSpPr>
          <a:xfrm>
            <a:off x="3737520" y="4941000"/>
            <a:ext cx="436680" cy="520560"/>
            <a:chOff x="3737520" y="4941000"/>
            <a:chExt cx="436680" cy="520560"/>
          </a:xfrm>
        </p:grpSpPr>
        <p:sp>
          <p:nvSpPr>
            <p:cNvPr id="122" name="Oval 28"/>
            <p:cNvSpPr/>
            <p:nvPr/>
          </p:nvSpPr>
          <p:spPr>
            <a:xfrm>
              <a:off x="4045320" y="5222520"/>
              <a:ext cx="42480" cy="406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3737520" y="4941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Arial"/>
                </a:rPr>
                <a:t>B</a:t>
              </a:r>
              <a:endParaRPr b="1" lang="en-US" sz="2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grpSp>
        <p:nvGrpSpPr>
          <p:cNvPr id="124" name="Group 30"/>
          <p:cNvGrpSpPr/>
          <p:nvPr/>
        </p:nvGrpSpPr>
        <p:grpSpPr>
          <a:xfrm>
            <a:off x="4423320" y="4841280"/>
            <a:ext cx="436680" cy="520560"/>
            <a:chOff x="4423320" y="4841280"/>
            <a:chExt cx="436680" cy="520560"/>
          </a:xfrm>
        </p:grpSpPr>
        <p:sp>
          <p:nvSpPr>
            <p:cNvPr id="125" name="Oval 31"/>
            <p:cNvSpPr/>
            <p:nvPr/>
          </p:nvSpPr>
          <p:spPr>
            <a:xfrm>
              <a:off x="4732560" y="5122800"/>
              <a:ext cx="42480" cy="406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126" name="Text Box 32"/>
            <p:cNvSpPr/>
            <p:nvPr/>
          </p:nvSpPr>
          <p:spPr>
            <a:xfrm>
              <a:off x="4423320" y="4841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grpSp>
        <p:nvGrpSpPr>
          <p:cNvPr id="127" name="Group 46"/>
          <p:cNvGrpSpPr/>
          <p:nvPr/>
        </p:nvGrpSpPr>
        <p:grpSpPr>
          <a:xfrm>
            <a:off x="6298920" y="3797280"/>
            <a:ext cx="2535120" cy="2486160"/>
            <a:chOff x="6298920" y="3797280"/>
            <a:chExt cx="2535120" cy="2486160"/>
          </a:xfrm>
        </p:grpSpPr>
        <p:pic>
          <p:nvPicPr>
            <p:cNvPr id="128" name="Picture 33" descr=""/>
            <p:cNvPicPr/>
            <p:nvPr/>
          </p:nvPicPr>
          <p:blipFill>
            <a:blip r:embed="rId3"/>
            <a:srcRect l="14881" t="0" r="14522" b="7131"/>
            <a:stretch/>
          </p:blipFill>
          <p:spPr>
            <a:xfrm>
              <a:off x="6393960" y="3847320"/>
              <a:ext cx="2440080" cy="232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Group 34"/>
            <p:cNvGrpSpPr/>
            <p:nvPr/>
          </p:nvGrpSpPr>
          <p:grpSpPr>
            <a:xfrm>
              <a:off x="6298920" y="5762880"/>
              <a:ext cx="436680" cy="520560"/>
              <a:chOff x="6298920" y="5762880"/>
              <a:chExt cx="436680" cy="520560"/>
            </a:xfrm>
          </p:grpSpPr>
          <p:sp>
            <p:nvSpPr>
              <p:cNvPr id="130" name="Oval 35"/>
              <p:cNvSpPr/>
              <p:nvPr/>
            </p:nvSpPr>
            <p:spPr>
              <a:xfrm>
                <a:off x="6618960" y="6046920"/>
                <a:ext cx="49320" cy="4752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31" name="Text Box 36"/>
              <p:cNvSpPr/>
              <p:nvPr/>
            </p:nvSpPr>
            <p:spPr>
              <a:xfrm>
                <a:off x="6298920" y="5762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A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7"/>
            <p:cNvGrpSpPr/>
            <p:nvPr/>
          </p:nvGrpSpPr>
          <p:grpSpPr>
            <a:xfrm>
              <a:off x="7582680" y="5762160"/>
              <a:ext cx="436680" cy="520560"/>
              <a:chOff x="7582680" y="5762160"/>
              <a:chExt cx="436680" cy="520560"/>
            </a:xfrm>
          </p:grpSpPr>
          <p:sp>
            <p:nvSpPr>
              <p:cNvPr id="133" name="Oval 38"/>
              <p:cNvSpPr/>
              <p:nvPr/>
            </p:nvSpPr>
            <p:spPr>
              <a:xfrm>
                <a:off x="7904160" y="6046920"/>
                <a:ext cx="49320" cy="4752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34" name="Text Box 39"/>
              <p:cNvSpPr/>
              <p:nvPr/>
            </p:nvSpPr>
            <p:spPr>
              <a:xfrm>
                <a:off x="7582680" y="5762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C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0"/>
            <p:cNvGrpSpPr/>
            <p:nvPr/>
          </p:nvGrpSpPr>
          <p:grpSpPr>
            <a:xfrm>
              <a:off x="7138080" y="5755320"/>
              <a:ext cx="436680" cy="520560"/>
              <a:chOff x="7138080" y="5755320"/>
              <a:chExt cx="436680" cy="520560"/>
            </a:xfrm>
          </p:grpSpPr>
          <p:sp>
            <p:nvSpPr>
              <p:cNvPr id="136" name="Oval 41"/>
              <p:cNvSpPr/>
              <p:nvPr/>
            </p:nvSpPr>
            <p:spPr>
              <a:xfrm>
                <a:off x="7459560" y="6038640"/>
                <a:ext cx="49320" cy="4752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37" name="Text Box 42"/>
              <p:cNvSpPr/>
              <p:nvPr/>
            </p:nvSpPr>
            <p:spPr>
              <a:xfrm>
                <a:off x="7138080" y="5755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B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43"/>
            <p:cNvGrpSpPr/>
            <p:nvPr/>
          </p:nvGrpSpPr>
          <p:grpSpPr>
            <a:xfrm>
              <a:off x="8026200" y="3797280"/>
              <a:ext cx="436680" cy="520560"/>
              <a:chOff x="8026200" y="3797280"/>
              <a:chExt cx="436680" cy="520560"/>
            </a:xfrm>
          </p:grpSpPr>
          <p:sp>
            <p:nvSpPr>
              <p:cNvPr id="139" name="Oval 44"/>
              <p:cNvSpPr/>
              <p:nvPr/>
            </p:nvSpPr>
            <p:spPr>
              <a:xfrm>
                <a:off x="8349480" y="4080600"/>
                <a:ext cx="49320" cy="4752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  <p:sp>
            <p:nvSpPr>
              <p:cNvPr id="140" name="Text Box 45"/>
              <p:cNvSpPr/>
              <p:nvPr/>
            </p:nvSpPr>
            <p:spPr>
              <a:xfrm>
                <a:off x="8026200" y="3797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Arial"/>
                  </a:rPr>
                  <a:t>D</a:t>
                </a:r>
                <a:endParaRPr b="1" lang="en-US" sz="2800" spc="-1" strike="noStrike">
                  <a:solidFill>
                    <a:srgbClr val="b2b2b2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48840" y="85320"/>
            <a:ext cx="80326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Frame-Subtraction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” 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echnique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 (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2880" y="85320"/>
            <a:ext cx="810432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7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1" i="1" lang="en-GB" sz="2700" spc="-1" strike="noStrike">
                <a:solidFill>
                  <a:srgbClr val="969696"/>
                </a:solidFill>
                <a:latin typeface="Century Gothic"/>
              </a:rPr>
              <a:t>ESPI (Electronic Speckle Pattern Interferometry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353600"/>
            <a:ext cx="8643960" cy="3227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ach single speckle can be used as a SINGLE INTERFEROMETRIC CHANNEL, and this feature can be used to develop single point instruments like a Vibrometer (we must always remember the dynamic limitations due to speckles dimensions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en a single-mode laser source  shines on a diffuser, however, more than one speckle is diffused back to the observer, and the number of the speckles depends on the dimension of the laser spot on the diffuser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s it possible to develop an instrument that is abl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process all the speckles in parallel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? In this way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x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(pixels)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interferometric image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of the movement of the diffuser could be obtained…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3162240" y="4653000"/>
          <a:ext cx="28004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2240" y="4653000"/>
                    <a:ext cx="28004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280" y="8532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ESPI: Measuring Principle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21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diffusing surface is illuminated by a laser source, and the who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speckled image is observed with an imaging syste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(CCD camera), after superposition with the laser reference beam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n order to develop a great number of speckles, particular optics should be used, like double-lenses telescopes: instead of focusing the laser beam on the surface, like in a single point Vibrometer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a big area of the diffuser must be illuminated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727280" y="3514680"/>
            <a:ext cx="5689440" cy="313848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1"/>
          <p:cNvSpPr/>
          <p:nvPr/>
        </p:nvSpPr>
        <p:spPr>
          <a:xfrm>
            <a:off x="1854360" y="4276800"/>
            <a:ext cx="837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He-Ne LASER</a:t>
            </a:r>
            <a:endParaRPr b="1" lang="en-US" sz="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360" y="3062160"/>
            <a:ext cx="8848800" cy="3732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2000"/>
          </a:bodyPr>
          <a:p>
            <a:pPr marL="250920" indent="-2509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single STATIC image from the camera doesn’t contain useful information…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t what happens if the surface starts moving or swinging back-and-forth?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s suggested befor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each speckle can be used as a single interferometric channel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each illuminated point of the diffuser undergoes displacements that are shorter than the longitudinal dimensions of the speckles (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E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idea is: light from each speckles interferes with the reference laser beam, and “inside” of each spot fringes will develop: high intensit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dium intensit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ar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dium intensit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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high intensit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…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0920" indent="-2509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ach speckle will behave as a typical interferometer based on fringes!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3444840" y="1398600"/>
          <a:ext cx="2255760" cy="16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1398600"/>
                    <a:ext cx="225576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68280" y="8532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ESPI: Measuring Principle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9200" y="8532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ime-Averaging” Technique 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47480"/>
            <a:ext cx="9144000" cy="22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7000"/>
          </a:bodyPr>
          <a:p>
            <a:pPr marL="264600" indent="-2646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target, typically a mechanical membrane,  is actuated with a command signal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is produces, on its surface, stationary waves related to the possible vibrating mode of the membrane/material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-264600" algn="just">
              <a:spcBef>
                <a:spcPts val="110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he detected video signal is processed to get a sort of “mean of the intensity” related to each speckle, that can be considered a “pixel” of the image: in the Nodes of the surface (points at rest) the speckles intensity is constant (“bright” regions), whereas in the Anti-Nodes (points that exhibit the maximum excursion) the speckles intensity varies with time (“darker” regions) with an average intensity halved or anyway reduced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9" name="Group 16"/>
          <p:cNvGrpSpPr/>
          <p:nvPr/>
        </p:nvGrpSpPr>
        <p:grpSpPr>
          <a:xfrm>
            <a:off x="513720" y="3530520"/>
            <a:ext cx="7963200" cy="3242880"/>
            <a:chOff x="513720" y="3530520"/>
            <a:chExt cx="7963200" cy="3242880"/>
          </a:xfrm>
        </p:grpSpPr>
        <p:pic>
          <p:nvPicPr>
            <p:cNvPr id="60" name="Picture 4" descr=""/>
            <p:cNvPicPr/>
            <p:nvPr/>
          </p:nvPicPr>
          <p:blipFill>
            <a:blip r:embed="rId1"/>
            <a:stretch/>
          </p:blipFill>
          <p:spPr>
            <a:xfrm>
              <a:off x="3116520" y="3632040"/>
              <a:ext cx="536040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5"/>
            <p:cNvSpPr/>
            <p:nvPr/>
          </p:nvSpPr>
          <p:spPr>
            <a:xfrm>
              <a:off x="513720" y="3530520"/>
              <a:ext cx="249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Reference Image of</a:t>
              </a:r>
              <a:endParaRPr b="1" lang="en-US" sz="1800" spc="-1" strike="noStrike">
                <a:solidFill>
                  <a:srgbClr val="b2b2b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a loudspeaker used</a:t>
              </a:r>
              <a:endParaRPr b="1" lang="en-US" sz="1800" spc="-1" strike="noStrike">
                <a:solidFill>
                  <a:srgbClr val="b2b2b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as a diffusing targe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(Target at rest)</a:t>
              </a:r>
              <a:endParaRPr b="1" lang="en-US" sz="1800" spc="-1" strike="noStrike">
                <a:solidFill>
                  <a:srgbClr val="b2b2b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2837160" y="41652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5199840" y="4393800"/>
              <a:ext cx="2514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5151240" y="4393800"/>
              <a:ext cx="210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 Gothic"/>
                </a:rPr>
                <a:t>Increasing Frequency</a:t>
              </a:r>
              <a:endParaRPr b="1" lang="en-US" sz="14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4519800" y="37080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Century Gothic"/>
                </a:rPr>
                <a:t>200 Hz</a:t>
              </a:r>
              <a:endParaRPr b="1" lang="en-US" sz="14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5815440" y="37080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Century Gothic"/>
                </a:rPr>
                <a:t>400 Hz</a:t>
              </a:r>
              <a:endParaRPr b="1" lang="en-US" sz="14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7111080" y="37080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Century Gothic"/>
                </a:rPr>
                <a:t>600 Hz</a:t>
              </a:r>
              <a:endParaRPr b="1" lang="en-US" sz="14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842800" y="5841720"/>
              <a:ext cx="85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Century Gothic"/>
                </a:rPr>
                <a:t>2000 Hz</a:t>
              </a:r>
              <a:endParaRPr b="1" lang="en-US" sz="14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7175160" y="5841720"/>
              <a:ext cx="85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Century Gothic"/>
                </a:rPr>
                <a:t>2200 Hz</a:t>
              </a:r>
              <a:endParaRPr b="1" lang="en-US" sz="14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>
              <a:off x="4056480" y="5536800"/>
              <a:ext cx="3670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>
              <a:off x="4056480" y="6603840"/>
              <a:ext cx="3670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47400" y="1906200"/>
            <a:ext cx="8420040" cy="4081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6000"/>
          </a:bodyPr>
          <a:p>
            <a:pPr marL="261720" indent="-261720" algn="just">
              <a:spcBef>
                <a:spcPts val="165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technique is extremely easy to set-u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 algn="just">
              <a:spcBef>
                <a:spcPts val="165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ibrating Modes of a target area of hundreds of squared centimeters are directly/parallel observe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 algn="just">
              <a:spcBef>
                <a:spcPts val="165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direct measure of the amplitude of the vibrations induced in the targe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achieved, as we get only the Nodes and Anti-Nodes position and distribu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1720" indent="-261720" algn="just">
              <a:spcBef>
                <a:spcPts val="165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Nodes and Anti-Nodes distributions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are frequently analyzed in mechanics engineering and the technique is indeed very useful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49200" y="8532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ime-Averaging” Technique 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85320"/>
            <a:ext cx="80326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Frame-Subtraction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” 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echnique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461600"/>
            <a:ext cx="9144000" cy="318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7000"/>
          </a:bodyPr>
          <a:p>
            <a:pPr marL="264600" indent="-2646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idea is to compare two static images from the camera, both of which, singularly, don’t gives any information on the target surface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06680" indent="-264600" algn="just">
              <a:spcBef>
                <a:spcPts val="337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reference image (target at rest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06680" indent="-264600" algn="just">
              <a:spcBef>
                <a:spcPts val="337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measuring image (target subjected to a static deformation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-2646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f we subtract pixel-to-pixel the two images, we obtain a new image that contains the interferometric intensity: variation experienced by each speckle during the movement (it must always be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&lt;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-26460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resulting image contains the information on the surface static deformation in terms of  bi-dimensional interferometric fringes, where each fringe 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/2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6" name="Group 10"/>
          <p:cNvGrpSpPr/>
          <p:nvPr/>
        </p:nvGrpSpPr>
        <p:grpSpPr>
          <a:xfrm>
            <a:off x="1638360" y="4568760"/>
            <a:ext cx="6041880" cy="2214720"/>
            <a:chOff x="1638360" y="4568760"/>
            <a:chExt cx="6041880" cy="2214720"/>
          </a:xfrm>
        </p:grpSpPr>
        <p:pic>
          <p:nvPicPr>
            <p:cNvPr id="77" name="Picture 4" descr=""/>
            <p:cNvPicPr/>
            <p:nvPr/>
          </p:nvPicPr>
          <p:blipFill>
            <a:blip r:embed="rId1"/>
            <a:stretch/>
          </p:blipFill>
          <p:spPr>
            <a:xfrm>
              <a:off x="1638360" y="5256360"/>
              <a:ext cx="601992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5"/>
            <p:cNvSpPr/>
            <p:nvPr/>
          </p:nvSpPr>
          <p:spPr>
            <a:xfrm>
              <a:off x="1661400" y="4668840"/>
              <a:ext cx="195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Reference Image</a:t>
              </a:r>
              <a:br>
                <a:rPr sz="1300"/>
              </a:b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(un-deformed Target)</a:t>
              </a:r>
              <a:endParaRPr b="1" lang="en-US" sz="13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3792600" y="4668840"/>
              <a:ext cx="166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Measuring Image</a:t>
              </a:r>
              <a:br>
                <a:rPr sz="1300"/>
              </a:b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(deformed-target)</a:t>
              </a:r>
              <a:endParaRPr b="1" lang="en-US" sz="13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5599080" y="4568760"/>
              <a:ext cx="2081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Subtraction Image</a:t>
              </a:r>
              <a:endParaRPr b="1" lang="en-US" sz="1300" spc="-1" strike="noStrike">
                <a:solidFill>
                  <a:srgbClr val="b2b2b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(bi-dimensional fringes</a:t>
              </a:r>
              <a:endParaRPr b="1" lang="en-US" sz="1300" spc="-1" strike="noStrike">
                <a:solidFill>
                  <a:srgbClr val="b2b2b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777777"/>
                  </a:solidFill>
                  <a:latin typeface="Century Gothic"/>
                </a:rPr>
                <a:t>Distribution)</a:t>
              </a:r>
              <a:endParaRPr b="1" lang="en-US" sz="13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81" name="Line 8"/>
          <p:cNvSpPr/>
          <p:nvPr/>
        </p:nvSpPr>
        <p:spPr>
          <a:xfrm flipH="1" flipV="1">
            <a:off x="6873480" y="6087960"/>
            <a:ext cx="157320" cy="115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786000" y="5738760"/>
            <a:ext cx="4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it-IT" sz="1600" spc="-1" strike="noStrike">
                <a:solidFill>
                  <a:srgbClr val="ffffff"/>
                </a:solidFill>
                <a:latin typeface="Century Gothic"/>
              </a:rPr>
              <a:t>/2</a:t>
            </a:r>
            <a:endParaRPr b="1" lang="en-US" sz="1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43" descr=""/>
          <p:cNvPicPr/>
          <p:nvPr/>
        </p:nvPicPr>
        <p:blipFill>
          <a:blip r:embed="rId1"/>
          <a:stretch/>
        </p:blipFill>
        <p:spPr>
          <a:xfrm>
            <a:off x="257040" y="4343400"/>
            <a:ext cx="2424240" cy="2438280"/>
          </a:xfrm>
          <a:prstGeom prst="rect">
            <a:avLst/>
          </a:prstGeom>
          <a:ln w="0">
            <a:noFill/>
          </a:ln>
        </p:spPr>
      </p:pic>
      <p:sp>
        <p:nvSpPr>
          <p:cNvPr id="84" name="Line 145"/>
          <p:cNvSpPr/>
          <p:nvPr/>
        </p:nvSpPr>
        <p:spPr>
          <a:xfrm flipH="1" flipV="1">
            <a:off x="1914120" y="5310000"/>
            <a:ext cx="30492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Rectangle 146"/>
          <p:cNvSpPr/>
          <p:nvPr/>
        </p:nvSpPr>
        <p:spPr>
          <a:xfrm>
            <a:off x="1609560" y="4991040"/>
            <a:ext cx="433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it-IT" sz="1300" spc="-1" strike="noStrike">
                <a:solidFill>
                  <a:srgbClr val="ffffff"/>
                </a:solidFill>
                <a:latin typeface="Century Gothic"/>
              </a:rPr>
              <a:t>/2</a:t>
            </a:r>
            <a:endParaRPr b="1" lang="en-US" sz="1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Line 147"/>
          <p:cNvSpPr/>
          <p:nvPr/>
        </p:nvSpPr>
        <p:spPr>
          <a:xfrm>
            <a:off x="1352520" y="518148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85320"/>
            <a:ext cx="80326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Frame-Subtraction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” 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echnique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754360" y="4524480"/>
            <a:ext cx="627048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ibration measurement</a:t>
            </a: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traction image</a:t>
            </a: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ringes analysis gives a direct idea of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eformation/vibration amplitude </a:t>
            </a: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ynamical limitations due to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ngitudinal speckle dimension</a:t>
            </a:r>
            <a:endParaRPr b="1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89" name="Immagine 2" descr=""/>
          <p:cNvPicPr/>
          <p:nvPr/>
        </p:nvPicPr>
        <p:blipFill>
          <a:blip r:embed="rId2"/>
          <a:stretch/>
        </p:blipFill>
        <p:spPr>
          <a:xfrm>
            <a:off x="5046840" y="1353960"/>
            <a:ext cx="3868560" cy="3251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5600" y="1407600"/>
            <a:ext cx="4735440" cy="280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at do we need?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337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70: video-recorder + electronic “hardware” subtract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337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day: frame-grabber + PC + subtraction “software” algorithm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is Technique can be applied als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 variable target deformation: a “real-time” software approach must be implemented for video-processing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magine 2" descr=""/>
          <p:cNvPicPr/>
          <p:nvPr/>
        </p:nvPicPr>
        <p:blipFill>
          <a:blip r:embed="rId1"/>
          <a:stretch/>
        </p:blipFill>
        <p:spPr>
          <a:xfrm>
            <a:off x="5545080" y="4284720"/>
            <a:ext cx="326232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24"/>
          <p:cNvGraphicFramePr/>
          <p:nvPr/>
        </p:nvGraphicFramePr>
        <p:xfrm>
          <a:off x="2381400" y="2660760"/>
          <a:ext cx="436248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81400" y="2660760"/>
                    <a:ext cx="4362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85320"/>
            <a:ext cx="80326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ESPI “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Frame-Subtraction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” 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echnique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160" y="1461960"/>
            <a:ext cx="8263080" cy="517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85840" indent="-285840">
              <a:lnSpc>
                <a:spcPct val="9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mbiguity on the sign of the target deformat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problem is overcome thanks to a technique call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“phase unwrapping”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wo possible implementation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1240" indent="-28548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SzPct val="65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oftwa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1240" indent="-28548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SzPct val="65000"/>
              <a:buFont typeface="Century Gothic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ardware (Optical phase-shift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06640" indent="-28584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cond acquisition with 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/16 displacement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664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of the beam splitter used for reference/measuring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664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elds in order to get a bi-dimensional distribution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664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of the fringes having a phase shift of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/2 (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/8)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664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ith respect to the first acquisition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2" marL="1106640" indent="-28584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in(</a:t>
            </a:r>
            <a:r>
              <a:rPr b="1" i="1" lang="el-GR" sz="1400" spc="-1" strike="noStrike">
                <a:solidFill>
                  <a:srgbClr val="000000"/>
                </a:solidFill>
                <a:latin typeface="Century Gothic"/>
              </a:rPr>
              <a:t>φ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) &amp; cos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l-GR" sz="1400" spc="-1" strike="noStrike">
                <a:solidFill>
                  <a:srgbClr val="000000"/>
                </a:solidFill>
                <a:latin typeface="Century Gothic"/>
              </a:rPr>
              <a:t>φ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) !!!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6:22:25Z</dcterms:created>
  <dc:creator>Enrico Maria Randone</dc:creator>
  <dc:description/>
  <dc:language>en-US</dc:language>
  <cp:lastModifiedBy>Notebook HP</cp:lastModifiedBy>
  <cp:lastPrinted>2005-04-20T16:35:40Z</cp:lastPrinted>
  <dcterms:modified xsi:type="dcterms:W3CDTF">2014-10-08T08:59:38Z</dcterms:modified>
  <cp:revision>138</cp:revision>
  <dc:subject/>
  <dc:title>Politecnico di Milano Corso di MISURE OTTICHE  ”INTERFEROMETRIA”</dc:title>
</cp:coreProperties>
</file>