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26.png" ContentType="image/png"/>
  <Override PartName="/ppt/media/image25.png" ContentType="image/png"/>
  <Override PartName="/ppt/media/image19.jpeg" ContentType="image/jpeg"/>
  <Override PartName="/ppt/media/image24.wmf" ContentType="image/x-wmf"/>
  <Override PartName="/ppt/media/image22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4.jpeg" ContentType="image/jpeg"/>
  <Override PartName="/ppt/media/image54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15.jpeg" ContentType="image/jpeg"/>
  <Override PartName="/ppt/media/image3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6.jpeg" ContentType="image/jpeg"/>
  <Override PartName="/ppt/media/image13.png" ContentType="image/png"/>
  <Override PartName="/ppt/media/image42.png" ContentType="image/png"/>
  <Override PartName="/ppt/media/image44.jpeg" ContentType="image/jpeg"/>
  <Override PartName="/ppt/media/image43.png" ContentType="image/png"/>
  <Override PartName="/ppt/media/image47.jpeg" ContentType="image/jpeg"/>
  <Override PartName="/ppt/media/image55.png" ContentType="image/png"/>
  <Override PartName="/ppt/media/image45.jpeg" ContentType="image/jpeg"/>
  <Override PartName="/ppt/media/image50.jpeg" ContentType="image/jpeg"/>
  <Override PartName="/ppt/media/image52.png" ContentType="image/png"/>
  <Override PartName="/ppt/media/image46.jpeg" ContentType="image/jpeg"/>
  <Override PartName="/ppt/media/image51.jpeg" ContentType="image/jpeg"/>
  <Override PartName="/ppt/media/image41.png" ContentType="image/png"/>
  <Override PartName="/ppt/media/image39.png" ContentType="image/png"/>
  <Override PartName="/ppt/media/image48.jpeg" ContentType="image/jpeg"/>
  <Override PartName="/ppt/media/image37.png" ContentType="image/png"/>
  <Override PartName="/ppt/media/image53.png" ContentType="image/png"/>
  <Override PartName="/ppt/media/image40.png" ContentType="image/png"/>
  <Override PartName="/ppt/media/image9.jpeg" ContentType="image/jpeg"/>
  <Override PartName="/ppt/media/image11.jpeg" ContentType="image/jpeg"/>
  <Override PartName="/ppt/media/image36.png" ContentType="image/png"/>
  <Override PartName="/ppt/media/image33.png" ContentType="image/png"/>
  <Override PartName="/ppt/media/image31.jpeg" ContentType="image/jpe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20.jpeg" ContentType="image/jpe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0634855-F53E-4DDD-9770-B99C7C7ABC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0000" cy="371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0000" y="4707000"/>
            <a:ext cx="4943520" cy="4456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715DE58-73EC-4FBC-AF3A-8072AAD7D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" Target="../slides/slide16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218880" y="4668480"/>
            <a:ext cx="6296040" cy="4984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ongiorno a tutt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no Cesare Svel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 Politecnico di Mil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sta mattina vi parlerò 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rgenti laser in contin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lle pricipal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r la lor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atter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veremo la struttura dei laser a stato solido e dei laser a semoconduttore (diodi las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la caratterizzazione di sorgent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aser in contin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ottici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ma par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 mio intervento sarà seguita da una lezione del Prof. Elio Bava s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delli descrittivi dell’instabilità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sulle relative tecniche di mis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l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conda met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la mia presentazione descriverò, dal punto di vista sperimentale, alcun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todi ed esperienze di stabil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la realizzazione d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ottici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562" name=""/>
          <p:cNvSpPr/>
          <p:nvPr/>
        </p:nvSpPr>
        <p:spPr>
          <a:xfrm>
            <a:off x="219240" y="4641840"/>
            <a:ext cx="629604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00000" y="4707000"/>
            <a:ext cx="49435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565" name=""/>
          <p:cNvSpPr/>
          <p:nvPr/>
        </p:nvSpPr>
        <p:spPr>
          <a:xfrm>
            <a:off x="219240" y="4641840"/>
            <a:ext cx="629604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00000" y="4707000"/>
            <a:ext cx="49435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568" name=""/>
          <p:cNvSpPr/>
          <p:nvPr/>
        </p:nvSpPr>
        <p:spPr>
          <a:xfrm>
            <a:off x="219240" y="4641840"/>
            <a:ext cx="629604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00000" y="4707000"/>
            <a:ext cx="49435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571" name=""/>
          <p:cNvSpPr/>
          <p:nvPr/>
        </p:nvSpPr>
        <p:spPr>
          <a:xfrm>
            <a:off x="219240" y="4641840"/>
            <a:ext cx="629604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00000" y="4707000"/>
            <a:ext cx="49435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574" name=""/>
          <p:cNvSpPr/>
          <p:nvPr/>
        </p:nvSpPr>
        <p:spPr>
          <a:xfrm>
            <a:off x="219240" y="4641840"/>
            <a:ext cx="629604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00000" y="4707000"/>
            <a:ext cx="49435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577" name=""/>
          <p:cNvSpPr/>
          <p:nvPr/>
        </p:nvSpPr>
        <p:spPr>
          <a:xfrm>
            <a:off x="219240" y="4641840"/>
            <a:ext cx="629604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00000" y="4707000"/>
            <a:ext cx="49435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0000" cy="3711600"/>
          </a:xfrm>
          <a:prstGeom prst="rect">
            <a:avLst/>
          </a:prstGeom>
          <a:ln w="0">
            <a:noFill/>
          </a:ln>
        </p:spPr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900000" y="6570720"/>
            <a:ext cx="4943520" cy="72864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314280" y="7832880"/>
            <a:ext cx="6429600" cy="71280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218880" y="4656240"/>
            <a:ext cx="6296040" cy="4456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po una bre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trodu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ull’argomento e su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ncipali caratteristiche degli oscillatori la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dremo più in dettagli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ruttura di una sorgente la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ncipi fisic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permettono l’azione laser, e 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isonatori ottic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questo punto descriveremo in dettagli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lcune proprietà caratteristiche dei fasci la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eremo quindi 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sure della potenza otti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dicando metodi e strumenti adatti allo sco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 seguito vedremo come si effettua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atterizzazione del profilo spazia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l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g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un fascio las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ine illustreremo metodi e strumenti per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sura della lunghezza d’ond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llo spettro di emiss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ì si concluderà la prima parte di questo interv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299520" y="4556160"/>
            <a:ext cx="6218280" cy="5097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amo dire che abbiamo descrit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 principi fisic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u cui si basa l’azione laser 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 dispositiv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consento di costruire una sorgente laser in continu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ndi, abbiamo vis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 principali propriet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i fasci laser 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 mi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d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tenza otti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n gli associat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ivelat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d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filo trasversa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del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unghezza d’ond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ll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pettro otti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no poi stati descritti alcun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todi e sistem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r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abil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n ampiezza e frequenz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lle sorgenti lase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 ultimo, abbiam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iporta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lcuni esempi d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di frequenza otti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dop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’invenzione del la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le su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me realizzazion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i usava dire che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*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gg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ossiamo dire che gl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rumenti la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rovan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vasta applic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diversi campi del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icerca scientifi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el setto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cnologico-produttiv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p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 misure opto-elettron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585" name=""/>
          <p:cNvSpPr/>
          <p:nvPr/>
        </p:nvSpPr>
        <p:spPr>
          <a:xfrm>
            <a:off x="219240" y="4870440"/>
            <a:ext cx="629604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portiamo, infine,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iferimen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d alcun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sti scientific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possono essere usati p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pprofondimenti sugli argomenti presenta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’ sta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n privilegi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n piac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segnare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questa Scuol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azie per la vostra attenzi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541" name=""/>
          <p:cNvSpPr/>
          <p:nvPr/>
        </p:nvSpPr>
        <p:spPr>
          <a:xfrm>
            <a:off x="219240" y="4641840"/>
            <a:ext cx="629604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00000" y="4707000"/>
            <a:ext cx="49435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544" name=""/>
          <p:cNvSpPr/>
          <p:nvPr/>
        </p:nvSpPr>
        <p:spPr>
          <a:xfrm>
            <a:off x="219240" y="4641840"/>
            <a:ext cx="629604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00000" y="4707000"/>
            <a:ext cx="49435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547" name=""/>
          <p:cNvSpPr/>
          <p:nvPr/>
        </p:nvSpPr>
        <p:spPr>
          <a:xfrm>
            <a:off x="219240" y="4641840"/>
            <a:ext cx="629604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00000" y="4707000"/>
            <a:ext cx="49435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550" name=""/>
          <p:cNvSpPr/>
          <p:nvPr/>
        </p:nvSpPr>
        <p:spPr>
          <a:xfrm>
            <a:off x="219240" y="4641840"/>
            <a:ext cx="629604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00000" y="4707000"/>
            <a:ext cx="49435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553" name=""/>
          <p:cNvSpPr/>
          <p:nvPr/>
        </p:nvSpPr>
        <p:spPr>
          <a:xfrm>
            <a:off x="219240" y="4641840"/>
            <a:ext cx="629604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00000" y="4707000"/>
            <a:ext cx="49435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556" name=""/>
          <p:cNvSpPr/>
          <p:nvPr/>
        </p:nvSpPr>
        <p:spPr>
          <a:xfrm>
            <a:off x="219240" y="4641840"/>
            <a:ext cx="629604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00000" y="4707000"/>
            <a:ext cx="49435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559" name=""/>
          <p:cNvSpPr/>
          <p:nvPr/>
        </p:nvSpPr>
        <p:spPr>
          <a:xfrm>
            <a:off x="219240" y="4641840"/>
            <a:ext cx="629604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00000" y="4707000"/>
            <a:ext cx="49435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13FF-10C4-4509-A4EE-8D414D456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23680" y="416340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7441-803C-4E99-88DC-F26D4E809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478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47CF-9E2B-4D6A-8759-55239B8DD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104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840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2368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104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840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9AE1-8105-4CC9-A737-CB2E3CF36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91C10-DC96-479A-940B-0E0E7E5103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04F75-DC16-4DA6-B5D5-FA92F62252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F6588-AEC8-47F3-BFD2-637A16AFC5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78B90-0A1A-48C7-AB4E-773E7C03EC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0BFBE-27AE-4492-9706-D374693319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2640" y="533160"/>
            <a:ext cx="6629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510F-64BA-4316-AF0B-A1A75606AB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10307-369A-4F21-ABEA-6FF65E719A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87D6-CE23-4E3B-8991-8F4A986D7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478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5337-0909-4FAC-8DAF-EB70B26959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37A58-36F6-4C26-AB2A-19C3112E77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3680" y="416340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3E4E4-09E9-4DC2-8857-8037323238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478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9140F-AD64-4CD7-A466-F4C6FF2A3C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104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3840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368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104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3840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3F9D1-68EB-4246-93DF-412F581BAF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9CE6-9013-4BAD-B767-A991B85B4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8495-D109-4BC9-98D6-B0FD9B2FF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0D58-1752-4979-91C8-EDF94CDBA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533160"/>
            <a:ext cx="6629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9734-DF00-405E-870D-3E2EF910F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0616-3360-4175-A66B-B0DBDD34D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478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E2D6-9166-42FA-9EFD-A69FDCB39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9BCC-56D5-4A1D-9991-260873ECF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2" marL="985680" indent="-20448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3" marL="1306440" indent="-20628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4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5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6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55272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A8527EFE-2523-4851-82EB-DBA21590A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0" y="685800"/>
            <a:ext cx="914400" cy="712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304920"/>
            <a:ext cx="7095960" cy="316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26560" y="1295280"/>
            <a:ext cx="1117440" cy="208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4038480"/>
            <a:ext cx="6629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843120"/>
            <a:ext cx="914400" cy="712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425520"/>
            <a:ext cx="7095960" cy="316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26560" y="1655640"/>
            <a:ext cx="1117440" cy="208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2"/>
          </p:nvPr>
        </p:nvSpPr>
        <p:spPr>
          <a:xfrm>
            <a:off x="4114800" y="632412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800" spc="-1" strike="noStrike">
                <a:solidFill>
                  <a:srgbClr val="000000"/>
                </a:solidFill>
                <a:latin typeface="Univer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A7523CEF-187D-441A-8AF8-7B2C172BA66E}" type="slidenum">
              <a:rPr b="0" lang="en-US" sz="800" spc="-1" strike="noStrike">
                <a:solidFill>
                  <a:srgbClr val="000000"/>
                </a:solidFill>
                <a:latin typeface="Univers Condensed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143000" y="6294600"/>
            <a:ext cx="1104840" cy="21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934320" y="6172200"/>
            <a:ext cx="831600" cy="41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101080" y="333360"/>
            <a:ext cx="955440" cy="924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121520" cy="20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Optical Measurements</a:t>
            </a: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”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ster Degree in Engineer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utomation-, Electronics-, Physics-, Telecommunication- Engineering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4" name=""/>
          <p:cNvSpPr/>
          <p:nvPr/>
        </p:nvSpPr>
        <p:spPr>
          <a:xfrm>
            <a:off x="744480" y="1562040"/>
            <a:ext cx="769788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40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Optical Measurement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Instrumentation</a:t>
            </a:r>
            <a:br>
              <a:rPr sz="4800"/>
            </a:br>
            <a:br>
              <a:rPr sz="48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rof. </a:t>
            </a: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Cesare Svelto</a:t>
            </a:r>
            <a:br>
              <a:rPr sz="3200"/>
            </a:br>
            <a:br>
              <a:rPr sz="800"/>
            </a:b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olitecnico di Milan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A4ED6-7F50-47A1-9E4E-119A68E615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Wave-Meter for DWDM system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70" name=""/>
          <p:cNvSpPr/>
          <p:nvPr/>
        </p:nvSpPr>
        <p:spPr>
          <a:xfrm>
            <a:off x="33289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5768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133720" y="1143000"/>
            <a:ext cx="4978440" cy="30448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47920" y="3952800"/>
            <a:ext cx="6248160" cy="2176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multaneous meas. up to 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256 channel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=0.3 pm (300fm!)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=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0.1 pm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as.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eak power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otal power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tomatic meas.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NR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pacing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Waterfall diagram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C93E-C452-4DAA-9BF3-5357C55612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09680" y="4037040"/>
            <a:ext cx="8381880" cy="20559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2640" y="47592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pectrometer and monochromator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379404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61360" indent="-26136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Book Antiqua"/>
              </a:rPr>
              <a:t>Tunable monochromator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rcRect l="0" t="0" r="0" b="846"/>
          <a:stretch/>
        </p:blipFill>
        <p:spPr>
          <a:xfrm>
            <a:off x="228600" y="1181160"/>
            <a:ext cx="3838680" cy="2509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4343400" y="1638360"/>
            <a:ext cx="4443480" cy="2077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752480" y="1257480"/>
            <a:ext cx="2654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ctr" pos="537228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9966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996600"/>
                </a:solidFill>
                <a:latin typeface="Book Antiqua"/>
              </a:rPr>
              <a:t>=</a:t>
            </a:r>
            <a:r>
              <a:rPr b="1" i="1" lang="en-US" sz="2000" spc="-1" strike="noStrike">
                <a:solidFill>
                  <a:srgbClr val="996600"/>
                </a:solidFill>
                <a:latin typeface="Book Antiqua"/>
              </a:rPr>
              <a:t>K</a:t>
            </a:r>
            <a:r>
              <a:rPr b="1" lang="en-US" sz="2000" spc="-1" strike="noStrike" baseline="-25000">
                <a:solidFill>
                  <a:srgbClr val="996600"/>
                </a:solidFill>
                <a:latin typeface="Book Antiqua"/>
              </a:rPr>
              <a:t>d</a:t>
            </a:r>
            <a:r>
              <a:rPr b="1" lang="en-US" sz="2000" spc="-1" strike="noStrike">
                <a:solidFill>
                  <a:srgbClr val="996600"/>
                </a:solidFill>
                <a:latin typeface="Symbol"/>
                <a:ea typeface="Symbol"/>
              </a:rPr>
              <a:t></a:t>
            </a:r>
            <a:r>
              <a:rPr b="1" i="1" lang="en-US" sz="20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56000" y="1095480"/>
            <a:ext cx="2654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ctr" pos="537228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Book Antiqua"/>
              </a:rPr>
              <a:t>K</a:t>
            </a:r>
            <a:r>
              <a:rPr b="1" lang="en-US" sz="2000" spc="-1" strike="noStrike" baseline="-25000">
                <a:solidFill>
                  <a:srgbClr val="996600"/>
                </a:solidFill>
                <a:latin typeface="Book Antiqua"/>
              </a:rPr>
              <a:t>d</a:t>
            </a:r>
            <a:r>
              <a:rPr b="1" lang="en-US" sz="2000" spc="-1" strike="noStrike">
                <a:solidFill>
                  <a:srgbClr val="996600"/>
                </a:solidFill>
                <a:latin typeface="Book Antiqua"/>
              </a:rPr>
              <a:t>=(d</a:t>
            </a:r>
            <a:r>
              <a:rPr b="1" i="1" lang="en-US" sz="2000" spc="-1" strike="noStrike">
                <a:solidFill>
                  <a:srgbClr val="996600"/>
                </a:solidFill>
                <a:latin typeface="Symbol"/>
                <a:ea typeface="Symbol"/>
              </a:rPr>
              <a:t></a:t>
            </a:r>
            <a:r>
              <a:rPr b="1" i="1" lang="en-US" sz="1400" spc="-1" strike="noStrike">
                <a:solidFill>
                  <a:srgbClr val="9966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996600"/>
                </a:solidFill>
                <a:latin typeface="Book Antiqua"/>
              </a:rPr>
              <a:t>/d</a:t>
            </a:r>
            <a:r>
              <a:rPr b="1" i="1" lang="en-US" sz="20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996600"/>
                </a:solidFill>
                <a:latin typeface="Book Antiqu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537228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Book Antiqua"/>
              </a:rPr>
              <a:t>dispersiv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55480" y="4226040"/>
            <a:ext cx="8424720" cy="2403000"/>
            <a:chOff x="555480" y="4226040"/>
            <a:chExt cx="8424720" cy="2403000"/>
          </a:xfrm>
        </p:grpSpPr>
        <p:grpSp>
          <p:nvGrpSpPr>
            <p:cNvPr id="282" name=""/>
            <p:cNvGrpSpPr/>
            <p:nvPr/>
          </p:nvGrpSpPr>
          <p:grpSpPr>
            <a:xfrm>
              <a:off x="555480" y="5938560"/>
              <a:ext cx="8424720" cy="690480"/>
              <a:chOff x="555480" y="5938560"/>
              <a:chExt cx="8424720" cy="690480"/>
            </a:xfrm>
          </p:grpSpPr>
          <p:sp>
            <p:nvSpPr>
              <p:cNvPr id="283" name=""/>
              <p:cNvSpPr/>
              <p:nvPr/>
            </p:nvSpPr>
            <p:spPr>
              <a:xfrm>
                <a:off x="555480" y="5938560"/>
                <a:ext cx="7473960" cy="69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371160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2200" spc="-1" strike="noStrike">
                    <a:solidFill>
                      <a:srgbClr val="996600"/>
                    </a:solidFill>
                    <a:latin typeface="Book Antiqua"/>
                  </a:rPr>
                  <a:t>(spectral) resolving power</a:t>
                </a:r>
                <a:r>
                  <a:rPr b="1" lang="en-US" sz="2200" spc="-1" strike="noStrike">
                    <a:solidFill>
                      <a:srgbClr val="996600"/>
                    </a:solidFill>
                    <a:latin typeface="Book Antiqua"/>
                  </a:rPr>
                  <a:t>	</a:t>
                </a:r>
                <a:r>
                  <a:rPr b="1" i="1" lang="en-US" sz="2200" spc="-1" strike="noStrike">
                    <a:solidFill>
                      <a:srgbClr val="996600"/>
                    </a:solidFill>
                    <a:latin typeface="Book Antiqua"/>
                  </a:rPr>
                  <a:t>r </a:t>
                </a:r>
                <a:r>
                  <a:rPr b="1" lang="en-US" sz="2200" spc="-1" strike="noStrike">
                    <a:solidFill>
                      <a:srgbClr val="996600"/>
                    </a:solidFill>
                    <a:latin typeface="Book Antiqua"/>
                  </a:rPr>
                  <a:t>= | </a:t>
                </a:r>
                <a:r>
                  <a:rPr b="1" lang="en-US" sz="2200" spc="-1" strike="noStrike">
                    <a:solidFill>
                      <a:srgbClr val="996600"/>
                    </a:solidFill>
                    <a:latin typeface="Symbol"/>
                    <a:ea typeface="Symbol"/>
                  </a:rPr>
                  <a:t></a:t>
                </a:r>
                <a:r>
                  <a:rPr b="1" i="1" lang="en-US" sz="2200" spc="-1" strike="noStrike">
                    <a:solidFill>
                      <a:srgbClr val="9966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2200" spc="-1" strike="noStrike" baseline="-25000">
                    <a:solidFill>
                      <a:srgbClr val="996600"/>
                    </a:solidFill>
                    <a:latin typeface="Book Antiqua"/>
                  </a:rPr>
                  <a:t>min </a:t>
                </a:r>
                <a:r>
                  <a:rPr b="1" lang="en-US" sz="2200" spc="-1" strike="noStrike">
                    <a:solidFill>
                      <a:srgbClr val="996600"/>
                    </a:solidFill>
                    <a:latin typeface="Book Antiqua"/>
                  </a:rPr>
                  <a:t>/ </a:t>
                </a:r>
                <a:r>
                  <a:rPr b="1" i="1" lang="en-US" sz="2200" spc="-1" strike="noStrike">
                    <a:solidFill>
                      <a:srgbClr val="9966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2200" spc="-1" strike="noStrike">
                    <a:solidFill>
                      <a:srgbClr val="996600"/>
                    </a:solidFill>
                    <a:latin typeface="Book Antiqua"/>
                  </a:rPr>
                  <a:t> | = | </a:t>
                </a:r>
                <a:r>
                  <a:rPr b="1" lang="en-US" sz="2200" spc="-1" strike="noStrike">
                    <a:solidFill>
                      <a:srgbClr val="996600"/>
                    </a:solidFill>
                    <a:latin typeface="Symbol"/>
                    <a:ea typeface="Symbol"/>
                  </a:rPr>
                  <a:t></a:t>
                </a:r>
                <a:r>
                  <a:rPr b="1" i="1" lang="en-US" sz="2200" spc="-1" strike="noStrike">
                    <a:solidFill>
                      <a:srgbClr val="996600"/>
                    </a:solidFill>
                    <a:latin typeface="Symbol"/>
                    <a:ea typeface="Symbol"/>
                  </a:rPr>
                  <a:t></a:t>
                </a:r>
                <a:r>
                  <a:rPr b="1" lang="en-US" sz="2200" spc="-1" strike="noStrike" baseline="-25000">
                    <a:solidFill>
                      <a:srgbClr val="996600"/>
                    </a:solidFill>
                    <a:latin typeface="Book Antiqua"/>
                  </a:rPr>
                  <a:t>min</a:t>
                </a:r>
                <a:r>
                  <a:rPr b="1" i="1" lang="en-US" sz="2200" spc="-1" strike="noStrike">
                    <a:solidFill>
                      <a:srgbClr val="996600"/>
                    </a:solidFill>
                    <a:latin typeface="Book Antiqua"/>
                  </a:rPr>
                  <a:t> </a:t>
                </a:r>
                <a:r>
                  <a:rPr b="1" lang="en-US" sz="2200" spc="-1" strike="noStrike">
                    <a:solidFill>
                      <a:srgbClr val="996600"/>
                    </a:solidFill>
                    <a:latin typeface="Book Antiqua"/>
                  </a:rPr>
                  <a:t>/ </a:t>
                </a:r>
                <a:r>
                  <a:rPr b="1" i="1" lang="en-US" sz="2200" spc="-1" strike="noStrike">
                    <a:solidFill>
                      <a:srgbClr val="996600"/>
                    </a:solidFill>
                    <a:latin typeface="Symbol"/>
                    <a:ea typeface="Symbol"/>
                  </a:rPr>
                  <a:t></a:t>
                </a:r>
                <a:r>
                  <a:rPr b="1" lang="en-US" sz="2200" spc="-1" strike="noStrike">
                    <a:solidFill>
                      <a:srgbClr val="996600"/>
                    </a:solidFill>
                    <a:latin typeface="Book Antiqua"/>
                  </a:rPr>
                  <a:t> |</a:t>
                </a:r>
                <a:br>
                  <a:rPr sz="2200"/>
                </a:br>
                <a:r>
                  <a:rPr b="1" lang="en-US" sz="2200" spc="-1" strike="noStrike">
                    <a:solidFill>
                      <a:srgbClr val="996600"/>
                    </a:solidFill>
                    <a:latin typeface="Book Antiqua"/>
                  </a:rPr>
                  <a:t>spectral res. (</a:t>
                </a:r>
                <a:r>
                  <a:rPr b="1" lang="en-US" sz="2200" spc="-1" strike="noStrike">
                    <a:solidFill>
                      <a:srgbClr val="996600"/>
                    </a:solidFill>
                    <a:latin typeface="Symbol"/>
                    <a:ea typeface="Symbol"/>
                  </a:rPr>
                  <a:t></a:t>
                </a:r>
                <a:r>
                  <a:rPr b="1" lang="en-US" sz="2200" spc="-1" strike="noStrike">
                    <a:solidFill>
                      <a:srgbClr val="996600"/>
                    </a:solidFill>
                    <a:latin typeface="Book Antiqua"/>
                  </a:rPr>
                  <a:t> angular res.)  </a:t>
                </a:r>
                <a:r>
                  <a:rPr b="1" lang="en-US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</a:t>
                </a:r>
                <a:r>
                  <a:rPr b="1" i="1" lang="en-US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</a:t>
                </a:r>
                <a:r>
                  <a:rPr b="1" i="1" lang="en-US" sz="2200" spc="-1" strike="noStrike" baseline="-25000">
                    <a:solidFill>
                      <a:srgbClr val="ff0000"/>
                    </a:solidFill>
                    <a:latin typeface="Book Antiqua"/>
                  </a:rPr>
                  <a:t>typ</a:t>
                </a:r>
                <a:r>
                  <a:rPr b="1" lang="en-US" sz="2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</a:t>
                </a:r>
                <a:r>
                  <a:rPr b="1" lang="en-US" sz="2200" spc="-1" strike="noStrike">
                    <a:solidFill>
                      <a:srgbClr val="ff0000"/>
                    </a:solidFill>
                    <a:latin typeface="Book Antiqua"/>
                  </a:rPr>
                  <a:t>0.01nm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027480" y="6268680"/>
                <a:ext cx="295272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9000"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371160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Book Antiqua"/>
                  </a:rPr>
                  <a:t>(</a:t>
                </a: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Book Antiqua"/>
                  </a:rPr>
                  <a:t>10 pm &gt;&gt; 0.1-100 fm=</a:t>
                </a:r>
                <a:r>
                  <a:rPr b="1" i="1" lang="en-US" sz="1800" spc="-1" strike="noStrike" u="sng">
                    <a:solidFill>
                      <a:srgbClr val="ff0000"/>
                    </a:solidFill>
                    <a:uFillTx/>
                    <a:latin typeface="Book Antiqua"/>
                  </a:rPr>
                  <a:t>R</a:t>
                </a:r>
                <a:r>
                  <a:rPr b="1" lang="en-US" sz="1800" spc="-1" strike="noStrike" u="sng" baseline="-25000">
                    <a:solidFill>
                      <a:srgbClr val="ff0000"/>
                    </a:solidFill>
                    <a:uFillTx/>
                    <a:latin typeface="Book Antiqua"/>
                  </a:rPr>
                  <a:t>W-M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Book Antiqua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5" name="" descr=""/>
            <p:cNvPicPr/>
            <p:nvPr/>
          </p:nvPicPr>
          <p:blipFill>
            <a:blip r:embed="rId5"/>
            <a:stretch/>
          </p:blipFill>
          <p:spPr>
            <a:xfrm>
              <a:off x="3020760" y="4226040"/>
              <a:ext cx="1729080" cy="164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6478560" y="2852640"/>
            <a:ext cx="792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ctr" pos="537228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6000" y="3081240"/>
            <a:ext cx="2887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95640" y="3487680"/>
            <a:ext cx="18716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46400" y="1822320"/>
            <a:ext cx="88920" cy="8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1809720"/>
            <a:ext cx="428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1803240"/>
            <a:ext cx="42840" cy="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56120" y="1809720"/>
            <a:ext cx="428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14720" y="1841400"/>
            <a:ext cx="42840" cy="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75120" y="2762280"/>
            <a:ext cx="903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D7A5-60B8-43C9-86F4-8E2D61D605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239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SA: functional scheme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8280" y="1239840"/>
            <a:ext cx="3124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73600" indent="-27360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Book Antiqua"/>
              </a:rPr>
              <a:t>traditional OSA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273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996600"/>
                </a:solidFill>
                <a:latin typeface="Book Antiqua"/>
              </a:rPr>
              <a:t>(monochromator with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273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996600"/>
                </a:solidFill>
                <a:latin typeface="Book Antiqua"/>
              </a:rPr>
              <a:t>rotating prism/grating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97" name=""/>
          <p:cNvSpPr/>
          <p:nvPr/>
        </p:nvSpPr>
        <p:spPr>
          <a:xfrm>
            <a:off x="-685800" y="2895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07800" indent="-307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539640" y="2251080"/>
            <a:ext cx="2951280" cy="271944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5076720" y="1905120"/>
            <a:ext cx="3598920" cy="4044960"/>
            <a:chOff x="5076720" y="1905120"/>
            <a:chExt cx="3598920" cy="4044960"/>
          </a:xfrm>
        </p:grpSpPr>
        <p:sp>
          <p:nvSpPr>
            <p:cNvPr id="300" name=""/>
            <p:cNvSpPr/>
            <p:nvPr/>
          </p:nvSpPr>
          <p:spPr>
            <a:xfrm>
              <a:off x="5181480" y="1905120"/>
              <a:ext cx="349416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07800" indent="-307800">
                <a:lnSpc>
                  <a:spcPct val="90000"/>
                </a:lnSpc>
                <a:spcBef>
                  <a:spcPts val="499"/>
                </a:spcBef>
                <a:buClr>
                  <a:srgbClr val="996600"/>
                </a:buClr>
                <a:buFont typeface="Book Antiqua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996600"/>
                  </a:solidFill>
                  <a:latin typeface="Book Antiqua"/>
                </a:rPr>
                <a:t>narrow-band “field” O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07800" indent="-3078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996600"/>
                  </a:solidFill>
                  <a:latin typeface="Book Antiqua"/>
                </a:rPr>
                <a:t>	</a:t>
              </a:r>
              <a:r>
                <a:rPr b="1" i="1" lang="en-US" sz="2000" spc="-1" strike="noStrike">
                  <a:solidFill>
                    <a:srgbClr val="996600"/>
                  </a:solidFill>
                  <a:latin typeface="Book Antiqua"/>
                </a:rPr>
                <a:t>shock-resist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07800" indent="-3078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996600"/>
                  </a:solidFill>
                  <a:latin typeface="Book Antiqua"/>
                </a:rPr>
                <a:t>	</a:t>
              </a:r>
              <a:r>
                <a:rPr b="1" lang="en-US" sz="2000" spc="-1" strike="noStrike">
                  <a:solidFill>
                    <a:srgbClr val="996600"/>
                  </a:solidFill>
                  <a:latin typeface="Book Antiqua"/>
                </a:rPr>
                <a:t>(fixed </a:t>
              </a:r>
              <a:r>
                <a:rPr b="1" i="1" lang="en-US" sz="2000" spc="-1" strike="noStrike">
                  <a:solidFill>
                    <a:srgbClr val="996600"/>
                  </a:solidFill>
                  <a:latin typeface="Book Antiqua"/>
                </a:rPr>
                <a:t>grating</a:t>
              </a:r>
              <a:r>
                <a:rPr b="1" lang="en-US" sz="2000" spc="-1" strike="noStrike">
                  <a:solidFill>
                    <a:srgbClr val="996600"/>
                  </a:solidFill>
                  <a:latin typeface="Book Antiqua"/>
                </a:rPr>
                <a:t> and </a:t>
              </a:r>
              <a:br>
                <a:rPr sz="2000"/>
              </a:br>
              <a:r>
                <a:rPr b="1" lang="en-US" sz="2000" spc="-1" strike="noStrike">
                  <a:solidFill>
                    <a:srgbClr val="996600"/>
                  </a:solidFill>
                  <a:latin typeface="Book Antiqua"/>
                </a:rPr>
                <a:t>moving detector or better fixed CCD arra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3"/>
            <a:stretch/>
          </p:blipFill>
          <p:spPr>
            <a:xfrm>
              <a:off x="5076720" y="3565440"/>
              <a:ext cx="3441960" cy="238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539640" y="5000760"/>
            <a:ext cx="2952720" cy="183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C54C-7907-4031-A5F9-FD46511C44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214720" y="5168880"/>
            <a:ext cx="3581280" cy="685800"/>
          </a:xfrm>
          <a:custGeom>
            <a:avLst/>
            <a:gdLst/>
            <a:ahLst/>
            <a:rect l="l" t="t" r="r" b="b"/>
            <a:pathLst>
              <a:path w="2256" h="432">
                <a:moveTo>
                  <a:pt x="0" y="432"/>
                </a:moveTo>
                <a:lnTo>
                  <a:pt x="576" y="432"/>
                </a:lnTo>
                <a:lnTo>
                  <a:pt x="672" y="432"/>
                </a:lnTo>
                <a:lnTo>
                  <a:pt x="720" y="336"/>
                </a:lnTo>
                <a:lnTo>
                  <a:pt x="768" y="240"/>
                </a:lnTo>
                <a:lnTo>
                  <a:pt x="816" y="96"/>
                </a:lnTo>
                <a:lnTo>
                  <a:pt x="864" y="48"/>
                </a:lnTo>
                <a:lnTo>
                  <a:pt x="960" y="0"/>
                </a:lnTo>
                <a:lnTo>
                  <a:pt x="1008" y="48"/>
                </a:lnTo>
                <a:lnTo>
                  <a:pt x="1056" y="144"/>
                </a:lnTo>
                <a:lnTo>
                  <a:pt x="1104" y="240"/>
                </a:lnTo>
                <a:lnTo>
                  <a:pt x="1152" y="336"/>
                </a:lnTo>
                <a:lnTo>
                  <a:pt x="1200" y="384"/>
                </a:lnTo>
                <a:lnTo>
                  <a:pt x="1296" y="432"/>
                </a:lnTo>
                <a:lnTo>
                  <a:pt x="1440" y="432"/>
                </a:lnTo>
                <a:lnTo>
                  <a:pt x="1680" y="432"/>
                </a:lnTo>
                <a:lnTo>
                  <a:pt x="2016" y="432"/>
                </a:lnTo>
                <a:lnTo>
                  <a:pt x="2256" y="432"/>
                </a:lnTo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62360" y="5168880"/>
            <a:ext cx="3581280" cy="685800"/>
          </a:xfrm>
          <a:custGeom>
            <a:avLst/>
            <a:gdLst/>
            <a:ahLst/>
            <a:rect l="l" t="t" r="r" b="b"/>
            <a:pathLst>
              <a:path w="2256" h="432">
                <a:moveTo>
                  <a:pt x="0" y="432"/>
                </a:moveTo>
                <a:lnTo>
                  <a:pt x="576" y="432"/>
                </a:lnTo>
                <a:lnTo>
                  <a:pt x="672" y="432"/>
                </a:lnTo>
                <a:lnTo>
                  <a:pt x="720" y="336"/>
                </a:lnTo>
                <a:lnTo>
                  <a:pt x="768" y="240"/>
                </a:lnTo>
                <a:lnTo>
                  <a:pt x="816" y="96"/>
                </a:lnTo>
                <a:lnTo>
                  <a:pt x="864" y="48"/>
                </a:lnTo>
                <a:lnTo>
                  <a:pt x="960" y="0"/>
                </a:lnTo>
                <a:lnTo>
                  <a:pt x="1008" y="48"/>
                </a:lnTo>
                <a:lnTo>
                  <a:pt x="1056" y="144"/>
                </a:lnTo>
                <a:lnTo>
                  <a:pt x="1104" y="240"/>
                </a:lnTo>
                <a:lnTo>
                  <a:pt x="1152" y="336"/>
                </a:lnTo>
                <a:lnTo>
                  <a:pt x="1200" y="384"/>
                </a:lnTo>
                <a:lnTo>
                  <a:pt x="1296" y="432"/>
                </a:lnTo>
                <a:lnTo>
                  <a:pt x="1440" y="432"/>
                </a:lnTo>
                <a:lnTo>
                  <a:pt x="1680" y="432"/>
                </a:lnTo>
                <a:lnTo>
                  <a:pt x="2016" y="432"/>
                </a:lnTo>
                <a:lnTo>
                  <a:pt x="2256" y="432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61960" y="2311560"/>
            <a:ext cx="228600" cy="3808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62040" y="2311560"/>
            <a:ext cx="381240" cy="3808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Book Antiqua"/>
              </a:rPr>
              <a:t>Ultra-compact OSA (PC board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08" name=""/>
          <p:cNvSpPr/>
          <p:nvPr/>
        </p:nvSpPr>
        <p:spPr>
          <a:xfrm>
            <a:off x="-685800" y="2895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07800" indent="-307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66960" y="2313000"/>
            <a:ext cx="228600" cy="3808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68480" y="2465280"/>
            <a:ext cx="7632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95480" y="2465280"/>
            <a:ext cx="176400" cy="763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990440" y="2476440"/>
            <a:ext cx="14040" cy="428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27240" y="2465280"/>
            <a:ext cx="7632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66720" y="2311560"/>
            <a:ext cx="0" cy="380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257480" y="2311560"/>
            <a:ext cx="3045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1257480" y="2539800"/>
            <a:ext cx="3045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66760" y="246384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66760" y="254016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9440" y="20448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optical 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0280" y="2008080"/>
            <a:ext cx="76320" cy="990720"/>
          </a:xfrm>
          <a:prstGeom prst="ellipse">
            <a:avLst/>
          </a:prstGeom>
          <a:solidFill>
            <a:srgbClr val="63a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171880" y="2312640"/>
            <a:ext cx="457200" cy="152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71880" y="2541600"/>
            <a:ext cx="457200" cy="152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629080" y="2313000"/>
            <a:ext cx="1752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628720" y="2693880"/>
            <a:ext cx="1904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957120" y="1945440"/>
            <a:ext cx="950040" cy="1091880"/>
            <a:chOff x="3957120" y="1945440"/>
            <a:chExt cx="950040" cy="1091880"/>
          </a:xfrm>
        </p:grpSpPr>
        <p:sp>
          <p:nvSpPr>
            <p:cNvPr id="326" name=""/>
            <p:cNvSpPr/>
            <p:nvPr/>
          </p:nvSpPr>
          <p:spPr>
            <a:xfrm flipH="1">
              <a:off x="4055040" y="1945440"/>
              <a:ext cx="67680" cy="15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152600" y="2061720"/>
              <a:ext cx="6804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152960" y="2178720"/>
              <a:ext cx="165960" cy="3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957120" y="1945440"/>
              <a:ext cx="165600" cy="3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055040" y="2064240"/>
              <a:ext cx="165600" cy="3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250160" y="2179800"/>
              <a:ext cx="67320" cy="15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348440" y="2297160"/>
              <a:ext cx="6768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4447080" y="2414520"/>
              <a:ext cx="6768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447440" y="2530800"/>
              <a:ext cx="165600" cy="3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4251240" y="2297520"/>
              <a:ext cx="165600" cy="3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349520" y="2416320"/>
              <a:ext cx="165240" cy="3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544280" y="2531880"/>
              <a:ext cx="67320" cy="15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642560" y="2647440"/>
              <a:ext cx="68040" cy="1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741560" y="2764440"/>
              <a:ext cx="6732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741560" y="2880720"/>
              <a:ext cx="165600" cy="3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545360" y="2647440"/>
              <a:ext cx="165960" cy="3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643640" y="2766240"/>
              <a:ext cx="165240" cy="3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839480" y="2881080"/>
              <a:ext cx="6732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H="1">
            <a:off x="2781000" y="2313000"/>
            <a:ext cx="1600200" cy="12952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390480" y="2687760"/>
            <a:ext cx="1143000" cy="9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81360" y="3608280"/>
            <a:ext cx="60948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10160" y="3608280"/>
            <a:ext cx="6094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171880" y="3608280"/>
            <a:ext cx="6094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714680" y="144756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5370480" y="142524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706400" y="144792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714680" y="419112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18400" y="16844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81640" y="1598760"/>
            <a:ext cx="105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gra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962520" y="1779480"/>
            <a:ext cx="190440" cy="200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4152960" y="1779480"/>
            <a:ext cx="91440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44560" y="4205160"/>
            <a:ext cx="35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CD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( Si, InGaS, IR-pushed-InGaAs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74920" y="5924520"/>
            <a:ext cx="518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474920" y="46292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0960" y="4649760"/>
            <a:ext cx="12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Book Antiqua"/>
              </a:rPr>
              <a:t>Q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i="1" lang="it-IT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i="1" lang="it-IT" sz="1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Book Antiqu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267600" y="58881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27200" y="5162400"/>
            <a:ext cx="3581280" cy="685800"/>
          </a:xfrm>
          <a:custGeom>
            <a:avLst/>
            <a:gdLst/>
            <a:ahLst/>
            <a:rect l="l" t="t" r="r" b="b"/>
            <a:pathLst>
              <a:path w="2256" h="432">
                <a:moveTo>
                  <a:pt x="0" y="432"/>
                </a:moveTo>
                <a:lnTo>
                  <a:pt x="576" y="432"/>
                </a:lnTo>
                <a:lnTo>
                  <a:pt x="672" y="432"/>
                </a:lnTo>
                <a:lnTo>
                  <a:pt x="720" y="336"/>
                </a:lnTo>
                <a:lnTo>
                  <a:pt x="768" y="240"/>
                </a:lnTo>
                <a:lnTo>
                  <a:pt x="816" y="96"/>
                </a:lnTo>
                <a:lnTo>
                  <a:pt x="864" y="48"/>
                </a:lnTo>
                <a:lnTo>
                  <a:pt x="960" y="0"/>
                </a:lnTo>
                <a:lnTo>
                  <a:pt x="1008" y="48"/>
                </a:lnTo>
                <a:lnTo>
                  <a:pt x="1056" y="144"/>
                </a:lnTo>
                <a:lnTo>
                  <a:pt x="1104" y="240"/>
                </a:lnTo>
                <a:lnTo>
                  <a:pt x="1152" y="336"/>
                </a:lnTo>
                <a:lnTo>
                  <a:pt x="1200" y="384"/>
                </a:lnTo>
                <a:lnTo>
                  <a:pt x="1296" y="432"/>
                </a:lnTo>
                <a:lnTo>
                  <a:pt x="1440" y="432"/>
                </a:lnTo>
                <a:lnTo>
                  <a:pt x="1680" y="432"/>
                </a:lnTo>
                <a:lnTo>
                  <a:pt x="2016" y="432"/>
                </a:lnTo>
                <a:lnTo>
                  <a:pt x="2256" y="432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38520" y="2681280"/>
            <a:ext cx="33480" cy="976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038120" y="2324160"/>
            <a:ext cx="319320" cy="1333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00680" y="3608280"/>
            <a:ext cx="60948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3429000" y="2362320"/>
            <a:ext cx="914400" cy="129528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520" y="2695680"/>
            <a:ext cx="576000" cy="90468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90840" y="3608280"/>
            <a:ext cx="609840" cy="5335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1480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ITCCenturyBookT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ITCCenturyBookT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ITCCenturyBookT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58800" y="5854680"/>
            <a:ext cx="48992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848120" y="2846160"/>
            <a:ext cx="219240" cy="17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492880" y="1712880"/>
            <a:ext cx="3732120" cy="4037040"/>
            <a:chOff x="5492880" y="1712880"/>
            <a:chExt cx="3732120" cy="4037040"/>
          </a:xfrm>
        </p:grpSpPr>
        <p:pic>
          <p:nvPicPr>
            <p:cNvPr id="375" name="" descr=""/>
            <p:cNvPicPr/>
            <p:nvPr/>
          </p:nvPicPr>
          <p:blipFill>
            <a:blip r:embed="rId2"/>
            <a:stretch/>
          </p:blipFill>
          <p:spPr>
            <a:xfrm>
              <a:off x="5492880" y="2890800"/>
              <a:ext cx="3581640" cy="27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6064560" y="1712880"/>
              <a:ext cx="26542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ctr" pos="537228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Book Antiqua"/>
                </a:rPr>
                <a:t>2048 </a:t>
              </a:r>
              <a:r>
                <a:rPr b="1" i="1" lang="it-IT" sz="2000" spc="-1" strike="noStrike">
                  <a:solidFill>
                    <a:srgbClr val="000000"/>
                  </a:solidFill>
                  <a:latin typeface="Book Antiqua"/>
                </a:rPr>
                <a:t>pix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ctr" pos="537228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Book Antiqua"/>
                </a:rPr>
                <a:t>(12.5</a:t>
              </a:r>
              <a:r>
                <a:rPr b="0" i="1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it-IT" sz="2200" spc="-1" strike="noStrike">
                  <a:solidFill>
                    <a:srgbClr val="000000"/>
                  </a:solidFill>
                  <a:latin typeface="Book Antiqua"/>
                </a:rPr>
                <a:t>m</a:t>
              </a:r>
              <a:r>
                <a:rPr b="0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it-IT" sz="2200" spc="-1" strike="noStrike">
                  <a:solidFill>
                    <a:srgbClr val="000000"/>
                  </a:solidFill>
                  <a:latin typeface="Book Antiqua"/>
                </a:rPr>
                <a:t>200</a:t>
              </a:r>
              <a:r>
                <a:rPr b="0" i="1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it-IT" sz="2200" spc="-1" strike="noStrike">
                  <a:solidFill>
                    <a:srgbClr val="000000"/>
                  </a:solidFill>
                  <a:latin typeface="Book Antiqua"/>
                </a:rPr>
                <a:t>m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ctr" pos="537228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it-IT" sz="22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1" lang="it-IT" sz="2200" spc="-1" strike="noStrike">
                  <a:solidFill>
                    <a:srgbClr val="000000"/>
                  </a:solidFill>
                  <a:latin typeface="Book Antiqua"/>
                </a:rPr>
                <a:t>=25.6m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ctr" pos="537228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it-IT" sz="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i="1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it-IT" sz="2200" spc="-1" strike="noStrike" baseline="-25000">
                  <a:solidFill>
                    <a:srgbClr val="000000"/>
                  </a:solidFill>
                  <a:latin typeface="Book Antiqua"/>
                </a:rPr>
                <a:t>res</a:t>
              </a:r>
              <a:r>
                <a:rPr b="1" lang="it-IT" sz="2200" spc="-1" strike="noStrike">
                  <a:solidFill>
                    <a:srgbClr val="000000"/>
                  </a:solidFill>
                  <a:latin typeface="Book Antiqua"/>
                </a:rPr>
                <a:t>=0.3n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13720" y="5389560"/>
              <a:ext cx="2411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ctr" pos="537228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it-IT" sz="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i="1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it-IT" sz="2200" spc="-1" strike="noStrike" baseline="-25000">
                  <a:solidFill>
                    <a:srgbClr val="000000"/>
                  </a:solidFill>
                  <a:latin typeface="Book Antiqua"/>
                </a:rPr>
                <a:t>SPAN</a:t>
              </a:r>
              <a:r>
                <a:rPr b="1" lang="it-IT" sz="2200" spc="-1" strike="noStrike">
                  <a:solidFill>
                    <a:srgbClr val="000000"/>
                  </a:solidFill>
                  <a:latin typeface="Book Antiqua"/>
                </a:rPr>
                <a:t>=600n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929720" y="4092480"/>
              <a:ext cx="719280" cy="21600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7353360" y="3731760"/>
              <a:ext cx="503280" cy="576360"/>
              <a:chOff x="7353360" y="3731760"/>
              <a:chExt cx="503280" cy="576360"/>
            </a:xfrm>
          </p:grpSpPr>
          <p:sp>
            <p:nvSpPr>
              <p:cNvPr id="380" name=""/>
              <p:cNvSpPr/>
              <p:nvPr/>
            </p:nvSpPr>
            <p:spPr>
              <a:xfrm flipH="1" flipV="1">
                <a:off x="7353360" y="3731760"/>
                <a:ext cx="503280" cy="5763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 flipV="1">
                <a:off x="7569360" y="3731760"/>
                <a:ext cx="287280" cy="576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 flipV="1">
                <a:off x="7763040" y="3731760"/>
                <a:ext cx="93600" cy="5763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5043-555B-4560-B07F-3C1A35DA0B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aboratory OSA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2057400" y="1273320"/>
            <a:ext cx="4724280" cy="30002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53800" y="4222800"/>
            <a:ext cx="7034040" cy="2286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as. of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ontinuum spectru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lines+ASE)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=10 pm 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=2 pm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as. of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ower: peaks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tomatic meas. of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NR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markers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Quantitative graphical representation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C8C8-2AE2-4872-B3DA-ADDE4CEE5B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ptical spectrum measuremen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for laser lines or 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WDM signal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87" name=""/>
          <p:cNvSpPr/>
          <p:nvPr/>
        </p:nvSpPr>
        <p:spPr>
          <a:xfrm>
            <a:off x="-685800" y="2895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07800" indent="-307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343080" y="1477800"/>
            <a:ext cx="3860640" cy="5263200"/>
            <a:chOff x="343080" y="1477800"/>
            <a:chExt cx="3860640" cy="526320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343080" y="1477800"/>
              <a:ext cx="3755880" cy="27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468360" y="4178160"/>
              <a:ext cx="373536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Parameters to be measured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(on the optical WDM signal)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 Antiqu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channel power [dBm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Book Antiqu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 </a:t>
              </a: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center wavelength [nm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Book Antiqu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 </a:t>
              </a: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channel spacing [nm , GHz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 Antiqu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ASE noise floor [dBm/nm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Book Antiqu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ratio S/N [dB/nm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Book Antiqu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 </a:t>
              </a: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close channels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crosstalk [dB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 Antiqu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global optical power [dBm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038560" y="1811160"/>
            <a:ext cx="4114800" cy="5553360"/>
            <a:chOff x="5038560" y="1811160"/>
            <a:chExt cx="4114800" cy="5553360"/>
          </a:xfrm>
        </p:grpSpPr>
        <p:sp>
          <p:nvSpPr>
            <p:cNvPr id="392" name=""/>
            <p:cNvSpPr/>
            <p:nvPr/>
          </p:nvSpPr>
          <p:spPr>
            <a:xfrm>
              <a:off x="5038560" y="4178160"/>
              <a:ext cx="4114800" cy="31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Measurement parameters of the OSA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 Antiqu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center wavelength [nm]    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Book Antiqua"/>
                </a:rPr>
                <a:t>START </a:t>
              </a: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[nm]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Book Antiqu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 </a:t>
              </a: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wavelength span [nm]      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Book Antiqua"/>
                </a:rPr>
                <a:t>STOP </a:t>
              </a: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[nm]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Book Antiqu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 </a:t>
              </a: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resolution bandwidth (FWHM) [nm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Book Antiqu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 </a:t>
              </a: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wavelength accuracy [nm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ok Antiqu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saturation power [dBm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Book Antiqu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"sensitivity" [dBm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Book Antiqu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dynamic range [dB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Book Antiqu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power accuracy [dB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5110200" y="1811160"/>
              <a:ext cx="3504960" cy="228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165560" y="1383840"/>
            <a:ext cx="48578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89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Book Antiqua"/>
              </a:rPr>
              <a:t>Optical Spectrum Analyzer (OSA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95" name=""/>
          <p:cNvSpPr/>
          <p:nvPr/>
        </p:nvSpPr>
        <p:spPr>
          <a:xfrm>
            <a:off x="7808760" y="4495680"/>
            <a:ext cx="1258920" cy="5763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7928-CB19-4E4E-9CA5-4B2AFF5339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52280" y="3657600"/>
            <a:ext cx="6553440" cy="17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ptical Time Domain Reflectometry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419120"/>
            <a:ext cx="9144000" cy="24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direct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easurement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local losses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distributed attenuatio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long an optical fiber c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ignal readin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s don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n reflection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ue to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backscatterin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each “point” scattering is proportional to the available power level and depends inversely on the adopted wave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9096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956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62640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402" name=""/>
          <p:cNvGrpSpPr/>
          <p:nvPr/>
        </p:nvGrpSpPr>
        <p:grpSpPr>
          <a:xfrm>
            <a:off x="3581280" y="4419360"/>
            <a:ext cx="2438640" cy="904680"/>
            <a:chOff x="3581280" y="4419360"/>
            <a:chExt cx="2438640" cy="904680"/>
          </a:xfrm>
        </p:grpSpPr>
        <p:sp>
          <p:nvSpPr>
            <p:cNvPr id="403" name=""/>
            <p:cNvSpPr/>
            <p:nvPr/>
          </p:nvSpPr>
          <p:spPr>
            <a:xfrm flipH="1" flipV="1">
              <a:off x="3809880" y="4419360"/>
              <a:ext cx="533520" cy="68580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81280" y="4952880"/>
              <a:ext cx="243864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r" pos="120636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cc33"/>
                  </a:solidFill>
                  <a:latin typeface="Book Antiqua"/>
                </a:rPr>
                <a:t>P</a:t>
              </a:r>
              <a:r>
                <a:rPr b="1" i="1" lang="en-US" sz="2000" spc="-1" strike="noStrike" baseline="-25000">
                  <a:solidFill>
                    <a:srgbClr val="33cc33"/>
                  </a:solidFill>
                  <a:latin typeface="Book Antiqua"/>
                </a:rPr>
                <a:t>opt</a:t>
              </a:r>
              <a:r>
                <a:rPr b="1" lang="en-US" sz="2000" spc="-1" strike="noStrike">
                  <a:solidFill>
                    <a:srgbClr val="33cc33"/>
                  </a:solidFill>
                  <a:latin typeface="Book Antiqua"/>
                </a:rPr>
                <a:t>(</a:t>
              </a:r>
              <a:r>
                <a:rPr b="1" i="1" lang="en-US" sz="2000" spc="-1" strike="noStrike">
                  <a:solidFill>
                    <a:srgbClr val="33cc33"/>
                  </a:solidFill>
                  <a:latin typeface="Book Antiqua"/>
                </a:rPr>
                <a:t>t</a:t>
              </a:r>
              <a:r>
                <a:rPr b="1" lang="en-US" sz="2000" spc="-1" strike="noStrike">
                  <a:solidFill>
                    <a:srgbClr val="33cc33"/>
                  </a:solidFill>
                  <a:latin typeface="Book Antiqua"/>
                </a:rPr>
                <a:t>/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304920" y="4267080"/>
            <a:ext cx="3657600" cy="1081800"/>
            <a:chOff x="304920" y="4267080"/>
            <a:chExt cx="3657600" cy="1081800"/>
          </a:xfrm>
        </p:grpSpPr>
        <p:sp>
          <p:nvSpPr>
            <p:cNvPr id="406" name=""/>
            <p:cNvSpPr/>
            <p:nvPr/>
          </p:nvSpPr>
          <p:spPr>
            <a:xfrm>
              <a:off x="380880" y="4962600"/>
              <a:ext cx="24386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r" pos="120636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Book Antiqua"/>
                </a:rPr>
                <a:t>backscat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57600" y="42670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142640" y="4495680"/>
              <a:ext cx="2590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4920" y="4616280"/>
              <a:ext cx="243828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r" pos="120636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Book Antiqua"/>
                </a:rPr>
                <a:t>P</a:t>
              </a:r>
              <a:r>
                <a:rPr b="1" i="1" lang="en-US" sz="2000" spc="-1" strike="noStrike" baseline="-25000">
                  <a:solidFill>
                    <a:srgbClr val="ff0000"/>
                  </a:solidFill>
                  <a:latin typeface="Book Antiqua"/>
                </a:rPr>
                <a:t>bs</a:t>
              </a:r>
              <a:r>
                <a:rPr b="1" lang="en-US" sz="2000" spc="-1" strike="noStrike">
                  <a:solidFill>
                    <a:srgbClr val="ff0000"/>
                  </a:solidFill>
                  <a:latin typeface="Book Antiqua"/>
                </a:rPr>
                <a:t>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Book Antiqua"/>
                </a:rPr>
                <a:t>t</a:t>
              </a:r>
              <a:r>
                <a:rPr b="1" lang="en-US" sz="2000" spc="-1" strike="noStrike">
                  <a:solidFill>
                    <a:srgbClr val="ff0000"/>
                  </a:solidFill>
                  <a:latin typeface="Book Antiqu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10" name=""/>
          <p:cNvGraphicFramePr/>
          <p:nvPr/>
        </p:nvGraphicFramePr>
        <p:xfrm>
          <a:off x="6654960" y="3454560"/>
          <a:ext cx="2361960" cy="2025360"/>
        </p:xfrm>
        <a:graphic>
          <a:graphicData uri="http://schemas.openxmlformats.org/drawingml/2006/table">
            <a:tbl>
              <a:tblPr/>
              <a:tblGrid>
                <a:gridCol w="837720"/>
                <a:gridCol w="914400"/>
                <a:gridCol w="60984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3a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Book Antiqua"/>
                        </a:rPr>
                        <a:t>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[dB/km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3a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Book Antiqua"/>
                        </a:rPr>
                        <a:t>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[dB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3acff"/>
                    </a:solidFill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50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3a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3a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3acf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300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3a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3a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3acf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550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3a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.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3a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3ac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15880" y="5518080"/>
                <a:ext cx="83980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τ</m:t>
                        </m:r>
                      </m:e>
                    </m:d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/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/n</m:t>
                        </m:r>
                      </m:den>
                    </m:f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 flipH="1" flipV="1">
            <a:off x="733320" y="6296040"/>
            <a:ext cx="609840" cy="457200"/>
          </a:xfrm>
          <a:prstGeom prst="wedgeRoundRectCallout">
            <a:avLst>
              <a:gd name="adj1" fmla="val -77865"/>
              <a:gd name="adj2" fmla="val 57638"/>
              <a:gd name="adj3" fmla="val 16667"/>
            </a:avLst>
          </a:prstGeom>
          <a:solidFill>
            <a:srgbClr val="63a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Book Antiqua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205000" y="5673600"/>
            <a:ext cx="5832360" cy="1211400"/>
            <a:chOff x="2205000" y="5673600"/>
            <a:chExt cx="5832360" cy="1211400"/>
          </a:xfrm>
        </p:grpSpPr>
        <p:sp>
          <p:nvSpPr>
            <p:cNvPr id="414" name=""/>
            <p:cNvSpPr/>
            <p:nvPr/>
          </p:nvSpPr>
          <p:spPr>
            <a:xfrm>
              <a:off x="2205000" y="5673600"/>
              <a:ext cx="504720" cy="50508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21000" y="6165720"/>
              <a:ext cx="144360" cy="2876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95440" y="6375240"/>
              <a:ext cx="56419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r" pos="120636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Book Antiqua"/>
                </a:rPr>
                <a:t>spatial extension </a:t>
              </a:r>
              <a:r>
                <a:rPr b="1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Book Antiqua"/>
                </a:rPr>
                <a:t>z</a:t>
              </a:r>
              <a:r>
                <a:rPr b="0" lang="en-US" sz="1600" spc="-1" strike="noStrike">
                  <a:solidFill>
                    <a:srgbClr val="0000ff"/>
                  </a:solidFill>
                  <a:latin typeface="Book Antiqua"/>
                </a:rPr>
                <a:t> of the </a:t>
              </a:r>
              <a:r>
                <a:rPr b="1" lang="en-US" sz="1600" spc="-1" strike="noStrike">
                  <a:solidFill>
                    <a:srgbClr val="0000ff"/>
                  </a:solidFill>
                  <a:latin typeface="Book Antiqua"/>
                </a:rPr>
                <a:t>“lit” zone</a:t>
              </a:r>
              <a:r>
                <a:rPr b="0" lang="en-US" sz="1600" spc="-1" strike="noStrike">
                  <a:solidFill>
                    <a:srgbClr val="0000ff"/>
                  </a:solidFill>
                  <a:latin typeface="Book Antiqua"/>
                </a:rPr>
                <a:t> providing for backscattering (with coeff. </a:t>
              </a:r>
              <a:r>
                <a:rPr b="0" i="1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0" lang="en-US" sz="1600" spc="-1" strike="noStrike" baseline="-25000">
                  <a:solidFill>
                    <a:srgbClr val="0000ff"/>
                  </a:solidFill>
                  <a:latin typeface="Book Antiqua"/>
                </a:rPr>
                <a:t>S</a:t>
              </a:r>
              <a:r>
                <a:rPr b="0" lang="en-US" sz="1600" spc="-1" strike="noStrike">
                  <a:solidFill>
                    <a:srgbClr val="0000ff"/>
                  </a:solidFill>
                  <a:latin typeface="Book Antiqua"/>
                </a:rPr>
                <a:t> per unit length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2784600" y="3933720"/>
            <a:ext cx="2087280" cy="10796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71640" y="3789360"/>
            <a:ext cx="2087640" cy="0"/>
          </a:xfrm>
          <a:prstGeom prst="line">
            <a:avLst/>
          </a:prstGeom>
          <a:ln w="12600">
            <a:solidFill>
              <a:srgbClr val="ffff99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71680" y="3670200"/>
            <a:ext cx="100836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610000" y="3597120"/>
            <a:ext cx="23223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65360" y="4989600"/>
            <a:ext cx="2438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63560" y="5364000"/>
            <a:ext cx="5400720" cy="463680"/>
            <a:chOff x="763560" y="5364000"/>
            <a:chExt cx="5400720" cy="463680"/>
          </a:xfrm>
        </p:grpSpPr>
        <p:sp>
          <p:nvSpPr>
            <p:cNvPr id="423" name=""/>
            <p:cNvSpPr/>
            <p:nvPr/>
          </p:nvSpPr>
          <p:spPr>
            <a:xfrm>
              <a:off x="1908000" y="5581800"/>
              <a:ext cx="0" cy="2156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3560" y="5364000"/>
              <a:ext cx="5400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r" pos="120636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Book Antiqua"/>
                </a:rPr>
                <a:t>scattering coeff. per unit length       </a:t>
              </a:r>
              <a:r>
                <a:rPr b="0" lang="en-US" sz="1600" spc="-1" strike="noStrike">
                  <a:solidFill>
                    <a:srgbClr val="99ccff"/>
                  </a:solidFill>
                  <a:latin typeface="Book Antiqua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8000" y="5610240"/>
              <a:ext cx="0" cy="217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2386080" y="5013360"/>
            <a:ext cx="1297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Book Antiqua"/>
              </a:rPr>
              <a:t>cause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387440" y="6230880"/>
            <a:ext cx="1333440" cy="7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333ff"/>
                </a:solidFill>
                <a:latin typeface="Book Antiqua"/>
              </a:rPr>
              <a:t>v</a:t>
            </a:r>
            <a:r>
              <a:rPr b="1" lang="it-IT" sz="1600" spc="-1" strike="noStrike" baseline="-25000">
                <a:solidFill>
                  <a:srgbClr val="3333ff"/>
                </a:solidFill>
                <a:latin typeface="Book Antiqua"/>
              </a:rPr>
              <a:t>g</a:t>
            </a:r>
            <a:r>
              <a:rPr b="1" i="1" lang="it-IT" sz="1600" spc="-1" strike="noStrike">
                <a:solidFill>
                  <a:srgbClr val="3333ff"/>
                </a:solidFill>
                <a:latin typeface="Symbol"/>
                <a:ea typeface="Symbol"/>
              </a:rPr>
              <a:t></a:t>
            </a:r>
            <a:r>
              <a:rPr b="1" i="1" lang="it-IT" sz="1600" spc="-1" strike="noStrike">
                <a:solidFill>
                  <a:srgbClr val="3333ff"/>
                </a:solidFill>
                <a:latin typeface="Book Antiqua"/>
              </a:rPr>
              <a:t>/</a:t>
            </a:r>
            <a:r>
              <a:rPr b="1" i="1" lang="it-IT" sz="1600" spc="-1" strike="noStrike">
                <a:solidFill>
                  <a:srgbClr val="3333ff"/>
                </a:solidFill>
                <a:latin typeface="Symbol"/>
                <a:ea typeface="Symbol"/>
              </a:rPr>
              <a:t></a:t>
            </a:r>
            <a:r>
              <a:rPr b="1" i="1" lang="it-IT" sz="1600" spc="-1" strike="noStrike">
                <a:solidFill>
                  <a:srgbClr val="3333ff"/>
                </a:solidFill>
                <a:latin typeface="Book Antiqua"/>
              </a:rPr>
              <a:t>k</a:t>
            </a:r>
            <a:br>
              <a:rPr sz="1600"/>
            </a:br>
            <a:r>
              <a:rPr b="1" lang="it-IT" sz="1600" spc="-1" strike="noStrike">
                <a:solidFill>
                  <a:srgbClr val="3333ff"/>
                </a:solidFill>
                <a:latin typeface="Book Antiqua"/>
              </a:rPr>
              <a:t>con </a:t>
            </a:r>
            <a:br>
              <a:rPr sz="1600"/>
            </a:br>
            <a:r>
              <a:rPr b="1" i="1" lang="it-IT" sz="1600" spc="-1" strike="noStrike">
                <a:solidFill>
                  <a:srgbClr val="3333ff"/>
                </a:solidFill>
                <a:latin typeface="Book Antiqua"/>
              </a:rPr>
              <a:t>k=2</a:t>
            </a:r>
            <a:r>
              <a:rPr b="1" lang="it-IT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1" i="1" lang="it-IT" sz="1600" spc="-1" strike="noStrike">
                <a:solidFill>
                  <a:srgbClr val="3333ff"/>
                </a:solidFill>
                <a:latin typeface="Book Antiqua"/>
              </a:rPr>
              <a:t>/</a:t>
            </a:r>
            <a:r>
              <a:rPr b="1" i="1" lang="it-IT" sz="1600" spc="-1" strike="noStrike">
                <a:solidFill>
                  <a:srgbClr val="3333ff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8217000" y="4791240"/>
            <a:ext cx="0" cy="47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70680" y="4989600"/>
            <a:ext cx="441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×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8217000" y="4219200"/>
            <a:ext cx="0" cy="476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861320" y="4329000"/>
            <a:ext cx="441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×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61360" y="4317840"/>
            <a:ext cx="441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×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353440" y="5003640"/>
            <a:ext cx="441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×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C5F4-67EB-4DE2-970F-08F68D220C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TDR Pulse length and resolution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1346040"/>
            <a:ext cx="78454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ith a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ulsed laser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e inject short (ns) light puls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the fiber (cable) and we observe th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lot of “back-reflections”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backscattering)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s a function of tim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recorded time gives the distance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f the fiber leng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909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99120" y="2828880"/>
            <a:ext cx="2438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068480" y="2712960"/>
                <a:ext cx="42242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39" name=""/>
          <p:cNvGrpSpPr/>
          <p:nvPr/>
        </p:nvGrpSpPr>
        <p:grpSpPr>
          <a:xfrm>
            <a:off x="1066680" y="3397320"/>
            <a:ext cx="7696440" cy="2851200"/>
            <a:chOff x="1066680" y="3397320"/>
            <a:chExt cx="7696440" cy="2851200"/>
          </a:xfrm>
        </p:grpSpPr>
        <p:sp>
          <p:nvSpPr>
            <p:cNvPr id="440" name=""/>
            <p:cNvSpPr/>
            <p:nvPr/>
          </p:nvSpPr>
          <p:spPr>
            <a:xfrm>
              <a:off x="1066680" y="3429000"/>
              <a:ext cx="7696440" cy="266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2"/>
            <a:stretch/>
          </p:blipFill>
          <p:spPr>
            <a:xfrm>
              <a:off x="1295280" y="3397320"/>
              <a:ext cx="708660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 flipH="1">
              <a:off x="2742840" y="5257800"/>
              <a:ext cx="304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371600" y="5257800"/>
              <a:ext cx="457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95280" y="4952880"/>
              <a:ext cx="5335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r" pos="120636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91320" y="5715000"/>
              <a:ext cx="243828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r" pos="120636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</a:t>
              </a:r>
              <a:r>
                <a:rPr b="1" i="1" lang="it-IT" sz="2000" spc="-1" strike="noStrike">
                  <a:solidFill>
                    <a:srgbClr val="33cc33"/>
                  </a:solidFill>
                  <a:latin typeface="Book Antiqua"/>
                </a:rPr>
                <a:t>z</a:t>
              </a:r>
              <a:r>
                <a:rPr b="1" i="1" lang="it-IT" sz="2000" spc="-1" strike="noStrike" baseline="-25000">
                  <a:solidFill>
                    <a:srgbClr val="33cc33"/>
                  </a:solidFill>
                  <a:latin typeface="Book Antiqua"/>
                </a:rPr>
                <a:t> </a:t>
              </a:r>
              <a:r>
                <a:rPr b="1" lang="it-IT" sz="2000" spc="-1" strike="noStrike">
                  <a:solidFill>
                    <a:srgbClr val="33cc33"/>
                  </a:solidFill>
                  <a:latin typeface="Book Antiqua"/>
                </a:rPr>
                <a:t>= </a:t>
              </a:r>
              <a:r>
                <a:rPr b="1" i="1" lang="it-IT" sz="20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</a:t>
              </a:r>
              <a:r>
                <a:rPr b="1" lang="it-IT" sz="1600" spc="-1" strike="noStrike">
                  <a:solidFill>
                    <a:srgbClr val="33cc33"/>
                  </a:solidFill>
                  <a:latin typeface="Book Antiqua"/>
                </a:rPr>
                <a:t> </a:t>
              </a:r>
              <a:r>
                <a:rPr b="1" lang="it-IT" sz="20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</a:t>
              </a:r>
              <a:r>
                <a:rPr b="1" lang="it-IT" sz="2000" spc="-1" strike="noStrike">
                  <a:solidFill>
                    <a:srgbClr val="33cc33"/>
                  </a:solidFill>
                  <a:latin typeface="Book Antiqua"/>
                </a:rPr>
                <a:t>(</a:t>
              </a:r>
              <a:r>
                <a:rPr b="1" i="1" lang="it-IT" sz="2000" spc="-1" strike="noStrike">
                  <a:solidFill>
                    <a:srgbClr val="33cc33"/>
                  </a:solidFill>
                  <a:latin typeface="Book Antiqua"/>
                </a:rPr>
                <a:t>c</a:t>
              </a:r>
              <a:r>
                <a:rPr b="1" lang="it-IT" sz="2000" spc="-1" strike="noStrike">
                  <a:solidFill>
                    <a:srgbClr val="33cc33"/>
                  </a:solidFill>
                  <a:latin typeface="Book Antiqua"/>
                </a:rPr>
                <a:t>/</a:t>
              </a:r>
              <a:r>
                <a:rPr b="1" i="1" lang="it-IT" sz="2000" spc="-1" strike="noStrike">
                  <a:solidFill>
                    <a:srgbClr val="33cc33"/>
                  </a:solidFill>
                  <a:latin typeface="Book Antiqua"/>
                </a:rPr>
                <a:t>n</a:t>
              </a:r>
              <a:r>
                <a:rPr b="1" lang="it-IT" sz="2000" spc="-1" strike="noStrike">
                  <a:solidFill>
                    <a:srgbClr val="33cc33"/>
                  </a:solidFill>
                  <a:latin typeface="Book Antiqu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19280" y="3429000"/>
              <a:ext cx="12970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r" pos="120636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r>
                <a:rPr b="1" i="1" lang="it-IT" sz="2000" spc="-1" strike="noStrike">
                  <a:solidFill>
                    <a:srgbClr val="ff0000"/>
                  </a:solidFill>
                  <a:latin typeface="Book Antiqua"/>
                </a:rPr>
                <a:t> </a:t>
              </a:r>
              <a:r>
                <a:rPr b="1" lang="it-IT" sz="2000" spc="-1" strike="noStrike">
                  <a:solidFill>
                    <a:srgbClr val="ff0000"/>
                  </a:solidFill>
                  <a:latin typeface="Book Antiqua"/>
                </a:rPr>
                <a:t>= 15 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343400" y="3505320"/>
              <a:ext cx="24382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r" pos="120636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</a:t>
              </a:r>
              <a:r>
                <a:rPr b="1" i="1" lang="it-IT" sz="2000" spc="-1" strike="noStrike">
                  <a:solidFill>
                    <a:srgbClr val="33cc33"/>
                  </a:solidFill>
                  <a:latin typeface="Book Antiqua"/>
                </a:rPr>
                <a:t>z</a:t>
              </a:r>
              <a:r>
                <a:rPr b="1" lang="it-IT" sz="2000" spc="-1" strike="noStrike">
                  <a:solidFill>
                    <a:srgbClr val="33cc33"/>
                  </a:solidFill>
                  <a:latin typeface="Book Antiqua"/>
                </a:rPr>
                <a:t>=2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19720" y="4616280"/>
              <a:ext cx="24382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r" pos="120636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</a:t>
              </a:r>
              <a:r>
                <a:rPr b="1" i="1" lang="it-IT" sz="2000" spc="-1" strike="noStrike">
                  <a:solidFill>
                    <a:srgbClr val="33cc33"/>
                  </a:solidFill>
                  <a:latin typeface="Book Antiqua"/>
                </a:rPr>
                <a:t>z</a:t>
              </a:r>
              <a:r>
                <a:rPr b="1" lang="it-IT" sz="2000" spc="-1" strike="noStrike">
                  <a:solidFill>
                    <a:srgbClr val="33cc33"/>
                  </a:solidFill>
                  <a:latin typeface="Book Antiqua"/>
                </a:rPr>
                <a:t>=0.66 k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19280" y="4648320"/>
              <a:ext cx="12240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r" pos="120636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r>
                <a:rPr b="1" i="1" lang="it-IT" sz="2000" spc="-1" strike="noStrike">
                  <a:solidFill>
                    <a:srgbClr val="ff0000"/>
                  </a:solidFill>
                  <a:latin typeface="Book Antiqua"/>
                </a:rPr>
                <a:t> </a:t>
              </a:r>
              <a:r>
                <a:rPr b="1" lang="it-IT" sz="2000" spc="-1" strike="noStrike">
                  <a:solidFill>
                    <a:srgbClr val="ff0000"/>
                  </a:solidFill>
                  <a:latin typeface="Book Antiqua"/>
                </a:rPr>
                <a:t>= 33 </a:t>
              </a:r>
              <a:r>
                <a:rPr b="1" i="1" lang="it-IT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</a:t>
              </a:r>
              <a:r>
                <a:rPr b="1" lang="it-IT" sz="2000" spc="-1" strike="noStrike">
                  <a:solidFill>
                    <a:srgbClr val="ff0000"/>
                  </a:solidFill>
                  <a:latin typeface="Book Antiqu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403280" y="4311720"/>
              <a:ext cx="16765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r" pos="120636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0000"/>
                  </a:solidFill>
                  <a:latin typeface="Book Antiqua"/>
                </a:rPr>
                <a:t>&lt; energ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476360" y="5530680"/>
              <a:ext cx="16765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r" pos="120636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0000"/>
                  </a:solidFill>
                  <a:latin typeface="Book Antiqua"/>
                </a:rPr>
                <a:t>&gt; energ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25760" y="4165560"/>
              <a:ext cx="24386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r" pos="120636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Book Antiqua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92640" y="5229360"/>
              <a:ext cx="24382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r" pos="120636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Book Antiqua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5540400" y="383652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5516640" y="494136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755640" y="614376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patial resolut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s poorer when the pulse is larger but SNR gets better with larger/stronger pul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5F28-0899-440E-819D-85B877AEA7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489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formation contained in the OTDR trace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58" name=""/>
          <p:cNvSpPr/>
          <p:nvPr/>
        </p:nvSpPr>
        <p:spPr>
          <a:xfrm>
            <a:off x="30909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90720" y="1066680"/>
            <a:ext cx="6553080" cy="289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6503760" cy="31892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990720" y="3581280"/>
            <a:ext cx="5638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A picture is worth a thousand word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380880" y="3989520"/>
            <a:ext cx="8458200" cy="2259000"/>
            <a:chOff x="380880" y="3989520"/>
            <a:chExt cx="8458200" cy="2259000"/>
          </a:xfrm>
        </p:grpSpPr>
        <p:sp>
          <p:nvSpPr>
            <p:cNvPr id="463" name=""/>
            <p:cNvSpPr/>
            <p:nvPr/>
          </p:nvSpPr>
          <p:spPr>
            <a:xfrm>
              <a:off x="380880" y="4038480"/>
              <a:ext cx="3048120" cy="221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4" name="" descr=""/>
            <p:cNvPicPr/>
            <p:nvPr/>
          </p:nvPicPr>
          <p:blipFill>
            <a:blip r:embed="rId3"/>
            <a:stretch/>
          </p:blipFill>
          <p:spPr>
            <a:xfrm>
              <a:off x="380880" y="3989520"/>
              <a:ext cx="3124440" cy="22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5791320" y="4038480"/>
              <a:ext cx="3047760" cy="221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6" name="" descr=""/>
            <p:cNvPicPr/>
            <p:nvPr/>
          </p:nvPicPr>
          <p:blipFill>
            <a:blip r:embed="rId4"/>
            <a:stretch/>
          </p:blipFill>
          <p:spPr>
            <a:xfrm>
              <a:off x="6019920" y="4038480"/>
              <a:ext cx="2590560" cy="21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3352680" y="4670280"/>
              <a:ext cx="243864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r" pos="120636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ook Antiqua"/>
                </a:rPr>
                <a:t>Pb. sat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r" pos="120636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Book Antiqua"/>
                </a:rPr>
                <a:t>and line-base recove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3854520" y="1838160"/>
            <a:ext cx="3808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334040" y="1838160"/>
            <a:ext cx="3808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59400" y="1676520"/>
            <a:ext cx="2100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00"/>
                </a:solidFill>
                <a:latin typeface="Book Antiqua"/>
              </a:rPr>
              <a:t>t</a:t>
            </a:r>
            <a:r>
              <a:rPr b="1" lang="en-US" sz="2000" spc="-1" strike="noStrike">
                <a:solidFill>
                  <a:srgbClr val="00ff00"/>
                </a:solidFill>
                <a:latin typeface="Book Antiqua"/>
              </a:rPr>
              <a:t>=</a:t>
            </a:r>
            <a:r>
              <a:rPr b="1" i="1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</a:t>
            </a:r>
            <a:r>
              <a:rPr b="1" i="1" lang="en-US" sz="12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Book Antiqua"/>
              </a:rPr>
              <a:t>=</a:t>
            </a:r>
            <a:r>
              <a:rPr b="1" i="1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ff00"/>
                </a:solidFill>
                <a:latin typeface="Book Antiqua"/>
              </a:rPr>
              <a:t>z</a:t>
            </a:r>
            <a:r>
              <a:rPr b="1" i="1" lang="en-US" sz="8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Book Antiqua"/>
              </a:rPr>
              <a:t>/</a:t>
            </a:r>
            <a:r>
              <a:rPr b="1" i="1" lang="en-US" sz="12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Book Antiqua"/>
              </a:rPr>
              <a:t>(</a:t>
            </a:r>
            <a:r>
              <a:rPr b="1" i="1" lang="en-US" sz="2000" spc="-1" strike="noStrike">
                <a:solidFill>
                  <a:srgbClr val="00ff00"/>
                </a:solidFill>
                <a:latin typeface="Book Antiqua"/>
              </a:rPr>
              <a:t>c</a:t>
            </a:r>
            <a:r>
              <a:rPr b="1" lang="en-US" sz="2000" spc="-1" strike="noStrike">
                <a:solidFill>
                  <a:srgbClr val="00ff00"/>
                </a:solidFill>
                <a:latin typeface="Book Antiqua"/>
              </a:rPr>
              <a:t>/</a:t>
            </a:r>
            <a:r>
              <a:rPr b="1" i="1" lang="en-US" sz="2000" spc="-1" strike="noStrike">
                <a:solidFill>
                  <a:srgbClr val="00ff00"/>
                </a:solidFill>
                <a:latin typeface="Book Antiqua"/>
              </a:rPr>
              <a:t>n</a:t>
            </a:r>
            <a:r>
              <a:rPr b="1" lang="en-US" sz="2000" spc="-1" strike="noStrike">
                <a:solidFill>
                  <a:srgbClr val="00ff00"/>
                </a:solidFill>
                <a:latin typeface="Book Antiqu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35F5-1EAF-4D17-BD0D-81891ED958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24000" y="1197000"/>
            <a:ext cx="3543120" cy="505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695808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Tricks in OTDR measurement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73" name=""/>
          <p:cNvSpPr/>
          <p:nvPr/>
        </p:nvSpPr>
        <p:spPr>
          <a:xfrm>
            <a:off x="30909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140360" y="1557360"/>
            <a:ext cx="4895640" cy="39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93720" y="1149480"/>
            <a:ext cx="2438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joints between different fi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3638520" cy="482472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284720" y="1700280"/>
            <a:ext cx="4680000" cy="36558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4078440" y="45482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artifacts ‘</a:t>
            </a:r>
            <a:r>
              <a:rPr b="0" i="1" lang="en-US" sz="2400" spc="-1" strike="noStrike">
                <a:solidFill>
                  <a:srgbClr val="ff0000"/>
                </a:solidFill>
                <a:latin typeface="Book Antiqua"/>
              </a:rPr>
              <a:t>ghosts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’ due to multiple ref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6720-EF12-4B4C-8296-F034104D6A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46016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ptical Power Meter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CD detectors (Charge Coupled Device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d measurement of laser beam profile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ave-Meter and spectrometer/monochromator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ptical Spectrum Analyzer (OSA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ptical Time Domain Reflectometry (OTDR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as. of Insertion Los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as. of Polarization Mode Dispersion (PMD) 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as. of Bit Error Rate (BER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F19A-2C3F-4D1C-8CD3-F250D94BEB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580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Example of OTDR measurement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80" name=""/>
          <p:cNvSpPr/>
          <p:nvPr/>
        </p:nvSpPr>
        <p:spPr>
          <a:xfrm>
            <a:off x="30909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5280" y="4775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ortable OTR for “in-fie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132000" y="2008080"/>
            <a:ext cx="5688000" cy="4979160"/>
            <a:chOff x="3132000" y="2008080"/>
            <a:chExt cx="5688000" cy="4979160"/>
          </a:xfrm>
        </p:grpSpPr>
        <p:sp>
          <p:nvSpPr>
            <p:cNvPr id="483" name=""/>
            <p:cNvSpPr/>
            <p:nvPr/>
          </p:nvSpPr>
          <p:spPr>
            <a:xfrm>
              <a:off x="3708360" y="6308640"/>
              <a:ext cx="46087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r" pos="120636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Book Antiqua"/>
                </a:rPr>
                <a:t>measurement panel of an OT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4" name="" descr=""/>
            <p:cNvPicPr/>
            <p:nvPr/>
          </p:nvPicPr>
          <p:blipFill>
            <a:blip r:embed="rId2"/>
            <a:stretch/>
          </p:blipFill>
          <p:spPr>
            <a:xfrm>
              <a:off x="3132000" y="2008080"/>
              <a:ext cx="5688000" cy="422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2563560" cy="352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FFDE-D8DC-4ADC-BBF2-23EA5E42ED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7533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Fiber Insertion Loss measurement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87" name=""/>
          <p:cNvSpPr/>
          <p:nvPr/>
        </p:nvSpPr>
        <p:spPr>
          <a:xfrm>
            <a:off x="3886200" y="380988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Results of different measure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at 850 nm on a 520 m c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3174840" cy="288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9" name=""/>
          <p:cNvGraphicFramePr/>
          <p:nvPr/>
        </p:nvGraphicFramePr>
        <p:xfrm>
          <a:off x="3780000" y="1752480"/>
          <a:ext cx="5059080" cy="1976400"/>
        </p:xfrm>
        <a:graphic>
          <a:graphicData uri="http://schemas.openxmlformats.org/drawingml/2006/table">
            <a:tbl>
              <a:tblPr/>
              <a:tblGrid>
                <a:gridCol w="2582640"/>
                <a:gridCol w="2476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ITCCenturyBookT"/>
                        </a:rPr>
                        <a:t>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ITCCenturyBookT"/>
                        </a:rPr>
                        <a:t>Loss , Std. De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TCCenturyBookT"/>
                        </a:rPr>
                        <a:t>1-Cable Re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TCCenturyBookT"/>
                        </a:rPr>
                        <a:t>2.96 dB , 0.02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TCCenturyBookT"/>
                        </a:rPr>
                        <a:t>2-Cable Re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TCCenturyBookT"/>
                        </a:rPr>
                        <a:t>2.66 dB , 0.20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TCCenturyBookT"/>
                        </a:rPr>
                        <a:t>3-Cable Re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TCCenturyBookT"/>
                        </a:rPr>
                        <a:t>2.48 dB , 0.24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TCCenturyBookT"/>
                        </a:rPr>
                        <a:t>OTDR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ITCCenturyBook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TCCenturyBookT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TCCenturyBookT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TCCenturyBookT"/>
                        </a:rPr>
                        <a:t>/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TCCenturyBookT"/>
                        </a:rPr>
                        <a:t>2 direc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TCCenturyBook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TCCenturyBookT"/>
                        </a:rPr>
                        <a:t>2.05 dB / 1.91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>
            <a:off x="3886200" y="1371600"/>
            <a:ext cx="5029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Book Antiqua"/>
              </a:rPr>
              <a:t>4 standardized methods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304920" y="442584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4"/>
          <a:stretch/>
        </p:blipFill>
        <p:spPr>
          <a:xfrm>
            <a:off x="2514600" y="442908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5"/>
          <a:stretch/>
        </p:blipFill>
        <p:spPr>
          <a:xfrm>
            <a:off x="4724280" y="4427640"/>
            <a:ext cx="1981440" cy="18540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6"/>
          <a:stretch/>
        </p:blipFill>
        <p:spPr>
          <a:xfrm>
            <a:off x="7010280" y="4410000"/>
            <a:ext cx="1905120" cy="18813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3743280" y="4633920"/>
            <a:ext cx="35244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057560" y="459576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52E7-B270-4D6D-B9BB-1594DCB207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PMD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Polarization Mode Dispersio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 </a:t>
            </a: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meas.</a:t>
            </a:r>
            <a:endParaRPr b="0" lang="en-US" sz="40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4267440" cy="26258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609480" y="3954600"/>
            <a:ext cx="3657600" cy="20494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4"/>
          <a:stretch/>
        </p:blipFill>
        <p:spPr>
          <a:xfrm>
            <a:off x="5076720" y="3956040"/>
            <a:ext cx="3733920" cy="261000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4800600" y="1822320"/>
            <a:ext cx="4267080" cy="15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2000"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ook Antiqua"/>
              </a:rPr>
              <a:t>PMD: 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STATISTICAL para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ook Antiqua"/>
              </a:rPr>
              <a:t>Important 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Avg Value</a:t>
            </a:r>
            <a:r>
              <a:rPr b="0" lang="en-US" sz="2200" spc="-1" strike="noStrike">
                <a:solidFill>
                  <a:srgbClr val="ff0000"/>
                </a:solidFill>
                <a:latin typeface="Book Antiqua"/>
              </a:rPr>
              <a:t> and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St.Dev. 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of DGD (Differential Group Delay)</a:t>
            </a:r>
            <a:br>
              <a:rPr sz="1800"/>
            </a:br>
            <a:r>
              <a:rPr b="0" lang="en-US" sz="1600" spc="-1" strike="noStrike">
                <a:solidFill>
                  <a:srgbClr val="0000ff"/>
                </a:solidFill>
                <a:latin typeface="Book Antiqua"/>
              </a:rPr>
              <a:t>We measur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Book Antiqua"/>
              </a:rPr>
              <a:t>variance per unit length</a:t>
            </a:r>
            <a:r>
              <a:rPr b="0" lang="en-US" sz="1600" spc="-1" strike="noStrike">
                <a:solidFill>
                  <a:srgbClr val="0000ff"/>
                </a:solidFill>
                <a:latin typeface="Book Antiqua"/>
              </a:rPr>
              <a:t> (in time or as a function of SOP or </a:t>
            </a:r>
            <a:r>
              <a:rPr b="0" i="1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00ff"/>
                </a:solidFill>
                <a:latin typeface="Book Antiqua"/>
              </a:rPr>
              <a:t>): hence we get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800" spc="-1" strike="noStrike">
                <a:solidFill>
                  <a:srgbClr val="0000ff"/>
                </a:solidFill>
                <a:latin typeface="Symbol"/>
                <a:ea typeface="Symbol"/>
              </a:rPr>
              <a:t></a:t>
            </a:r>
            <a:r>
              <a:rPr b="1" lang="en-US" sz="1600" spc="-1" strike="noStrike" baseline="30000">
                <a:solidFill>
                  <a:srgbClr val="0000ff"/>
                </a:solidFill>
                <a:latin typeface="Book Antiqua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Book Antiqua"/>
              </a:rPr>
              <a:t> in [ps</a:t>
            </a:r>
            <a:r>
              <a:rPr b="1" lang="en-US" sz="1600" spc="-1" strike="noStrike" baseline="30000">
                <a:solidFill>
                  <a:srgbClr val="0000ff"/>
                </a:solidFill>
                <a:latin typeface="Book Antiqua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Book Antiqua"/>
              </a:rPr>
              <a:t>/km]</a:t>
            </a:r>
            <a:r>
              <a:rPr b="0" lang="en-US" sz="1600" spc="-1" strike="noStrike">
                <a:solidFill>
                  <a:srgbClr val="0000ff"/>
                </a:solidFill>
                <a:latin typeface="Book Antiqua"/>
              </a:rPr>
              <a:t> and then PMD=</a:t>
            </a:r>
            <a:r>
              <a:rPr b="0" i="1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0" i="1" lang="en-US" sz="800" spc="-1" strike="noStrike">
                <a:solidFill>
                  <a:srgbClr val="0000ff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Book Antiqua"/>
              </a:rPr>
              <a:t>DGD</a:t>
            </a:r>
            <a:r>
              <a:rPr b="0" lang="en-US" sz="1600" spc="-1" strike="noStrike">
                <a:solidFill>
                  <a:srgbClr val="0000ff"/>
                </a:solidFill>
                <a:latin typeface="Book Antiqua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Typical</a:t>
            </a: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 values PMD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</a:t>
            </a: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0.2 ps/(km)</a:t>
            </a:r>
            <a:r>
              <a:rPr b="1" lang="en-US" sz="2000" spc="-1" strike="noStrike" baseline="30000">
                <a:solidFill>
                  <a:srgbClr val="0000ff"/>
                </a:solidFill>
                <a:latin typeface="Book Antiqua"/>
              </a:rPr>
              <a:t>1/2</a:t>
            </a: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variability range 0.1</a:t>
            </a:r>
            <a:r>
              <a:rPr b="0" lang="en-US" sz="2200" spc="-1" strike="noStrike">
                <a:solidFill>
                  <a:srgbClr val="0000ff"/>
                </a:solidFill>
                <a:latin typeface="Symbol"/>
                <a:ea typeface="Symbol"/>
              </a:rPr>
              <a:t></a:t>
            </a: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1 ps/(km)</a:t>
            </a:r>
            <a:r>
              <a:rPr b="0" lang="en-US" sz="2200" spc="-1" strike="noStrike" baseline="30000">
                <a:solidFill>
                  <a:srgbClr val="0000ff"/>
                </a:solidFill>
                <a:latin typeface="Book Antiqua"/>
              </a:rPr>
              <a:t>1/2</a:t>
            </a: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848120" y="1125360"/>
            <a:ext cx="3395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Opt. Commun. &gt;10 Gb/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Pb.: polariz. disper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18000" y="5027760"/>
            <a:ext cx="2962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meas. with multiple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11280" y="5970600"/>
            <a:ext cx="3662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16120" y="5986440"/>
            <a:ext cx="3395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meas. with a single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1476000" y="4314960"/>
            <a:ext cx="14292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4360" y="3954600"/>
            <a:ext cx="187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we change “all” possible polarization states (SO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28880" y="5338800"/>
            <a:ext cx="165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Book Antiqua"/>
              </a:rPr>
              <a:t>media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e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Book Antiqua"/>
              </a:rPr>
              <a:t>varianza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dei ritar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967440" y="638316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r T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84760" y="3451320"/>
            <a:ext cx="288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ff"/>
                </a:solidFill>
                <a:latin typeface="Book Antiqu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28840" y="2336760"/>
            <a:ext cx="10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 Antiqua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Book Antiqua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00720" y="401796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6000"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EQ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D7A5-6376-463F-9E6B-1FBC1C320B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143000" y="533520"/>
            <a:ext cx="76201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BER and eye-diagram measu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2255760" y="1781280"/>
            <a:ext cx="5340600" cy="380844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324000" y="14130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04560" indent="-30456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For BER&lt;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Book Antiqua"/>
              </a:rPr>
              <a:t>-12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 long times are needed (&gt;&gt;20 min at 1 GSa/s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46400" y="5821200"/>
            <a:ext cx="552456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BER can be estimated from the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opening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 (S/N ratio)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of the eye-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38880" y="1989000"/>
            <a:ext cx="1440" cy="9352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71960" y="3705120"/>
            <a:ext cx="1440" cy="4320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77840" y="2781360"/>
            <a:ext cx="1913040" cy="718920"/>
          </a:xfrm>
          <a:prstGeom prst="wedgeRoundRectCallout">
            <a:avLst>
              <a:gd name="adj1" fmla="val 222449"/>
              <a:gd name="adj2" fmla="val -84435"/>
              <a:gd name="adj3" fmla="val 16667"/>
            </a:avLst>
          </a:prstGeom>
          <a:solidFill>
            <a:srgbClr val="63a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ITCCenturyBookT"/>
              </a:rPr>
              <a:t>eye-diagram op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79280" y="4581360"/>
            <a:ext cx="1731960" cy="719280"/>
          </a:xfrm>
          <a:prstGeom prst="wedgeRoundRectCallout">
            <a:avLst>
              <a:gd name="adj1" fmla="val 251189"/>
              <a:gd name="adj2" fmla="val -28587"/>
              <a:gd name="adj3" fmla="val 16667"/>
            </a:avLst>
          </a:prstGeom>
          <a:solidFill>
            <a:srgbClr val="63a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ITCCenturyBookT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ITCCenturyBookT"/>
              </a:rPr>
              <a:t>j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496CC-B6BA-43F4-9408-6BAA664E67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D-WDM System Monitoring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250920" y="1600200"/>
            <a:ext cx="8664480" cy="431172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 flipH="1">
            <a:off x="7451640" y="227664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71400" y="1341360"/>
            <a:ext cx="64803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147080" y="1336680"/>
            <a:ext cx="0" cy="216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94200" y="981000"/>
            <a:ext cx="16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ITCCenturyBookT"/>
              </a:rPr>
              <a:t>Wave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i="1" lang="en-US" sz="2000" spc="-1" strike="noStrike">
                <a:solidFill>
                  <a:srgbClr val="0000ff"/>
                </a:solidFill>
                <a:latin typeface="ITCCenturyBookT"/>
              </a:rPr>
              <a:t>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7451640" y="295272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7451640" y="360216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7451640" y="422100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74640" y="1341360"/>
            <a:ext cx="0" cy="216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677000" y="2800440"/>
            <a:ext cx="1224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00"/>
                </a:solidFill>
                <a:latin typeface="ITCCenturyBookT"/>
              </a:rPr>
              <a:t>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2000" spc="-1" strike="noStrike">
                <a:solidFill>
                  <a:srgbClr val="996600"/>
                </a:solidFill>
                <a:latin typeface="ITCCenturyBookT"/>
              </a:rPr>
              <a:t>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03200" y="5753160"/>
            <a:ext cx="86364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75960" y="5724360"/>
            <a:ext cx="129708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OTDR</a:t>
            </a:r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D2D1-EA82-4DF3-A00D-AF21A2D838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Bibliography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4560" indent="-30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. Donati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Photodetectors: Devices, Circuits and Application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Prentice Hall, New York, 2000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4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4560" indent="-30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. Demtröder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aser Spectroscopy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Springer, Berlin, 1996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4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4560" indent="-30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pplication Note 1550-4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Optical Spectrum Analysis - Basic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Hewlett Packard, U.S.A., 1996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4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4560" indent="-30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http:www.iec.org/tutorials/dwdm_test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4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C5F6-39F0-4844-924C-1B4A9E4C9A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343400" y="4249800"/>
            <a:ext cx="304920" cy="203040"/>
          </a:xfrm>
          <a:prstGeom prst="rightArrow">
            <a:avLst>
              <a:gd name="adj1" fmla="val 50000"/>
              <a:gd name="adj2" fmla="val 3754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4224240"/>
            <a:ext cx="304920" cy="279360"/>
          </a:xfrm>
          <a:prstGeom prst="rightArrow">
            <a:avLst>
              <a:gd name="adj1" fmla="val 50000"/>
              <a:gd name="adj2" fmla="val 27287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Meas. of Optical Power</a:t>
            </a:r>
            <a:br>
              <a:rPr sz="3600"/>
            </a:br>
            <a:r>
              <a:rPr b="1" lang="it-IT" sz="2400" spc="-1" strike="noStrike">
                <a:solidFill>
                  <a:srgbClr val="000000"/>
                </a:solidFill>
                <a:latin typeface="Book Antiqua"/>
              </a:rPr>
              <a:t>(DEFINITIONS and METHODS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lectric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eld [V/m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462456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462456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733920" y="3894120"/>
            <a:ext cx="228600" cy="9907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3894120"/>
            <a:ext cx="228600" cy="9907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894120"/>
            <a:ext cx="228600" cy="9907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70120" y="3773520"/>
            <a:ext cx="7412040" cy="2018160"/>
            <a:chOff x="870120" y="3773520"/>
            <a:chExt cx="7412040" cy="2018160"/>
          </a:xfrm>
        </p:grpSpPr>
        <p:grpSp>
          <p:nvGrpSpPr>
            <p:cNvPr id="107" name=""/>
            <p:cNvGrpSpPr/>
            <p:nvPr/>
          </p:nvGrpSpPr>
          <p:grpSpPr>
            <a:xfrm>
              <a:off x="870120" y="3970080"/>
              <a:ext cx="1828800" cy="838440"/>
              <a:chOff x="870120" y="3970080"/>
              <a:chExt cx="1828800" cy="838440"/>
            </a:xfrm>
          </p:grpSpPr>
          <p:sp>
            <p:nvSpPr>
              <p:cNvPr id="108" name=""/>
              <p:cNvSpPr/>
              <p:nvPr/>
            </p:nvSpPr>
            <p:spPr>
              <a:xfrm>
                <a:off x="1098720" y="3970080"/>
                <a:ext cx="1371600" cy="8384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470320" y="4122720"/>
                <a:ext cx="152280" cy="5331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70120" y="4186080"/>
                <a:ext cx="182880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r" pos="1206360"/>
                    <a:tab algn="l" pos="1486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800" spc="-1" strike="noStrike">
                    <a:solidFill>
                      <a:srgbClr val="000000"/>
                    </a:solidFill>
                    <a:latin typeface="Book Antiqua"/>
                  </a:rPr>
                  <a:t>Lase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754600" y="3773520"/>
              <a:ext cx="2527560" cy="2018160"/>
              <a:chOff x="5754600" y="3773520"/>
              <a:chExt cx="2527560" cy="2018160"/>
            </a:xfrm>
          </p:grpSpPr>
          <p:sp>
            <p:nvSpPr>
              <p:cNvPr id="112" name=""/>
              <p:cNvSpPr/>
              <p:nvPr/>
            </p:nvSpPr>
            <p:spPr>
              <a:xfrm>
                <a:off x="5843520" y="3773520"/>
                <a:ext cx="2133720" cy="1143000"/>
              </a:xfrm>
              <a:prstGeom prst="rect">
                <a:avLst/>
              </a:prstGeom>
              <a:solidFill>
                <a:srgbClr val="63a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54600" y="3925800"/>
                <a:ext cx="2362320" cy="11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r" pos="1206360"/>
                    <a:tab algn="l" pos="1486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Book Antiqua"/>
                  </a:rPr>
                  <a:t>calibrated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Book Antiqua"/>
                  </a:rPr>
                  <a:t> detecto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r" pos="1206360"/>
                    <a:tab algn="l" pos="1486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97600" y="4916520"/>
                <a:ext cx="0" cy="5331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834240" y="5113080"/>
                <a:ext cx="144792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r" pos="1206360"/>
                    <a:tab algn="l" pos="1486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 Antiqua"/>
                  </a:rPr>
                  <a:t>volt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r" pos="1206360"/>
                    <a:tab algn="l" pos="1486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out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64440" y="5221080"/>
                <a:ext cx="60948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r" pos="1206360"/>
                    <a:tab algn="l" pos="1486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400" spc="-1" strike="noStrike">
                    <a:solidFill>
                      <a:srgbClr val="000000"/>
                    </a:solidFill>
                    <a:latin typeface="Book Antiqua"/>
                  </a:rPr>
                  <a:t>V</a:t>
                </a:r>
                <a:r>
                  <a:rPr b="1" lang="it-IT" sz="2400" spc="-1" strike="noStrike" baseline="-25000">
                    <a:solidFill>
                      <a:srgbClr val="000000"/>
                    </a:solidFill>
                    <a:latin typeface="Book Antiqua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3276720" y="4894200"/>
            <a:ext cx="1981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calibr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ttenu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635200" y="3894120"/>
            <a:ext cx="3160800" cy="635040"/>
            <a:chOff x="2635200" y="3894120"/>
            <a:chExt cx="3160800" cy="635040"/>
          </a:xfrm>
        </p:grpSpPr>
        <p:sp>
          <p:nvSpPr>
            <p:cNvPr id="119" name=""/>
            <p:cNvSpPr/>
            <p:nvPr/>
          </p:nvSpPr>
          <p:spPr>
            <a:xfrm>
              <a:off x="4729320" y="4313160"/>
              <a:ext cx="1066680" cy="76320"/>
            </a:xfrm>
            <a:prstGeom prst="rightArrow">
              <a:avLst>
                <a:gd name="adj1" fmla="val 50000"/>
                <a:gd name="adj2" fmla="val 349410"/>
              </a:avLst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35200" y="4198680"/>
              <a:ext cx="1066680" cy="330480"/>
            </a:xfrm>
            <a:prstGeom prst="rightArrow">
              <a:avLst>
                <a:gd name="adj1" fmla="val 50000"/>
                <a:gd name="adj2" fmla="val 80692"/>
              </a:avLst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43200" y="3894120"/>
              <a:ext cx="6094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r" pos="120636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Book Antiqu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52880" y="3894120"/>
              <a:ext cx="6098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r" pos="120636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Book Antiqu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949560" y="3500280"/>
            <a:ext cx="609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68680" y="3500280"/>
            <a:ext cx="609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3500280"/>
            <a:ext cx="609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5584680"/>
            <a:ext cx="2565360" cy="537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r" pos="12063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996600"/>
                </a:solidFill>
                <a:latin typeface="Book Antiqua"/>
              </a:rPr>
              <a:t>V</a:t>
            </a:r>
            <a:r>
              <a:rPr b="1" lang="it-IT" sz="3200" spc="-1" strike="noStrike" baseline="-25000">
                <a:solidFill>
                  <a:srgbClr val="996600"/>
                </a:solidFill>
                <a:latin typeface="Book Antiqua"/>
              </a:rPr>
              <a:t>u</a:t>
            </a:r>
            <a:r>
              <a:rPr b="1" i="1" lang="it-IT" sz="3200" spc="-1" strike="noStrike">
                <a:solidFill>
                  <a:srgbClr val="996600"/>
                </a:solidFill>
                <a:latin typeface="Book Antiqua"/>
              </a:rPr>
              <a:t> =</a:t>
            </a:r>
            <a:r>
              <a:rPr b="1" i="1" lang="it-IT" sz="3200" spc="-1" strike="noStrike">
                <a:solidFill>
                  <a:srgbClr val="996600"/>
                </a:solidFill>
                <a:latin typeface="Symbol"/>
                <a:ea typeface="Symbol"/>
              </a:rPr>
              <a:t></a:t>
            </a:r>
            <a:r>
              <a:rPr b="1" i="1" lang="it-IT" sz="1400" spc="-1" strike="noStrike">
                <a:solidFill>
                  <a:srgbClr val="996600"/>
                </a:solidFill>
                <a:latin typeface="Book Antiqua"/>
              </a:rPr>
              <a:t> </a:t>
            </a:r>
            <a:r>
              <a:rPr b="1" i="1" lang="it-IT" sz="3200" spc="-1" strike="noStrike">
                <a:solidFill>
                  <a:srgbClr val="996600"/>
                </a:solidFill>
                <a:latin typeface="Book Antiqua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066680" y="2986200"/>
            <a:ext cx="7696440" cy="442800"/>
            <a:chOff x="1066680" y="2986200"/>
            <a:chExt cx="7696440" cy="442800"/>
          </a:xfrm>
        </p:grpSpPr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1892160" y="2998800"/>
                  <a:ext cx="6098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IdS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29" name=""/>
            <p:cNvSpPr/>
            <p:nvPr/>
          </p:nvSpPr>
          <p:spPr>
            <a:xfrm>
              <a:off x="1066680" y="2986200"/>
              <a:ext cx="76964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07800" indent="-3078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Book Antiqua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Book Antiqua"/>
                </a:rPr>
                <a:t>P 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 Antiqua"/>
                </a:rPr>
                <a:t>=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Power [W]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066680" y="2031840"/>
            <a:ext cx="7696440" cy="901800"/>
            <a:chOff x="1066680" y="2031840"/>
            <a:chExt cx="7696440" cy="901800"/>
          </a:xfrm>
        </p:grpSpPr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1816200" y="2031840"/>
                  <a:ext cx="58248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E</m:t>
                              </m:r>
                            </m:e>
                            <m:sup/>
                          </m:sSup>
                        </m:num>
                        <m:den>
                          <m:sSub>
                            <m:e>
                              <m:r>
                                <m:t xml:space="preserve">η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32" name=""/>
            <p:cNvGrpSpPr/>
            <p:nvPr/>
          </p:nvGrpSpPr>
          <p:grpSpPr>
            <a:xfrm>
              <a:off x="1066680" y="2133720"/>
              <a:ext cx="7696440" cy="614880"/>
              <a:chOff x="1066680" y="2133720"/>
              <a:chExt cx="7696440" cy="614880"/>
            </a:xfrm>
          </p:grpSpPr>
          <p:sp>
            <p:nvSpPr>
              <p:cNvPr id="133" name=""/>
              <p:cNvSpPr/>
              <p:nvPr/>
            </p:nvSpPr>
            <p:spPr>
              <a:xfrm>
                <a:off x="1066680" y="2260440"/>
                <a:ext cx="7696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marL="307800" indent="-30780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Book Antiqua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it-IT" sz="2400" spc="-1" strike="noStrike">
                    <a:solidFill>
                      <a:srgbClr val="000000"/>
                    </a:solidFill>
                    <a:latin typeface="Book Antiqua"/>
                  </a:rPr>
                  <a:t>I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Book Antiqua"/>
                  </a:rPr>
                  <a:t>=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Book Antiqua"/>
                  </a:rPr>
                  <a:t>	</a:t>
                </a:r>
                <a:r>
                  <a:rPr b="0" i="1" lang="it-IT" sz="2400" spc="-1" strike="noStrike" baseline="30000">
                    <a:solidFill>
                      <a:srgbClr val="000000"/>
                    </a:solidFill>
                    <a:latin typeface="Book Antiqu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Intensity [W/m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Book Antiqu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257800" y="2133720"/>
                <a:ext cx="3048120" cy="61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80"/>
                    </a:solidFill>
                    <a:latin typeface="Book Antiqua"/>
                  </a:rPr>
                  <a:t> </a:t>
                </a:r>
                <a:r>
                  <a:rPr b="0" i="1" lang="en-US" sz="2000" spc="-1" strike="noStrike">
                    <a:solidFill>
                      <a:srgbClr val="008080"/>
                    </a:solidFill>
                    <a:latin typeface="Symbol"/>
                    <a:ea typeface="Symbol"/>
                  </a:rPr>
                  <a:t></a:t>
                </a:r>
                <a:r>
                  <a:rPr b="0" lang="en-US" sz="2000" spc="-1" strike="noStrike" baseline="-25000">
                    <a:solidFill>
                      <a:srgbClr val="008080"/>
                    </a:solidFill>
                    <a:latin typeface="Book Antiqua"/>
                  </a:rPr>
                  <a:t>0</a:t>
                </a:r>
                <a:r>
                  <a:rPr b="0" lang="en-US" sz="2000" spc="-1" strike="noStrike">
                    <a:solidFill>
                      <a:srgbClr val="008080"/>
                    </a:solidFill>
                    <a:latin typeface="Book Antiqua"/>
                  </a:rPr>
                  <a:t> = (</a:t>
                </a:r>
                <a:r>
                  <a:rPr b="0" i="1" lang="en-US" sz="2000" spc="-1" strike="noStrike">
                    <a:solidFill>
                      <a:srgbClr val="00808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000" spc="-1" strike="noStrike" baseline="-25000">
                    <a:solidFill>
                      <a:srgbClr val="008080"/>
                    </a:solidFill>
                    <a:latin typeface="Book Antiqua"/>
                  </a:rPr>
                  <a:t>0</a:t>
                </a:r>
                <a:r>
                  <a:rPr b="0" lang="en-US" sz="2000" spc="-1" strike="noStrike">
                    <a:solidFill>
                      <a:srgbClr val="008080"/>
                    </a:solidFill>
                    <a:latin typeface="Book Antiqua"/>
                  </a:rPr>
                  <a:t>/</a:t>
                </a:r>
                <a:r>
                  <a:rPr b="0" i="1" lang="en-US" sz="2000" spc="-1" strike="noStrike">
                    <a:solidFill>
                      <a:srgbClr val="00808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000" spc="-1" strike="noStrike" baseline="-25000">
                    <a:solidFill>
                      <a:srgbClr val="008080"/>
                    </a:solidFill>
                    <a:latin typeface="Book Antiqua"/>
                  </a:rPr>
                  <a:t>0</a:t>
                </a:r>
                <a:r>
                  <a:rPr b="0" lang="en-US" sz="2000" spc="-1" strike="noStrike">
                    <a:solidFill>
                      <a:srgbClr val="008080"/>
                    </a:solidFill>
                    <a:latin typeface="Book Antiqua"/>
                  </a:rPr>
                  <a:t>)</a:t>
                </a:r>
                <a:r>
                  <a:rPr b="0" lang="en-US" sz="2000" spc="-1" strike="noStrike" baseline="30000">
                    <a:solidFill>
                      <a:srgbClr val="008080"/>
                    </a:solidFill>
                    <a:latin typeface="Book Antiqua"/>
                  </a:rPr>
                  <a:t>1/2</a:t>
                </a:r>
                <a:r>
                  <a:rPr b="0" lang="en-US" sz="2000" spc="-1" strike="noStrike">
                    <a:solidFill>
                      <a:srgbClr val="008080"/>
                    </a:solidFill>
                    <a:latin typeface="Book Antiqua"/>
                  </a:rPr>
                  <a:t> = 377 </a:t>
                </a:r>
                <a:r>
                  <a:rPr b="0" lang="en-US" sz="2000" spc="-1" strike="noStrike">
                    <a:solidFill>
                      <a:srgbClr val="00808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>
                    <a:solidFill>
                      <a:srgbClr val="008080"/>
                    </a:solidFill>
                    <a:latin typeface="Book Antiqu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80"/>
                    </a:solidFill>
                    <a:latin typeface="Book Antiqua"/>
                  </a:rPr>
                  <a:t>vacuum impeda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6543720" y="5456160"/>
            <a:ext cx="2290680" cy="1208160"/>
            <a:chOff x="6543720" y="5456160"/>
            <a:chExt cx="2290680" cy="120816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7451640" y="6093000"/>
              <a:ext cx="129564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6899400" y="5456160"/>
              <a:ext cx="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43720" y="6127920"/>
              <a:ext cx="692280" cy="502920"/>
            </a:xfrm>
            <a:prstGeom prst="rect">
              <a:avLst/>
            </a:prstGeom>
            <a:solidFill>
              <a:srgbClr val="63a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93040" y="6199200"/>
              <a:ext cx="720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07800" indent="-307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Book Antiqua"/>
                </a:rPr>
                <a:t>AD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36000" y="638172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51640" y="5886360"/>
              <a:ext cx="1297080" cy="2890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66040" y="5857920"/>
              <a:ext cx="1368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07800" indent="-307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dig.</a:t>
              </a:r>
              <a:r>
                <a:rPr b="0" lang="en-US" sz="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479600" y="5899320"/>
            <a:ext cx="4537080" cy="932760"/>
            <a:chOff x="1479600" y="5899320"/>
            <a:chExt cx="4537080" cy="932760"/>
          </a:xfrm>
        </p:grpSpPr>
        <p:sp>
          <p:nvSpPr>
            <p:cNvPr id="144" name=""/>
            <p:cNvSpPr/>
            <p:nvPr/>
          </p:nvSpPr>
          <p:spPr>
            <a:xfrm>
              <a:off x="1479600" y="6211800"/>
              <a:ext cx="45370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r" pos="120636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for a PD it is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 =        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(A/W)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ITCCenturyBookT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(V/A</a:t>
              </a:r>
              <a:r>
                <a:rPr b="1" lang="it-IT" sz="2400" spc="-1" strike="noStrike" baseline="-25000">
                  <a:solidFill>
                    <a:srgbClr val="000000"/>
                  </a:solidFill>
                  <a:latin typeface="Book Antiqu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848760" y="5899320"/>
              <a:ext cx="512280" cy="932760"/>
              <a:chOff x="3848760" y="5899320"/>
              <a:chExt cx="512280" cy="932760"/>
            </a:xfrm>
          </p:grpSpPr>
          <p:sp>
            <p:nvSpPr>
              <p:cNvPr id="146" name=""/>
              <p:cNvSpPr/>
              <p:nvPr/>
            </p:nvSpPr>
            <p:spPr>
              <a:xfrm>
                <a:off x="3853080" y="6410160"/>
                <a:ext cx="5079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077000" y="6327360"/>
                <a:ext cx="2048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873600" y="5899320"/>
                <a:ext cx="23832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48760" y="6359400"/>
                <a:ext cx="2278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3100" spc="-1" strike="noStrike">
                    <a:solidFill>
                      <a:srgbClr val="000000"/>
                    </a:solidFill>
                    <a:latin typeface="Book Antiqua"/>
                  </a:rPr>
                  <a:t>h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112640" y="5930640"/>
                <a:ext cx="1972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3100" spc="-1" strike="noStrike">
                    <a:solidFill>
                      <a:srgbClr val="000000"/>
                    </a:solidFill>
                    <a:latin typeface="Book Antiqua"/>
                  </a:rPr>
                  <a:t>e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8244000" y="6165720"/>
            <a:ext cx="504720" cy="476280"/>
            <a:chOff x="8244000" y="6165720"/>
            <a:chExt cx="504720" cy="476280"/>
          </a:xfrm>
        </p:grpSpPr>
        <p:sp>
          <p:nvSpPr>
            <p:cNvPr id="152" name=""/>
            <p:cNvSpPr/>
            <p:nvPr/>
          </p:nvSpPr>
          <p:spPr>
            <a:xfrm>
              <a:off x="8244000" y="6165720"/>
              <a:ext cx="504720" cy="476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244000" y="6165720"/>
              <a:ext cx="504720" cy="476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427640" y="5699160"/>
            <a:ext cx="1296720" cy="609480"/>
            <a:chOff x="4427640" y="5699160"/>
            <a:chExt cx="1296720" cy="609480"/>
          </a:xfrm>
        </p:grpSpPr>
        <p:sp>
          <p:nvSpPr>
            <p:cNvPr id="155" name=""/>
            <p:cNvSpPr/>
            <p:nvPr/>
          </p:nvSpPr>
          <p:spPr>
            <a:xfrm flipV="1">
              <a:off x="4427640" y="5950080"/>
              <a:ext cx="504720" cy="35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83120" y="5699160"/>
              <a:ext cx="741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07800" indent="-307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it-IT" sz="1200" spc="-1" strike="noStrike">
                  <a:solidFill>
                    <a:srgbClr val="000000"/>
                  </a:solidFill>
                  <a:latin typeface="ITCCenturyBookT"/>
                </a:rPr>
                <a:t> </a:t>
              </a:r>
              <a:r>
                <a:rPr b="1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</a:t>
              </a:r>
              <a:r>
                <a:rPr b="1" lang="it-IT" sz="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8AD6-34BF-4837-B639-3546181A38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ptical Power Meter (structure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" y="1019160"/>
            <a:ext cx="3174840" cy="1244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3520" y="1654200"/>
            <a:ext cx="2654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8000"/>
          </a:bodyPr>
          <a:p>
            <a:pPr>
              <a:lnSpc>
                <a:spcPct val="90000"/>
              </a:lnSpc>
              <a:tabLst>
                <a:tab algn="l" pos="0"/>
                <a:tab algn="ctr" pos="537228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Book Antiqua"/>
              </a:rPr>
              <a:t>de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ctr" pos="537228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Book Antiqua"/>
              </a:rPr>
              <a:t>scheme</a:t>
            </a:r>
            <a:r>
              <a:rPr b="0" lang="en-US" sz="2200" spc="-1" strike="noStrike">
                <a:solidFill>
                  <a:srgbClr val="ff0000"/>
                </a:solidFill>
                <a:latin typeface="ITCCenturyBookT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374920" y="3981600"/>
            <a:ext cx="4013280" cy="2298600"/>
            <a:chOff x="2374920" y="3981600"/>
            <a:chExt cx="4013280" cy="2298600"/>
          </a:xfrm>
        </p:grpSpPr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>
              <a:off x="2374920" y="3981600"/>
              <a:ext cx="3174840" cy="22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733920" y="5365800"/>
              <a:ext cx="26542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ctr" pos="537228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 Antiqua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760" y="2751120"/>
            <a:ext cx="2832120" cy="3792600"/>
            <a:chOff x="50760" y="2751120"/>
            <a:chExt cx="2832120" cy="3792600"/>
          </a:xfrm>
        </p:grpSpPr>
        <p:sp>
          <p:nvSpPr>
            <p:cNvPr id="164" name=""/>
            <p:cNvSpPr/>
            <p:nvPr/>
          </p:nvSpPr>
          <p:spPr>
            <a:xfrm>
              <a:off x="304920" y="2751120"/>
              <a:ext cx="2577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66000"/>
            </a:bodyPr>
            <a:p>
              <a:pPr algn="ctr">
                <a:lnSpc>
                  <a:spcPct val="80000"/>
                </a:lnSpc>
                <a:tabLst>
                  <a:tab algn="l" pos="0"/>
                  <a:tab algn="ctr" pos="537228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Book Antiqua"/>
                </a:rPr>
                <a:t>The detector can be THERMAL or SEMICONDU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ctr" pos="537228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Book Antiqua"/>
                </a:rPr>
                <a:t>(thermal detectors have “flat” response)</a:t>
              </a:r>
              <a:r>
                <a:rPr b="0" lang="en-US" sz="2200" spc="-1" strike="noStrike">
                  <a:solidFill>
                    <a:srgbClr val="0000ff"/>
                  </a:solidFill>
                  <a:latin typeface="Book Antiqua"/>
                </a:rPr>
                <a:t>	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50760" y="3981240"/>
              <a:ext cx="228600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33520" y="6238800"/>
              <a:ext cx="15238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ctr" pos="537228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Book Antiqua"/>
                </a:rPr>
                <a:t>CALIB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124080" y="1552680"/>
            <a:ext cx="4483080" cy="1536480"/>
            <a:chOff x="3124080" y="1552680"/>
            <a:chExt cx="4483080" cy="1536480"/>
          </a:xfrm>
        </p:grpSpPr>
        <p:pic>
          <p:nvPicPr>
            <p:cNvPr id="168" name="" descr=""/>
            <p:cNvPicPr/>
            <p:nvPr/>
          </p:nvPicPr>
          <p:blipFill>
            <a:blip r:embed="rId5"/>
            <a:stretch/>
          </p:blipFill>
          <p:spPr>
            <a:xfrm>
              <a:off x="3124080" y="1552680"/>
              <a:ext cx="3810240" cy="15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952880" y="1552680"/>
              <a:ext cx="2654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ctr" pos="537228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 Antiqua"/>
                </a:rPr>
                <a:t>spatial fil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952880" y="2390760"/>
            <a:ext cx="4191120" cy="1917720"/>
            <a:chOff x="4952880" y="2390760"/>
            <a:chExt cx="4191120" cy="1917720"/>
          </a:xfrm>
        </p:grpSpPr>
        <p:pic>
          <p:nvPicPr>
            <p:cNvPr id="171" name="" descr=""/>
            <p:cNvPicPr/>
            <p:nvPr/>
          </p:nvPicPr>
          <p:blipFill>
            <a:blip r:embed="rId6"/>
            <a:stretch/>
          </p:blipFill>
          <p:spPr>
            <a:xfrm>
              <a:off x="4952880" y="2695680"/>
              <a:ext cx="419112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175520" y="2390760"/>
              <a:ext cx="17524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ctr" pos="537228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 Antiqua"/>
                </a:rPr>
                <a:t>attenu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562720" y="4311720"/>
            <a:ext cx="3581280" cy="2489040"/>
            <a:chOff x="5562720" y="4311720"/>
            <a:chExt cx="3581280" cy="2489040"/>
          </a:xfrm>
        </p:grpSpPr>
        <p:pic>
          <p:nvPicPr>
            <p:cNvPr id="174" name="" descr=""/>
            <p:cNvPicPr/>
            <p:nvPr/>
          </p:nvPicPr>
          <p:blipFill>
            <a:blip r:embed="rId7"/>
            <a:stretch/>
          </p:blipFill>
          <p:spPr>
            <a:xfrm>
              <a:off x="5562720" y="4311720"/>
              <a:ext cx="358128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743880" y="6191280"/>
              <a:ext cx="1663560" cy="609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ctr" pos="537228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 Antiqua"/>
                </a:rPr>
                <a:t>commer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ctr" pos="537228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 Antiqua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457880" y="5300640"/>
            <a:ext cx="1769760" cy="1430280"/>
            <a:chOff x="4457880" y="5300640"/>
            <a:chExt cx="1769760" cy="1430280"/>
          </a:xfrm>
        </p:grpSpPr>
        <p:sp>
          <p:nvSpPr>
            <p:cNvPr id="177" name=""/>
            <p:cNvSpPr/>
            <p:nvPr/>
          </p:nvSpPr>
          <p:spPr>
            <a:xfrm>
              <a:off x="4457880" y="6310440"/>
              <a:ext cx="1663560" cy="420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5000"/>
            </a:bodyPr>
            <a:p>
              <a:pPr algn="ctr">
                <a:lnSpc>
                  <a:spcPct val="90000"/>
                </a:lnSpc>
                <a:tabLst>
                  <a:tab algn="l" pos="0"/>
                  <a:tab algn="ctr" pos="537228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Book Antiqua"/>
                </a:rPr>
                <a:t>  </a:t>
              </a:r>
              <a:r>
                <a:rPr b="1" lang="it-IT" sz="1600" spc="-1" strike="noStrike">
                  <a:solidFill>
                    <a:srgbClr val="000000"/>
                  </a:solidFill>
                  <a:latin typeface="Book Antiqua"/>
                </a:rPr>
                <a:t>0.1 dB = 2.3</a:t>
              </a:r>
              <a:r>
                <a:rPr b="1" lang="it-I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it-IT" sz="1600" spc="-1" strike="noStrike">
                  <a:solidFill>
                    <a:srgbClr val="000000"/>
                  </a:solidFill>
                  <a:latin typeface="Book Antiqua"/>
                </a:rPr>
                <a:t>10</a:t>
              </a:r>
              <a:r>
                <a:rPr b="1" lang="it-IT" sz="1600" spc="-1" strike="noStrike" baseline="30000">
                  <a:solidFill>
                    <a:srgbClr val="000000"/>
                  </a:solidFill>
                  <a:latin typeface="Book Antiqua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ctr" pos="537228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Book Antiqua"/>
                </a:rPr>
                <a:t>0.01 dB = 2.3</a:t>
              </a:r>
              <a:r>
                <a:rPr b="1" lang="it-I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it-IT" sz="1600" spc="-1" strike="noStrike">
                  <a:solidFill>
                    <a:srgbClr val="000000"/>
                  </a:solidFill>
                  <a:latin typeface="Book Antiqua"/>
                </a:rPr>
                <a:t>10</a:t>
              </a:r>
              <a:r>
                <a:rPr b="1" lang="it-IT" sz="1600" spc="-1" strike="noStrike" baseline="30000">
                  <a:solidFill>
                    <a:srgbClr val="000000"/>
                  </a:solidFill>
                  <a:latin typeface="Book Antiqu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ctr" pos="537228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651640" y="5300640"/>
              <a:ext cx="576000" cy="10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484360" y="3110040"/>
            <a:ext cx="2735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1000"/>
          </a:bodyPr>
          <a:p>
            <a:pPr algn="ctr">
              <a:lnSpc>
                <a:spcPct val="90000"/>
              </a:lnSpc>
              <a:tabLst>
                <a:tab algn="l" pos="0"/>
                <a:tab algn="ctr" pos="537228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Book Antiqua"/>
              </a:rPr>
              <a:t>abs</a:t>
            </a:r>
            <a:r>
              <a:rPr b="1" i="1" lang="en-US" sz="2000" spc="-1" strike="noStrike">
                <a:solidFill>
                  <a:srgbClr val="0000ff"/>
                </a:solidFill>
                <a:latin typeface="Book Antiqua"/>
              </a:rPr>
              <a:t>P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Book Antiqua"/>
              </a:rPr>
              <a:t>opt</a:t>
            </a: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=</a:t>
            </a:r>
            <a:r>
              <a:rPr b="1" i="1" lang="en-US" sz="2000" spc="-1" strike="noStrike">
                <a:solidFill>
                  <a:srgbClr val="0000ff"/>
                </a:solidFill>
                <a:latin typeface="Book Antiqua"/>
              </a:rPr>
              <a:t>P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Book Antiqua"/>
              </a:rPr>
              <a:t>therm</a:t>
            </a: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=</a:t>
            </a:r>
            <a:br>
              <a:rPr sz="2000"/>
            </a:br>
            <a:r>
              <a:rPr b="1" i="1" lang="en-US" sz="2000" spc="-1" strike="noStrike">
                <a:solidFill>
                  <a:srgbClr val="0000ff"/>
                </a:solidFill>
                <a:latin typeface="Book Antiqua"/>
              </a:rPr>
              <a:t>K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ff"/>
                </a:solidFill>
                <a:latin typeface="Book Antiqua"/>
              </a:rPr>
              <a:t>T</a:t>
            </a: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=</a:t>
            </a:r>
            <a:r>
              <a:rPr b="1" i="1" lang="en-US" sz="2000" spc="-1" strike="noStrike">
                <a:solidFill>
                  <a:srgbClr val="0000ff"/>
                </a:solidFill>
                <a:latin typeface="Book Antiqua"/>
              </a:rPr>
              <a:t>K</a:t>
            </a: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(</a:t>
            </a:r>
            <a:r>
              <a:rPr b="1" i="1" lang="en-US" sz="2000" spc="-1" strike="noStrike">
                <a:solidFill>
                  <a:srgbClr val="0000ff"/>
                </a:solidFill>
                <a:latin typeface="Book Antiqua"/>
              </a:rPr>
              <a:t>T</a:t>
            </a: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-</a:t>
            </a:r>
            <a:r>
              <a:rPr b="1" i="1" lang="en-US" sz="2000" spc="-1" strike="noStrike">
                <a:solidFill>
                  <a:srgbClr val="0000ff"/>
                </a:solidFill>
                <a:latin typeface="Book Antiqua"/>
              </a:rPr>
              <a:t>T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Book Antiqua"/>
              </a:rPr>
              <a:t>amb</a:t>
            </a: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ctr" pos="537228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  </a:t>
            </a:r>
            <a:r>
              <a:rPr b="1" i="1" lang="en-US" sz="2000" spc="-1" strike="noStrike">
                <a:solidFill>
                  <a:srgbClr val="ff0000"/>
                </a:solidFill>
                <a:latin typeface="Book Antiqua"/>
              </a:rPr>
              <a:t>T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Book Antiqua"/>
              </a:rPr>
              <a:t>o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8040" y="4970520"/>
            <a:ext cx="1523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ctr" pos="537228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calibrated”</a:t>
            </a:r>
            <a:r>
              <a:rPr b="0" lang="en-US" sz="1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4187-CA45-487B-B009-24E572AD3C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ower Meter (thermal sensor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79280" y="1481040"/>
            <a:ext cx="4459320" cy="3355920"/>
            <a:chOff x="179280" y="1481040"/>
            <a:chExt cx="4459320" cy="335592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179280" y="1481040"/>
              <a:ext cx="4459320" cy="33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035000" y="3879720"/>
              <a:ext cx="4320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1473120" y="3230280"/>
              <a:ext cx="865440" cy="649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2751120" y="3427200"/>
              <a:ext cx="595440" cy="308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327480" y="37321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2954520" y="3685680"/>
              <a:ext cx="318960" cy="336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273120" y="4022640"/>
              <a:ext cx="1443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15960" y="1150920"/>
            <a:ext cx="38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lnSpc>
                <a:spcPct val="80000"/>
              </a:lnSpc>
              <a:tabLst>
                <a:tab algn="l" pos="0"/>
                <a:tab algn="ctr" pos="537228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HERMOPILE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711680" y="981000"/>
            <a:ext cx="3257640" cy="3494160"/>
            <a:chOff x="4711680" y="981000"/>
            <a:chExt cx="3257640" cy="3494160"/>
          </a:xfrm>
        </p:grpSpPr>
        <p:pic>
          <p:nvPicPr>
            <p:cNvPr id="192" name="" descr=""/>
            <p:cNvPicPr/>
            <p:nvPr/>
          </p:nvPicPr>
          <p:blipFill>
            <a:blip r:embed="rId3"/>
            <a:stretch/>
          </p:blipFill>
          <p:spPr>
            <a:xfrm>
              <a:off x="4711680" y="981000"/>
              <a:ext cx="3257640" cy="34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359320" y="3645000"/>
              <a:ext cx="180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7000"/>
            </a:bodyPr>
            <a:p>
              <a:pPr>
                <a:lnSpc>
                  <a:spcPct val="80000"/>
                </a:lnSpc>
                <a:tabLst>
                  <a:tab algn="l" pos="0"/>
                  <a:tab algn="ctr" pos="537228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thermal 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716360" y="4437000"/>
            <a:ext cx="4103640" cy="2382840"/>
            <a:chOff x="4716360" y="4437000"/>
            <a:chExt cx="4103640" cy="2382840"/>
          </a:xfrm>
        </p:grpSpPr>
        <p:pic>
          <p:nvPicPr>
            <p:cNvPr id="195" name="" descr=""/>
            <p:cNvPicPr/>
            <p:nvPr/>
          </p:nvPicPr>
          <p:blipFill>
            <a:blip r:embed="rId4"/>
            <a:stretch/>
          </p:blipFill>
          <p:spPr>
            <a:xfrm>
              <a:off x="4716360" y="4437000"/>
              <a:ext cx="4103640" cy="238284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sp>
          <p:nvSpPr>
            <p:cNvPr id="196" name=""/>
            <p:cNvSpPr/>
            <p:nvPr/>
          </p:nvSpPr>
          <p:spPr>
            <a:xfrm>
              <a:off x="5724360" y="4543200"/>
              <a:ext cx="1799640" cy="2160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7000"/>
            </a:bodyPr>
            <a:p>
              <a:pPr>
                <a:lnSpc>
                  <a:spcPct val="80000"/>
                </a:lnSpc>
                <a:tabLst>
                  <a:tab algn="l" pos="0"/>
                  <a:tab algn="ctr" pos="537228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reading 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24000" y="4865760"/>
            <a:ext cx="42465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5000"/>
              </a:lnSpc>
              <a:tabLst>
                <a:tab algn="l" pos="0"/>
                <a:tab algn="ctr" pos="537228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he thermal field has a radial gradient: from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central “ho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ctr" pos="537228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zone to the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“cold”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71640" y="3654360"/>
            <a:ext cx="7164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87640" y="3933720"/>
            <a:ext cx="71640" cy="71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4800" y="6067440"/>
            <a:ext cx="421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ctr" pos="537228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Very “slow” (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=1 Hz) but accurate for DC power or average m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40253-2607-4114-AED9-C3047848EF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5326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ower Meter (semiconductor specs.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6248520" cy="2894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711680" y="1625760"/>
            <a:ext cx="533520" cy="1676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58080" y="2057400"/>
            <a:ext cx="3085920" cy="9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105000"/>
              </a:lnSpc>
              <a:tabLst>
                <a:tab algn="l" pos="0"/>
                <a:tab algn="ctr" pos="537228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Book Antiqua"/>
              </a:rPr>
              <a:t>min</a:t>
            </a: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=-90dBm=1p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ctr" pos="537228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Book Antiqua"/>
              </a:rPr>
              <a:t>max</a:t>
            </a: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=+21.5dBm=140mW</a:t>
            </a:r>
            <a:r>
              <a:rPr b="1" lang="en-US" sz="1600" spc="-1" strike="noStrike">
                <a:solidFill>
                  <a:srgbClr val="ff0000"/>
                </a:solidFill>
                <a:latin typeface="Book Antiqu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Book Antiqua"/>
              </a:rPr>
              <a:t>11 orders of magnitude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92240" y="1322280"/>
            <a:ext cx="1224000" cy="142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73760" y="1316160"/>
            <a:ext cx="576360" cy="142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5680" y="1003320"/>
            <a:ext cx="2971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ctr" pos="537228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READING 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425680" y="3419640"/>
            <a:ext cx="6413400" cy="3033720"/>
            <a:chOff x="2425680" y="3419640"/>
            <a:chExt cx="6413400" cy="3033720"/>
          </a:xfrm>
        </p:grpSpPr>
        <p:grpSp>
          <p:nvGrpSpPr>
            <p:cNvPr id="209" name=""/>
            <p:cNvGrpSpPr/>
            <p:nvPr/>
          </p:nvGrpSpPr>
          <p:grpSpPr>
            <a:xfrm>
              <a:off x="2425680" y="3419640"/>
              <a:ext cx="6184800" cy="3033720"/>
              <a:chOff x="2425680" y="3419640"/>
              <a:chExt cx="6184800" cy="3033720"/>
            </a:xfrm>
          </p:grpSpPr>
          <p:pic>
            <p:nvPicPr>
              <p:cNvPr id="21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25680" y="3419640"/>
                <a:ext cx="6184800" cy="30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flipV="1">
                <a:off x="2514600" y="4549680"/>
                <a:ext cx="3657600" cy="4320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2514600" y="5108760"/>
                <a:ext cx="3657600" cy="1648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00720" y="6093000"/>
                <a:ext cx="3384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ctr" pos="537228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Book Antiqua"/>
                  </a:rPr>
                  <a:t>it’s a good Digital Volt Meter!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867280" y="3502080"/>
              <a:ext cx="2971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ctr" pos="537228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Book Antiqua"/>
                </a:rPr>
                <a:t>READING B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730760" y="2732040"/>
            <a:ext cx="503280" cy="14436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5129280"/>
            <a:ext cx="388800" cy="12384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3AA1-478A-418A-AD05-39A4890642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CD detector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848120"/>
            <a:ext cx="480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ITCCenturyBookT"/>
              </a:rPr>
              <a:t> </a:t>
            </a:r>
            <a:r>
              <a:rPr b="1" i="1" lang="en-US" sz="1700" spc="-1" strike="noStrike">
                <a:solidFill>
                  <a:srgbClr val="000000"/>
                </a:solidFill>
                <a:latin typeface="Book Antiqua"/>
              </a:rPr>
              <a:t>A 1024x1024 CCD camera for UV spectrome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9640" y="5230800"/>
            <a:ext cx="79963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liding and collection of photodetected charge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mage reconstruction on a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ixel matrix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0">
              <a:lnSpc>
                <a:spcPct val="9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visualization by raster display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90000"/>
              </a:lnSpc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mportant: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ingle pixel dimension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054760" y="828720"/>
            <a:ext cx="2927160" cy="4400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09480" y="1419120"/>
            <a:ext cx="4362480" cy="338472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6162840" y="4924440"/>
            <a:ext cx="3024000" cy="1784160"/>
            <a:chOff x="6162840" y="4924440"/>
            <a:chExt cx="3024000" cy="1784160"/>
          </a:xfrm>
        </p:grpSpPr>
        <p:grpSp>
          <p:nvGrpSpPr>
            <p:cNvPr id="223" name=""/>
            <p:cNvGrpSpPr/>
            <p:nvPr/>
          </p:nvGrpSpPr>
          <p:grpSpPr>
            <a:xfrm>
              <a:off x="7811640" y="4924440"/>
              <a:ext cx="864000" cy="1241280"/>
              <a:chOff x="7811640" y="4924440"/>
              <a:chExt cx="864000" cy="1241280"/>
            </a:xfrm>
          </p:grpSpPr>
          <p:sp>
            <p:nvSpPr>
              <p:cNvPr id="224" name=""/>
              <p:cNvSpPr/>
              <p:nvPr/>
            </p:nvSpPr>
            <p:spPr>
              <a:xfrm>
                <a:off x="8675640" y="5429160"/>
                <a:ext cx="0" cy="73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7811640" y="4924440"/>
                <a:ext cx="863640" cy="50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6162840" y="6132600"/>
              <a:ext cx="3024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ITCCenturyBookT"/>
                </a:rPr>
                <a:t>Figure from book ‘Photodetectors',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ITCCenturyBookT"/>
                </a:rPr>
                <a:t>by S.Donati, 2nd Ed., AEI Milan 1997.</a:t>
              </a:r>
              <a:r>
                <a:rPr b="0" lang="en-US" sz="1300" spc="-1" strike="noStrike">
                  <a:solidFill>
                    <a:srgbClr val="000000"/>
                  </a:solidFill>
                  <a:latin typeface="ITCCenturyBookT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E437-EEF5-4325-A02B-E6AF60E9A5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Meas. of laser beam profil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 Analysis in the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lane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uring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propagation 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3556080"/>
            <a:ext cx="74678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298440" indent="-2984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as. of the beam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po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ar field 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&gt;&gt;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: meas. of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ivergenc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as. of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stigmatis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0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0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 Antiqu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eas. of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=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334120" y="3378240"/>
                <a:ext cx="23619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zλ</m:t>
                                        </m:r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π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578640" y="4357800"/>
                <a:ext cx="825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w</m:t>
                        </m:r>
                      </m:num>
                      <m:den>
                        <m:r>
                          <m:t xml:space="preserve">Δ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532320" y="5499000"/>
                <a:ext cx="42796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s</m:t>
                            </m:r>
                          </m:sub>
                        </m:sSub>
                      </m:num>
                      <m:den>
                        <m:r>
                          <m:t xml:space="preserve">λ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π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" y="1360440"/>
            <a:ext cx="2666880" cy="19922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276720" y="1370160"/>
            <a:ext cx="2666880" cy="19825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6095880" y="1371600"/>
            <a:ext cx="2667240" cy="19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FC02-EB76-46B0-872C-5702CA588A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aboratory Wave-Met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it is a very-accurate interferometer!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36" name=""/>
          <p:cNvSpPr/>
          <p:nvPr/>
        </p:nvSpPr>
        <p:spPr>
          <a:xfrm>
            <a:off x="33289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5768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838080" y="5295960"/>
            <a:ext cx="7925040" cy="952560"/>
            <a:chOff x="838080" y="5295960"/>
            <a:chExt cx="7925040" cy="952560"/>
          </a:xfrm>
        </p:grpSpPr>
        <p:sp>
          <p:nvSpPr>
            <p:cNvPr id="239" name=""/>
            <p:cNvSpPr/>
            <p:nvPr/>
          </p:nvSpPr>
          <p:spPr>
            <a:xfrm>
              <a:off x="838080" y="5562720"/>
              <a:ext cx="7925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Relative uncert.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    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Book Antiqua"/>
                </a:rPr>
                <a:t>thanks to </a:t>
              </a:r>
              <a:r>
                <a:rPr b="0" lang="en-US" sz="2200" spc="-1" strike="noStrike">
                  <a:solidFill>
                    <a:srgbClr val="ff0000"/>
                  </a:solidFill>
                  <a:latin typeface="Book Antiqua"/>
                </a:rPr>
                <a:t>He-Ne/I</a:t>
              </a:r>
              <a:r>
                <a:rPr b="0" lang="en-US" sz="2200" spc="-1" strike="noStrike" baseline="-25000">
                  <a:solidFill>
                    <a:srgbClr val="ff0000"/>
                  </a:solidFill>
                  <a:latin typeface="Book Antiqua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3505320" y="5295960"/>
                  <a:ext cx="266688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Δλ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≈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Δλ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1" name=""/>
          <p:cNvSpPr/>
          <p:nvPr/>
        </p:nvSpPr>
        <p:spPr>
          <a:xfrm>
            <a:off x="95400" y="6143760"/>
            <a:ext cx="43192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</a:t>
            </a:r>
            <a:r>
              <a:rPr b="1" i="1" lang="en-US" sz="2000" spc="-1" strike="noStrike" baseline="-25000">
                <a:solidFill>
                  <a:srgbClr val="33cc33"/>
                </a:solidFill>
                <a:latin typeface="ITCCenturyBookT"/>
              </a:rPr>
              <a:t>x</a:t>
            </a:r>
            <a:r>
              <a:rPr b="1" lang="en-US" sz="2000" spc="-1" strike="noStrike">
                <a:solidFill>
                  <a:srgbClr val="33cc33"/>
                </a:solidFill>
                <a:latin typeface="ITCCenturyBookT"/>
              </a:rPr>
              <a:t>=</a:t>
            </a:r>
            <a:r>
              <a:rPr b="0" lang="en-US" sz="2000" spc="-1" strike="noStrike">
                <a:solidFill>
                  <a:srgbClr val="33cc33"/>
                </a:solidFill>
                <a:latin typeface="ITCCenturyBookT"/>
              </a:rPr>
              <a:t>1.55</a:t>
            </a:r>
            <a:r>
              <a:rPr b="0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33cc33"/>
                </a:solidFill>
                <a:latin typeface="ITCCenturyBookT"/>
              </a:rPr>
              <a:t>m </a:t>
            </a:r>
            <a:r>
              <a:rPr b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</a:t>
            </a:r>
            <a:r>
              <a:rPr b="1" i="1" lang="en-US" sz="2000" spc="-1" strike="noStrike" baseline="-25000">
                <a:solidFill>
                  <a:srgbClr val="33cc33"/>
                </a:solidFill>
                <a:latin typeface="ITCCenturyBookT"/>
              </a:rPr>
              <a:t>x</a:t>
            </a:r>
            <a:r>
              <a:rPr b="1" lang="en-US" sz="2000" spc="-1" strike="noStrike">
                <a:solidFill>
                  <a:srgbClr val="33cc33"/>
                </a:solidFill>
                <a:latin typeface="ITCCenturyBookT"/>
              </a:rPr>
              <a:t>=</a:t>
            </a:r>
            <a:r>
              <a:rPr b="0" lang="en-US" sz="2000" spc="-1" strike="noStrike">
                <a:solidFill>
                  <a:srgbClr val="33cc33"/>
                </a:solidFill>
                <a:latin typeface="ITCCenturyBookT"/>
              </a:rPr>
              <a:t>1.55</a:t>
            </a:r>
            <a:r>
              <a:rPr b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cc33"/>
                </a:solidFill>
                <a:latin typeface="ITCCenturyBookT"/>
              </a:rPr>
              <a:t>10</a:t>
            </a:r>
            <a:r>
              <a:rPr b="0" lang="en-US" sz="2000" spc="-1" strike="noStrike" baseline="30000">
                <a:solidFill>
                  <a:srgbClr val="33cc33"/>
                </a:solidFill>
                <a:latin typeface="ITCCenturyBookT"/>
              </a:rPr>
              <a:t>-16</a:t>
            </a:r>
            <a:r>
              <a:rPr b="0" lang="en-US" sz="2000" spc="-1" strike="noStrike">
                <a:solidFill>
                  <a:srgbClr val="33cc33"/>
                </a:solidFill>
                <a:latin typeface="ITCCenturyBookT"/>
              </a:rPr>
              <a:t>m=0.15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</a:t>
            </a:r>
            <a:r>
              <a:rPr b="1" i="1" lang="en-US" sz="2000" spc="-1" strike="noStrike" baseline="-25000">
                <a:solidFill>
                  <a:srgbClr val="33cc33"/>
                </a:solidFill>
                <a:latin typeface="ITCCenturyBookT"/>
              </a:rPr>
              <a:t>x</a:t>
            </a:r>
            <a:r>
              <a:rPr b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33cc33"/>
                </a:solidFill>
                <a:latin typeface="ITCCenturyBookT"/>
              </a:rPr>
              <a:t>193THz  </a:t>
            </a:r>
            <a:r>
              <a:rPr b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</a:t>
            </a:r>
            <a:r>
              <a:rPr b="1" i="1" lang="en-US" sz="2000" spc="-1" strike="noStrike" baseline="-25000">
                <a:solidFill>
                  <a:srgbClr val="33cc33"/>
                </a:solidFill>
                <a:latin typeface="ITCCenturyBookT"/>
              </a:rPr>
              <a:t>x</a:t>
            </a:r>
            <a:r>
              <a:rPr b="1" lang="en-US" sz="2000" spc="-1" strike="noStrike">
                <a:solidFill>
                  <a:srgbClr val="33cc33"/>
                </a:solidFill>
                <a:latin typeface="ITCCenturyBookT"/>
              </a:rPr>
              <a:t> </a:t>
            </a:r>
            <a:r>
              <a:rPr b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33cc33"/>
                </a:solidFill>
                <a:latin typeface="ITCCenturyBookT"/>
              </a:rPr>
              <a:t>19.3kHz </a:t>
            </a:r>
            <a:r>
              <a:rPr b="0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33cc33"/>
                </a:solidFill>
                <a:latin typeface="ITCCenturyBookT"/>
              </a:rPr>
              <a:t>20k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124080" y="1447920"/>
            <a:ext cx="5943600" cy="29336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488960"/>
            <a:ext cx="2962080" cy="29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adiation under test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and a reference one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travel, in vacuum, along th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ame path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ounted as interference fringes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n the two detectors PD1 e PD2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36600" y="4230720"/>
            <a:ext cx="8655120" cy="1168200"/>
            <a:chOff x="336600" y="4230720"/>
            <a:chExt cx="8655120" cy="1168200"/>
          </a:xfrm>
        </p:grpSpPr>
        <p:sp>
          <p:nvSpPr>
            <p:cNvPr id="245" name=""/>
            <p:cNvSpPr/>
            <p:nvPr/>
          </p:nvSpPr>
          <p:spPr>
            <a:xfrm>
              <a:off x="4593960" y="4533480"/>
              <a:ext cx="62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400" spc="-1" strike="noStrike">
                  <a:solidFill>
                    <a:srgbClr val="000000"/>
                  </a:solidFill>
                  <a:latin typeface="ITCCenturyBookT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105520" y="4533480"/>
                  <a:ext cx="388620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ε</m:t>
                          </m:r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κλ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"/>
            <p:cNvSpPr/>
            <p:nvPr/>
          </p:nvSpPr>
          <p:spPr>
            <a:xfrm>
              <a:off x="336600" y="4230720"/>
              <a:ext cx="43927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PD2 count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N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fringes a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PD1 counts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N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) fringes a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138480" y="4390920"/>
            <a:ext cx="5904000" cy="142920"/>
          </a:xfrm>
          <a:prstGeom prst="rect">
            <a:avLst/>
          </a:prstGeom>
          <a:solidFill>
            <a:srgbClr val="ffffff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50080" y="4214880"/>
            <a:ext cx="1790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Book Antiqua"/>
              </a:rPr>
              <a:t>4</a:t>
            </a:r>
            <a:r>
              <a:rPr b="1" lang="en-US" sz="1800" spc="-1" strike="noStrike">
                <a:solidFill>
                  <a:srgbClr val="9966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996600"/>
                </a:solidFill>
                <a:latin typeface="Book Antiqua"/>
              </a:rPr>
              <a:t>L</a:t>
            </a:r>
            <a:r>
              <a:rPr b="1" lang="en-US" sz="1800" spc="-1" strike="noStrike">
                <a:solidFill>
                  <a:srgbClr val="996600"/>
                </a:solidFill>
                <a:latin typeface="Book Antiqua"/>
              </a:rPr>
              <a:t>=</a:t>
            </a:r>
            <a:r>
              <a:rPr b="1" i="1" lang="en-US" sz="1800" spc="-1" strike="noStrike">
                <a:solidFill>
                  <a:srgbClr val="996600"/>
                </a:solidFill>
                <a:latin typeface="Book Antiqua"/>
              </a:rPr>
              <a:t>N</a:t>
            </a:r>
            <a:r>
              <a:rPr b="1" i="1" lang="en-US" sz="1800" spc="-1" strike="noStrike" baseline="-25000">
                <a:solidFill>
                  <a:srgbClr val="996600"/>
                </a:solidFill>
                <a:latin typeface="Book Antiqua"/>
              </a:rPr>
              <a:t>x</a:t>
            </a:r>
            <a:r>
              <a:rPr b="1" i="1" lang="en-US" sz="18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1" i="1" lang="en-US" sz="1800" spc="-1" strike="noStrike" baseline="-25000">
                <a:solidFill>
                  <a:srgbClr val="996600"/>
                </a:solidFill>
                <a:latin typeface="Book Antiqua"/>
              </a:rPr>
              <a:t>x</a:t>
            </a:r>
            <a:r>
              <a:rPr b="1" lang="en-US" sz="1800" spc="-1" strike="noStrike">
                <a:solidFill>
                  <a:srgbClr val="996600"/>
                </a:solidFill>
                <a:latin typeface="Book Antiqua"/>
              </a:rPr>
              <a:t>=</a:t>
            </a:r>
            <a:r>
              <a:rPr b="1" i="1" lang="en-US" sz="1800" spc="-1" strike="noStrike">
                <a:solidFill>
                  <a:srgbClr val="996600"/>
                </a:solidFill>
                <a:latin typeface="Book Antiqua"/>
              </a:rPr>
              <a:t>N</a:t>
            </a:r>
            <a:r>
              <a:rPr b="1" lang="en-US" sz="1800" spc="-1" strike="noStrike" baseline="-25000">
                <a:solidFill>
                  <a:srgbClr val="996600"/>
                </a:solidFill>
                <a:latin typeface="Book Antiqua"/>
              </a:rPr>
              <a:t>R</a:t>
            </a:r>
            <a:r>
              <a:rPr b="1" i="1" lang="en-US" sz="18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1" i="1" lang="en-US" sz="1800" spc="-1" strike="noStrike" baseline="-25000">
                <a:solidFill>
                  <a:srgbClr val="996600"/>
                </a:solidFill>
                <a:latin typeface="Book Antiqu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64000" y="6288120"/>
            <a:ext cx="4680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Book Antiqua"/>
              </a:rPr>
              <a:t>For </a:t>
            </a:r>
            <a:r>
              <a:rPr b="1" i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</a:t>
            </a:r>
            <a:r>
              <a:rPr b="1" i="1" lang="en-US" sz="1800" spc="-1" strike="noStrike" baseline="-25000">
                <a:solidFill>
                  <a:srgbClr val="33cc33"/>
                </a:solidFill>
                <a:latin typeface="Book Antiqua"/>
              </a:rPr>
              <a:t>R</a:t>
            </a:r>
            <a:r>
              <a:rPr b="1" lang="en-US" sz="1800" spc="-1" strike="noStrike">
                <a:solidFill>
                  <a:srgbClr val="33cc33"/>
                </a:solidFill>
                <a:latin typeface="Book Antiqua"/>
              </a:rPr>
              <a:t>=633nm, 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33cc33"/>
                </a:solidFill>
                <a:latin typeface="Book Antiqua"/>
              </a:rPr>
              <a:t>L</a:t>
            </a:r>
            <a:r>
              <a:rPr b="1" lang="en-US" sz="1800" spc="-1" strike="noStrike">
                <a:solidFill>
                  <a:srgbClr val="33cc33"/>
                </a:solidFill>
                <a:latin typeface="Book Antiqua"/>
              </a:rPr>
              <a:t>=30cm one gets </a:t>
            </a:r>
            <a:r>
              <a:rPr b="1" i="1" lang="en-US" sz="1800" spc="-1" strike="noStrike">
                <a:solidFill>
                  <a:srgbClr val="33cc33"/>
                </a:solidFill>
                <a:latin typeface="Book Antiqua"/>
              </a:rPr>
              <a:t>N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Book Antiqua"/>
              </a:rPr>
              <a:t>R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33cc33"/>
                </a:solidFill>
                <a:latin typeface="Book Antiqua"/>
              </a:rPr>
              <a:t>1.9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33cc33"/>
                </a:solidFill>
                <a:latin typeface="Book Antiqua"/>
              </a:rPr>
              <a:t>10</a:t>
            </a:r>
            <a:r>
              <a:rPr b="1" lang="en-US" sz="1800" spc="-1" strike="noStrike" baseline="30000">
                <a:solidFill>
                  <a:srgbClr val="33cc33"/>
                </a:solidFill>
                <a:latin typeface="Book Antiqua"/>
              </a:rPr>
              <a:t>6</a:t>
            </a:r>
            <a:br>
              <a:rPr sz="1800"/>
            </a:br>
            <a:r>
              <a:rPr b="1" lang="en-US" sz="1800" spc="-1" strike="noStrike">
                <a:solidFill>
                  <a:srgbClr val="33cc33"/>
                </a:solidFill>
                <a:latin typeface="Book Antiqua"/>
              </a:rPr>
              <a:t>with </a:t>
            </a:r>
            <a:r>
              <a:rPr b="1" i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</a:t>
            </a:r>
            <a:r>
              <a:rPr b="1" i="1" lang="en-US" sz="1800" spc="-1" strike="noStrike" baseline="-25000">
                <a:solidFill>
                  <a:srgbClr val="33cc33"/>
                </a:solidFill>
                <a:latin typeface="Book Antiqua"/>
              </a:rPr>
              <a:t>x</a:t>
            </a:r>
            <a:r>
              <a:rPr b="1" lang="en-US" sz="1800" spc="-1" strike="noStrike">
                <a:solidFill>
                  <a:srgbClr val="33cc33"/>
                </a:solidFill>
                <a:latin typeface="Book Antiqua"/>
              </a:rPr>
              <a:t>=1550nm one gets </a:t>
            </a:r>
            <a:r>
              <a:rPr b="1" i="1" lang="en-US" sz="1800" spc="-1" strike="noStrike">
                <a:solidFill>
                  <a:srgbClr val="33cc33"/>
                </a:solidFill>
                <a:latin typeface="Book Antiqua"/>
              </a:rPr>
              <a:t>N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Book Antiqua"/>
              </a:rPr>
              <a:t>x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33cc33"/>
                </a:solidFill>
                <a:latin typeface="Book Antiqua"/>
              </a:rPr>
              <a:t>7.7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33cc33"/>
                </a:solidFill>
                <a:latin typeface="Book Antiqua"/>
              </a:rPr>
              <a:t>10</a:t>
            </a:r>
            <a:r>
              <a:rPr b="1" lang="en-US" sz="1800" spc="-1" strike="noStrike" baseline="30000">
                <a:solidFill>
                  <a:srgbClr val="33cc33"/>
                </a:solidFill>
                <a:latin typeface="Book Antiqu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20000" y="5937120"/>
            <a:ext cx="1655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996600"/>
                </a:solidFill>
                <a:latin typeface="Book Antiqua"/>
              </a:rPr>
              <a:t>u</a:t>
            </a:r>
            <a:r>
              <a:rPr b="1" lang="en-US" sz="1800" spc="-1" strike="noStrike" baseline="-25000">
                <a:solidFill>
                  <a:srgbClr val="996600"/>
                </a:solidFill>
                <a:latin typeface="Book Antiqua"/>
              </a:rPr>
              <a:t>r</a:t>
            </a:r>
            <a:r>
              <a:rPr b="1" lang="en-US" sz="1800" spc="-1" strike="noStrike">
                <a:solidFill>
                  <a:srgbClr val="996600"/>
                </a:solidFill>
                <a:latin typeface="Book Antiqua"/>
              </a:rPr>
              <a:t>(</a:t>
            </a:r>
            <a:r>
              <a:rPr b="1" i="1" lang="en-US" sz="18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1" i="1" lang="en-US" sz="1800" spc="-1" strike="noStrike" baseline="-25000">
                <a:solidFill>
                  <a:srgbClr val="996600"/>
                </a:solidFill>
                <a:latin typeface="Book Antiqua"/>
              </a:rPr>
              <a:t>R</a:t>
            </a:r>
            <a:r>
              <a:rPr b="1" lang="en-US" sz="1800" spc="-1" strike="noStrike">
                <a:solidFill>
                  <a:srgbClr val="996600"/>
                </a:solidFill>
                <a:latin typeface="Book Antiqua"/>
              </a:rPr>
              <a:t>)=2.5</a:t>
            </a:r>
            <a:r>
              <a:rPr b="1" lang="en-US" sz="1800" spc="-1" strike="noStrike">
                <a:solidFill>
                  <a:srgbClr val="9966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996600"/>
                </a:solidFill>
                <a:latin typeface="Book Antiqua"/>
              </a:rPr>
              <a:t>10</a:t>
            </a:r>
            <a:r>
              <a:rPr b="1" lang="en-US" sz="1800" spc="-1" strike="noStrike" baseline="30000">
                <a:solidFill>
                  <a:srgbClr val="996600"/>
                </a:solidFill>
                <a:latin typeface="Book Antiqua"/>
              </a:rPr>
              <a:t>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211800" y="4010040"/>
            <a:ext cx="287280" cy="7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19720" y="391176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8000" y="5851440"/>
            <a:ext cx="22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</a:t>
            </a:r>
            <a:r>
              <a:rPr b="0" i="1" lang="en-US" sz="800" spc="-1" strike="noStrike">
                <a:solidFill>
                  <a:srgbClr val="33cc33"/>
                </a:solidFill>
                <a:latin typeface="ITCCenturyBookT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ITCCenturyBookT"/>
              </a:rPr>
              <a:t>/</a:t>
            </a:r>
            <a:r>
              <a:rPr b="0" i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33cc33"/>
                </a:solidFill>
                <a:latin typeface="ITCCenturyBookT"/>
              </a:rPr>
              <a:t>=10</a:t>
            </a:r>
            <a:r>
              <a:rPr b="0" lang="en-US" sz="2000" spc="-1" strike="noStrike" baseline="30000">
                <a:solidFill>
                  <a:srgbClr val="33cc33"/>
                </a:solidFill>
                <a:latin typeface="ITCCenturyBookT"/>
              </a:rPr>
              <a:t>-10</a:t>
            </a:r>
            <a:r>
              <a:rPr b="0" lang="en-US" sz="2000" spc="-1" strike="noStrike">
                <a:solidFill>
                  <a:srgbClr val="33cc33"/>
                </a:solidFill>
                <a:latin typeface="ITCCenturyBookT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cc33"/>
                </a:solidFill>
                <a:latin typeface="ITCCenturyBookT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87800" y="40006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Book Antiqua"/>
              </a:rPr>
              <a:t>Michelson Wave-Meter</a:t>
            </a:r>
            <a:br>
              <a:rPr sz="2000"/>
            </a:br>
            <a:r>
              <a:rPr b="1" lang="en-US" sz="1800" spc="-1" strike="noStrike">
                <a:solidFill>
                  <a:srgbClr val="996600"/>
                </a:solidFill>
                <a:latin typeface="Book Antiqua"/>
              </a:rPr>
              <a:t>2 interferometers at </a:t>
            </a:r>
            <a:r>
              <a:rPr b="1" i="1" lang="en-US" sz="18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 baseline="-25000">
                <a:solidFill>
                  <a:srgbClr val="996600"/>
                </a:solidFill>
                <a:latin typeface="Book Antiqua"/>
              </a:rPr>
              <a:t>x</a:t>
            </a:r>
            <a:r>
              <a:rPr b="1" lang="en-US" sz="1800" spc="-1" strike="noStrike">
                <a:solidFill>
                  <a:srgbClr val="996600"/>
                </a:solidFill>
                <a:latin typeface="Book Antiqua"/>
              </a:rPr>
              <a:t>, </a:t>
            </a:r>
            <a:r>
              <a:rPr b="1" i="1" lang="en-US" sz="18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 baseline="-25000">
                <a:solidFill>
                  <a:srgbClr val="996600"/>
                </a:solidFill>
                <a:latin typeface="Book Antiqu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978600" y="2558880"/>
            <a:ext cx="235080" cy="1283040"/>
            <a:chOff x="6978600" y="2558880"/>
            <a:chExt cx="235080" cy="1283040"/>
          </a:xfrm>
        </p:grpSpPr>
        <p:grpSp>
          <p:nvGrpSpPr>
            <p:cNvPr id="257" name=""/>
            <p:cNvGrpSpPr/>
            <p:nvPr/>
          </p:nvGrpSpPr>
          <p:grpSpPr>
            <a:xfrm>
              <a:off x="6991200" y="2558880"/>
              <a:ext cx="222480" cy="152640"/>
              <a:chOff x="6991200" y="2558880"/>
              <a:chExt cx="222480" cy="152640"/>
            </a:xfrm>
          </p:grpSpPr>
          <p:sp>
            <p:nvSpPr>
              <p:cNvPr id="258" name=""/>
              <p:cNvSpPr/>
              <p:nvPr/>
            </p:nvSpPr>
            <p:spPr>
              <a:xfrm>
                <a:off x="6991200" y="2558880"/>
                <a:ext cx="196920" cy="127080"/>
              </a:xfrm>
              <a:custGeom>
                <a:avLst/>
                <a:gdLst/>
                <a:ahLst/>
                <a:rect l="l" t="t" r="r" b="b"/>
                <a:pathLst>
                  <a:path w="124" h="80">
                    <a:moveTo>
                      <a:pt x="124" y="0"/>
                    </a:moveTo>
                    <a:cubicBezTo>
                      <a:pt x="108" y="1"/>
                      <a:pt x="91" y="0"/>
                      <a:pt x="76" y="4"/>
                    </a:cubicBezTo>
                    <a:cubicBezTo>
                      <a:pt x="58" y="9"/>
                      <a:pt x="69" y="42"/>
                      <a:pt x="64" y="60"/>
                    </a:cubicBezTo>
                    <a:cubicBezTo>
                      <a:pt x="58" y="80"/>
                      <a:pt x="17" y="80"/>
                      <a:pt x="0" y="8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16760" y="2584440"/>
                <a:ext cx="196920" cy="127080"/>
              </a:xfrm>
              <a:custGeom>
                <a:avLst/>
                <a:gdLst/>
                <a:ahLst/>
                <a:rect l="l" t="t" r="r" b="b"/>
                <a:pathLst>
                  <a:path w="124" h="80">
                    <a:moveTo>
                      <a:pt x="124" y="0"/>
                    </a:moveTo>
                    <a:cubicBezTo>
                      <a:pt x="108" y="1"/>
                      <a:pt x="91" y="0"/>
                      <a:pt x="76" y="4"/>
                    </a:cubicBezTo>
                    <a:cubicBezTo>
                      <a:pt x="58" y="9"/>
                      <a:pt x="69" y="42"/>
                      <a:pt x="64" y="60"/>
                    </a:cubicBezTo>
                    <a:cubicBezTo>
                      <a:pt x="58" y="80"/>
                      <a:pt x="17" y="80"/>
                      <a:pt x="0" y="8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985080" y="2774880"/>
              <a:ext cx="221760" cy="152640"/>
              <a:chOff x="6985080" y="2774880"/>
              <a:chExt cx="221760" cy="152640"/>
            </a:xfrm>
          </p:grpSpPr>
          <p:sp>
            <p:nvSpPr>
              <p:cNvPr id="261" name=""/>
              <p:cNvSpPr/>
              <p:nvPr/>
            </p:nvSpPr>
            <p:spPr>
              <a:xfrm>
                <a:off x="6985080" y="2774880"/>
                <a:ext cx="196560" cy="127080"/>
              </a:xfrm>
              <a:custGeom>
                <a:avLst/>
                <a:gdLst/>
                <a:ahLst/>
                <a:rect l="l" t="t" r="r" b="b"/>
                <a:pathLst>
                  <a:path w="124" h="80">
                    <a:moveTo>
                      <a:pt x="124" y="0"/>
                    </a:moveTo>
                    <a:cubicBezTo>
                      <a:pt x="108" y="1"/>
                      <a:pt x="91" y="0"/>
                      <a:pt x="76" y="4"/>
                    </a:cubicBezTo>
                    <a:cubicBezTo>
                      <a:pt x="58" y="9"/>
                      <a:pt x="69" y="42"/>
                      <a:pt x="64" y="60"/>
                    </a:cubicBezTo>
                    <a:cubicBezTo>
                      <a:pt x="58" y="80"/>
                      <a:pt x="17" y="80"/>
                      <a:pt x="0" y="8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10280" y="2800440"/>
                <a:ext cx="196560" cy="127080"/>
              </a:xfrm>
              <a:custGeom>
                <a:avLst/>
                <a:gdLst/>
                <a:ahLst/>
                <a:rect l="l" t="t" r="r" b="b"/>
                <a:pathLst>
                  <a:path w="124" h="80">
                    <a:moveTo>
                      <a:pt x="124" y="0"/>
                    </a:moveTo>
                    <a:cubicBezTo>
                      <a:pt x="108" y="1"/>
                      <a:pt x="91" y="0"/>
                      <a:pt x="76" y="4"/>
                    </a:cubicBezTo>
                    <a:cubicBezTo>
                      <a:pt x="58" y="9"/>
                      <a:pt x="69" y="42"/>
                      <a:pt x="64" y="60"/>
                    </a:cubicBezTo>
                    <a:cubicBezTo>
                      <a:pt x="58" y="80"/>
                      <a:pt x="17" y="80"/>
                      <a:pt x="0" y="8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6985080" y="3473280"/>
              <a:ext cx="221760" cy="152640"/>
              <a:chOff x="6985080" y="3473280"/>
              <a:chExt cx="221760" cy="15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985080" y="3473280"/>
                <a:ext cx="196560" cy="127080"/>
              </a:xfrm>
              <a:custGeom>
                <a:avLst/>
                <a:gdLst/>
                <a:ahLst/>
                <a:rect l="l" t="t" r="r" b="b"/>
                <a:pathLst>
                  <a:path w="124" h="80">
                    <a:moveTo>
                      <a:pt x="124" y="0"/>
                    </a:moveTo>
                    <a:cubicBezTo>
                      <a:pt x="108" y="1"/>
                      <a:pt x="91" y="0"/>
                      <a:pt x="76" y="4"/>
                    </a:cubicBezTo>
                    <a:cubicBezTo>
                      <a:pt x="58" y="9"/>
                      <a:pt x="69" y="42"/>
                      <a:pt x="64" y="60"/>
                    </a:cubicBezTo>
                    <a:cubicBezTo>
                      <a:pt x="58" y="80"/>
                      <a:pt x="17" y="80"/>
                      <a:pt x="0" y="8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010280" y="3498840"/>
                <a:ext cx="196560" cy="127080"/>
              </a:xfrm>
              <a:custGeom>
                <a:avLst/>
                <a:gdLst/>
                <a:ahLst/>
                <a:rect l="l" t="t" r="r" b="b"/>
                <a:pathLst>
                  <a:path w="124" h="80">
                    <a:moveTo>
                      <a:pt x="124" y="0"/>
                    </a:moveTo>
                    <a:cubicBezTo>
                      <a:pt x="108" y="1"/>
                      <a:pt x="91" y="0"/>
                      <a:pt x="76" y="4"/>
                    </a:cubicBezTo>
                    <a:cubicBezTo>
                      <a:pt x="58" y="9"/>
                      <a:pt x="69" y="42"/>
                      <a:pt x="64" y="60"/>
                    </a:cubicBezTo>
                    <a:cubicBezTo>
                      <a:pt x="58" y="80"/>
                      <a:pt x="17" y="80"/>
                      <a:pt x="0" y="8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978600" y="3689280"/>
              <a:ext cx="222480" cy="152640"/>
              <a:chOff x="6978600" y="3689280"/>
              <a:chExt cx="222480" cy="152640"/>
            </a:xfrm>
          </p:grpSpPr>
          <p:sp>
            <p:nvSpPr>
              <p:cNvPr id="267" name=""/>
              <p:cNvSpPr/>
              <p:nvPr/>
            </p:nvSpPr>
            <p:spPr>
              <a:xfrm>
                <a:off x="6978600" y="3689280"/>
                <a:ext cx="196920" cy="127080"/>
              </a:xfrm>
              <a:custGeom>
                <a:avLst/>
                <a:gdLst/>
                <a:ahLst/>
                <a:rect l="l" t="t" r="r" b="b"/>
                <a:pathLst>
                  <a:path w="124" h="80">
                    <a:moveTo>
                      <a:pt x="124" y="0"/>
                    </a:moveTo>
                    <a:cubicBezTo>
                      <a:pt x="108" y="1"/>
                      <a:pt x="91" y="0"/>
                      <a:pt x="76" y="4"/>
                    </a:cubicBezTo>
                    <a:cubicBezTo>
                      <a:pt x="58" y="9"/>
                      <a:pt x="69" y="42"/>
                      <a:pt x="64" y="60"/>
                    </a:cubicBezTo>
                    <a:cubicBezTo>
                      <a:pt x="58" y="80"/>
                      <a:pt x="17" y="80"/>
                      <a:pt x="0" y="8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04160" y="3714840"/>
                <a:ext cx="196920" cy="127080"/>
              </a:xfrm>
              <a:custGeom>
                <a:avLst/>
                <a:gdLst/>
                <a:ahLst/>
                <a:rect l="l" t="t" r="r" b="b"/>
                <a:pathLst>
                  <a:path w="124" h="80">
                    <a:moveTo>
                      <a:pt x="124" y="0"/>
                    </a:moveTo>
                    <a:cubicBezTo>
                      <a:pt x="108" y="1"/>
                      <a:pt x="91" y="0"/>
                      <a:pt x="76" y="4"/>
                    </a:cubicBezTo>
                    <a:cubicBezTo>
                      <a:pt x="58" y="9"/>
                      <a:pt x="69" y="42"/>
                      <a:pt x="64" y="60"/>
                    </a:cubicBezTo>
                    <a:cubicBezTo>
                      <a:pt x="58" y="80"/>
                      <a:pt x="17" y="80"/>
                      <a:pt x="0" y="8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49F5-C35E-4FCC-9379-1777B103E9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2T23:11:32Z</dcterms:created>
  <dc:creator>C. Svelto</dc:creator>
  <dc:description/>
  <dc:language>en-US</dc:language>
  <cp:lastModifiedBy>Notebook HP</cp:lastModifiedBy>
  <cp:lastPrinted>1999-09-13T09:18:36Z</cp:lastPrinted>
  <dcterms:modified xsi:type="dcterms:W3CDTF">2016-01-17T20:44:18Z</dcterms:modified>
  <cp:revision>369</cp:revision>
  <dc:subject/>
  <dc:title>Misure sui laser</dc:title>
</cp:coreProperties>
</file>