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1.png" ContentType="image/png"/>
  <Override PartName="/ppt/media/image6.png" ContentType="image/png"/>
  <Override PartName="/ppt/media/image33.png" ContentType="image/png"/>
  <Override PartName="/ppt/media/image8.png" ContentType="image/png"/>
  <Override PartName="/ppt/media/image35.wmf" ContentType="image/x-wmf"/>
  <Override PartName="/ppt/media/image13.png" ContentType="image/png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12.png" ContentType="image/png"/>
  <Override PartName="/ppt/media/image29.png" ContentType="image/png"/>
  <Override PartName="/ppt/media/image2.wmf" ContentType="image/x-wmf"/>
  <Override PartName="/ppt/media/image32.wmf" ContentType="image/x-wmf"/>
  <Override PartName="/ppt/media/image40.wmf" ContentType="image/x-wmf"/>
  <Override PartName="/ppt/media/image7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6F0BA2D-65E1-4CEB-8F8D-A46D48205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53920" y="745920"/>
            <a:ext cx="4959360" cy="37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0346F2-50C9-4A1C-96A6-5250D0135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66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68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70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72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74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76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78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80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82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84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86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88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90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92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60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62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964" name=""/>
          <p:cNvSpPr/>
          <p:nvPr/>
        </p:nvSpPr>
        <p:spPr>
          <a:xfrm>
            <a:off x="217440" y="4665600"/>
            <a:ext cx="62262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amo cominciare definendo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versi interva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i frequenza/lunghezza-d’onda che rappresentano la regione spettrale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frequenze ottiche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ordiamo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zione fondamentale, ( lambda = ci su ni 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lega  lunghezza d’onda e frequenza di una radiazione elettromagnetica, dove “c” è la velocità di propagazione della luce nel mezzo conside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endo da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equenze più ba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 dunque dalle onde “più lunghe”, possiamo individuar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ione delle onde millimetric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on lunghezza d’onda tra i 10mm e 1mm; salendo in frequenza, entriamo ne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o dell’infraros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ntano e medio, che si estende dai 100 ai 2.5u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FE3A-7D9E-410C-A40A-8D1F0B151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EEA8-2886-4033-9392-E38AC004F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1013-35CB-4EC5-92A4-857320F2E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3244-C5DC-4BDE-A5C3-1703770F4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C799-DD19-498F-9617-9001352217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9E04-C1DE-4FB5-A2B3-435F0714B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054D-9A08-47D7-A340-4AF82477D2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7172-3CD3-4825-BB8E-A5E55E83F7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1C51-153A-42D8-9490-DD6422DE94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15FC-6C12-4D90-AD37-A1F1399F2D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1F63-FB20-4A01-ACDA-227E29C06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8F70-D000-456E-9FF6-BE5C515FB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CF54-E83E-4C62-AA69-8FAC04260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C02A-9E17-4D92-BED9-9FC5B94526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C726-CF39-4CBB-9112-6F6C8D3F2E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5DF9-9290-497A-8B3C-C69DFCF7C7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36B6-B37E-4B6F-8D4A-9FC95CBA1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21E9-5F2D-462D-96C5-E229B6B19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6242-9ED0-4118-8F1F-932C0D0DE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0FC1-82D2-43CE-B716-CEE024892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063F-24D9-4CA2-BC88-88EF2102F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B1FB-BCB0-4D02-9970-2BD5ED26E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5F32-C327-4737-8354-2419E85E2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6624-2B37-4895-988A-E743057BD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2" marL="985680" indent="-2044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3" marL="1306440" indent="-2062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4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5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6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20471D4-823F-4D4B-B183-D7CC8F2BF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68580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3049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26560" y="129528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403848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84312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255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26560" y="165564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4114800" y="63241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07FCCC7-59CE-4CAE-AAFF-9DD2E844D087}" type="slidenum"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43000" y="6294600"/>
            <a:ext cx="1104840" cy="21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34320" y="6172200"/>
            <a:ext cx="83160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1185840"/>
            <a:ext cx="76975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40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Optical Telemeters</a:t>
            </a:r>
            <a:br>
              <a:rPr sz="4800"/>
            </a:br>
            <a:br>
              <a:rPr sz="4800"/>
            </a:br>
            <a:br>
              <a:rPr sz="44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f. 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esare Svelto</a:t>
            </a:r>
            <a:br>
              <a:rPr sz="3200"/>
            </a:br>
            <a:br>
              <a:rPr sz="800"/>
            </a:b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olitecnico di Milan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01080" y="333360"/>
            <a:ext cx="955440" cy="924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9055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ptical Measurements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”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ster Degree in Engineer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utomation-, Electronics-, Physics-, Telecommunication- Engineering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5" name=""/>
          <p:cNvSpPr/>
          <p:nvPr/>
        </p:nvSpPr>
        <p:spPr>
          <a:xfrm>
            <a:off x="176040" y="6291360"/>
            <a:ext cx="69818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Book Antiqua"/>
              </a:rPr>
              <a:t>Some pictures are taken from the Book “Electro-Optical Instrumentation: </a:t>
            </a:r>
            <a:br>
              <a:rPr sz="1400"/>
            </a:br>
            <a:r>
              <a:rPr b="0" lang="en-US" sz="1400" spc="-1" strike="noStrike">
                <a:solidFill>
                  <a:srgbClr val="333333"/>
                </a:solidFill>
                <a:latin typeface="Book Antiqua"/>
              </a:rPr>
              <a:t>Sensing and Measuring with Lasers” by Prof. Silvano Donat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96BB-5768-4411-89EB-2361E3F80F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856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ctive” (laser) optical triangulator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4" name=""/>
          <p:cNvSpPr/>
          <p:nvPr/>
        </p:nvSpPr>
        <p:spPr>
          <a:xfrm>
            <a:off x="431640" y="1471680"/>
            <a:ext cx="82695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292320" indent="-292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can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emove moving parts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no goniom. with respect to passive triangulator) and we achieve a very quick and accurate response, very repe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4640" y="2936880"/>
            <a:ext cx="87393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e use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visibl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 simplicity of “target viewing” (He-Ne at 633 nm or LD-VIS or Nd:YAG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2280" y="4059360"/>
            <a:ext cx="84675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laser beam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undergoes a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round tri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ath from telemeter to target.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1D measurement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 optical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osition sensor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2Q/PSD/CCD) of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ngle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tween going and returning beam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ing optics is off-axis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rom launching optics (so angl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converted into displacement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: we then retrieve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/tan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C38E-A227-4377-BE42-79BD846E75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167600" y="1693800"/>
            <a:ext cx="504720" cy="412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00100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ser triangulator  or active triangulato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27120" y="5715000"/>
                <a:ext cx="161136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0" name="" descr=""/>
          <p:cNvPicPr/>
          <p:nvPr/>
        </p:nvPicPr>
        <p:blipFill>
          <a:blip r:embed="rId2"/>
          <a:srcRect l="0" t="0" r="0" b="9307"/>
          <a:stretch/>
        </p:blipFill>
        <p:spPr>
          <a:xfrm>
            <a:off x="490680" y="1685880"/>
            <a:ext cx="7002360" cy="4129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V="1">
            <a:off x="2292480" y="4532040"/>
            <a:ext cx="2206440" cy="11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921040" y="5762520"/>
                <a:ext cx="17413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5737320" y="5676840"/>
            <a:ext cx="3006720" cy="1168560"/>
            <a:chOff x="5737320" y="5676840"/>
            <a:chExt cx="3006720" cy="1168560"/>
          </a:xfrm>
        </p:grpSpPr>
        <p:sp>
          <p:nvSpPr>
            <p:cNvPr id="234" name=""/>
            <p:cNvSpPr/>
            <p:nvPr/>
          </p:nvSpPr>
          <p:spPr>
            <a:xfrm>
              <a:off x="5737320" y="5964120"/>
              <a:ext cx="4968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6446880" y="5676840"/>
                  <a:ext cx="229716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ll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2951280" y="5429160"/>
            <a:ext cx="4271760" cy="39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95120" y="4778280"/>
            <a:ext cx="3881880" cy="1059120"/>
            <a:chOff x="2895120" y="4778280"/>
            <a:chExt cx="3881880" cy="1059120"/>
          </a:xfrm>
        </p:grpSpPr>
        <p:sp>
          <p:nvSpPr>
            <p:cNvPr id="238" name=""/>
            <p:cNvSpPr/>
            <p:nvPr/>
          </p:nvSpPr>
          <p:spPr>
            <a:xfrm flipH="1" flipV="1">
              <a:off x="2895120" y="4778280"/>
              <a:ext cx="158760" cy="66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048120" y="5432040"/>
              <a:ext cx="407880" cy="12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1440" y="5316480"/>
              <a:ext cx="32655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Interference filter removes ambient light disturb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1135080" y="4149360"/>
            <a:ext cx="5646600" cy="572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9280" y="4205160"/>
            <a:ext cx="36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0040" y="4203720"/>
            <a:ext cx="279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55760" y="1158840"/>
            <a:ext cx="5967360" cy="4716360"/>
            <a:chOff x="2255760" y="1158840"/>
            <a:chExt cx="5967360" cy="4716360"/>
          </a:xfrm>
        </p:grpSpPr>
        <p:grpSp>
          <p:nvGrpSpPr>
            <p:cNvPr id="245" name=""/>
            <p:cNvGrpSpPr/>
            <p:nvPr/>
          </p:nvGrpSpPr>
          <p:grpSpPr>
            <a:xfrm>
              <a:off x="2255760" y="1158840"/>
              <a:ext cx="5967360" cy="387360"/>
              <a:chOff x="2255760" y="1158840"/>
              <a:chExt cx="5967360" cy="38736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3068640" y="1535040"/>
                <a:ext cx="36291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diamond" w="lg"/>
                <a:tailEnd len="med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55760" y="1536840"/>
                <a:ext cx="811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diamond" w="lg"/>
                <a:tailEnd len="med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550960" y="1158840"/>
                <a:ext cx="567216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ill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                  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406600" y="5489640"/>
              <a:ext cx="627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diamond" w="lg"/>
              <a:tailEnd len="med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84520" y="5487840"/>
              <a:ext cx="658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389400" y="3341520"/>
            <a:ext cx="4238640" cy="1185840"/>
            <a:chOff x="3389400" y="3341520"/>
            <a:chExt cx="4238640" cy="1185840"/>
          </a:xfrm>
        </p:grpSpPr>
        <p:sp>
          <p:nvSpPr>
            <p:cNvPr id="252" name=""/>
            <p:cNvSpPr/>
            <p:nvPr/>
          </p:nvSpPr>
          <p:spPr>
            <a:xfrm>
              <a:off x="5097600" y="3341520"/>
              <a:ext cx="253044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is measured as displacement in the "rec“ lens focal pl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89400" y="419256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21160" y="4181400"/>
              <a:ext cx="261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930480" y="4549680"/>
            <a:ext cx="3686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 atan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=atan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rec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br>
              <a:rPr sz="2400"/>
            </a:br>
            <a:br>
              <a:rPr sz="800"/>
            </a:b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L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)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Book Antiqua"/>
              </a:rPr>
              <a:t>rec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1/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“non-l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E07C-1D09-4583-80F9-BBF8B6FBB3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2160" y="533160"/>
            <a:ext cx="73314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Image from a thin lens und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“geometrical optics" [basics]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25480" y="1606680"/>
            <a:ext cx="7481880" cy="32763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873000" y="4287960"/>
            <a:ext cx="8247240" cy="2506680"/>
            <a:chOff x="873000" y="4287960"/>
            <a:chExt cx="8247240" cy="250668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873000" y="5006880"/>
                  <a:ext cx="2565360" cy="169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f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"/>
            <p:cNvSpPr/>
            <p:nvPr/>
          </p:nvSpPr>
          <p:spPr>
            <a:xfrm>
              <a:off x="5432400" y="4287960"/>
              <a:ext cx="228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81200" y="4300560"/>
              <a:ext cx="228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30480" y="5162400"/>
              <a:ext cx="518976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For an object at distanc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 (focal length) from the lens, image is formed to the “infinity" i.e. at a distanc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1628-FB97-44AF-B5AC-506E3DD58A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560" y="469800"/>
            <a:ext cx="71931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imensioning of the laser spot size in the active triangulator [calculus steps]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9720" y="1539720"/>
            <a:ext cx="8545320" cy="2287800"/>
            <a:chOff x="369720" y="1539720"/>
            <a:chExt cx="8545320" cy="228780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6264000" y="1539720"/>
                  <a:ext cx="265104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"/>
            <p:cNvSpPr/>
            <p:nvPr/>
          </p:nvSpPr>
          <p:spPr>
            <a:xfrm>
              <a:off x="2773080" y="1596960"/>
              <a:ext cx="301680" cy="1792440"/>
            </a:xfrm>
            <a:prstGeom prst="ellipse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240" y="2509920"/>
              <a:ext cx="672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26840" y="1981080"/>
              <a:ext cx="0" cy="517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16200" y="2193840"/>
              <a:ext cx="14684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0000"/>
            </a:bodyPr>
            <a:p>
              <a:pPr>
                <a:lnSpc>
                  <a:spcPct val="70000"/>
                </a:lnSpc>
                <a:spcBef>
                  <a:spcPts val="575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Book Antiqua"/>
                </a:rPr>
                <a:t>optical axi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405120" y="2509920"/>
              <a:ext cx="12600" cy="79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6840" y="1992240"/>
              <a:ext cx="696744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01440" y="2247840"/>
              <a:ext cx="216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987720" y="2520000"/>
              <a:ext cx="133200" cy="22860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1" y="0"/>
                  </a:moveTo>
                  <a:cubicBezTo>
                    <a:pt x="43" y="15"/>
                    <a:pt x="25" y="30"/>
                    <a:pt x="15" y="45"/>
                  </a:cubicBezTo>
                  <a:cubicBezTo>
                    <a:pt x="5" y="60"/>
                    <a:pt x="1" y="77"/>
                    <a:pt x="0" y="9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60520" y="2498760"/>
              <a:ext cx="216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41480" y="2292120"/>
              <a:ext cx="133200" cy="22860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1" y="0"/>
                  </a:moveTo>
                  <a:cubicBezTo>
                    <a:pt x="43" y="15"/>
                    <a:pt x="25" y="30"/>
                    <a:pt x="15" y="45"/>
                  </a:cubicBezTo>
                  <a:cubicBezTo>
                    <a:pt x="5" y="60"/>
                    <a:pt x="1" y="77"/>
                    <a:pt x="0" y="9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360" y="3456000"/>
              <a:ext cx="22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931840" y="338580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20680" y="3456000"/>
              <a:ext cx="350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57080" y="3522600"/>
              <a:ext cx="5288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44880" y="3524040"/>
              <a:ext cx="528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9720" y="2127240"/>
              <a:ext cx="5284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11680" y="2766960"/>
              <a:ext cx="5288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-1440" y="3832200"/>
            <a:ext cx="8712000" cy="3025800"/>
            <a:chOff x="-1440" y="3832200"/>
            <a:chExt cx="8712000" cy="302580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-1440" y="3832200"/>
              <a:ext cx="465264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430960" y="6195960"/>
              <a:ext cx="327960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Book Antiqua"/>
                </a:rPr>
                <a:t>w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Book Antiqua"/>
                </a:rPr>
                <a:t>rec</a:t>
              </a:r>
              <a:r>
                <a:rPr b="1" lang="en-US" sz="3200" spc="-1" strike="noStrike">
                  <a:solidFill>
                    <a:srgbClr val="ff0000"/>
                  </a:solidFill>
                  <a:latin typeface="Book Antiqua"/>
                </a:rPr>
                <a:t>= 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Book Antiqua"/>
                </a:rPr>
                <a:t>f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Book Antiqua"/>
                </a:rPr>
                <a:t>rec </a:t>
              </a:r>
              <a:r>
                <a:rPr b="1" lang="en-US" sz="3200" spc="-1" strike="noStrike">
                  <a:solidFill>
                    <a:srgbClr val="ff0000"/>
                  </a:solidFill>
                  <a:latin typeface="Book Antiqua"/>
                </a:rPr>
                <a:t>/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Book Antiqua"/>
                </a:rPr>
                <a:t>f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Book Antiqua"/>
                </a:rPr>
                <a:t>ill</a:t>
              </a:r>
              <a:r>
                <a:rPr b="1" lang="en-US" sz="3200" spc="-1" strike="noStrike">
                  <a:solidFill>
                    <a:srgbClr val="ff0000"/>
                  </a:solidFill>
                  <a:latin typeface="Book Antiqua"/>
                </a:rPr>
                <a:t>)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Book Antiqua"/>
                </a:rPr>
                <a:t>w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Book Antiqua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998960" y="3863880"/>
            <a:ext cx="3780000" cy="1052640"/>
            <a:chOff x="4998960" y="3863880"/>
            <a:chExt cx="3780000" cy="1052640"/>
          </a:xfrm>
        </p:grpSpPr>
        <p:sp>
          <p:nvSpPr>
            <p:cNvPr id="287" name=""/>
            <p:cNvSpPr/>
            <p:nvPr/>
          </p:nvSpPr>
          <p:spPr>
            <a:xfrm>
              <a:off x="4998960" y="4206960"/>
              <a:ext cx="24037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ill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7270920" y="4222800"/>
                  <a:ext cx="150804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ll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9" name=""/>
            <p:cNvSpPr/>
            <p:nvPr/>
          </p:nvSpPr>
          <p:spPr>
            <a:xfrm>
              <a:off x="5403960" y="3863880"/>
              <a:ext cx="23810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toward 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976640" y="5000760"/>
            <a:ext cx="3538800" cy="1032840"/>
            <a:chOff x="4976640" y="5000760"/>
            <a:chExt cx="3538800" cy="1032840"/>
          </a:xfrm>
        </p:grpSpPr>
        <p:grpSp>
          <p:nvGrpSpPr>
            <p:cNvPr id="291" name=""/>
            <p:cNvGrpSpPr/>
            <p:nvPr/>
          </p:nvGrpSpPr>
          <p:grpSpPr>
            <a:xfrm>
              <a:off x="4976640" y="5324400"/>
              <a:ext cx="3538800" cy="709200"/>
              <a:chOff x="4976640" y="5324400"/>
              <a:chExt cx="3538800" cy="709200"/>
            </a:xfrm>
          </p:grpSpPr>
          <p:sp>
            <p:nvSpPr>
              <p:cNvPr id="292" name=""/>
              <p:cNvSpPr/>
              <p:nvPr/>
            </p:nvSpPr>
            <p:spPr>
              <a:xfrm>
                <a:off x="4976640" y="5324400"/>
                <a:ext cx="189576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w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br>
                  <a:rPr sz="2400"/>
                </a:br>
                <a:r>
                  <a:rPr b="0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w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re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Book Antiqua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Book Antiqua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Book Antiqua"/>
                  </a:rPr>
                  <a:t>re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3" name=""/>
                  <p:cNvSpPr txBox="1"/>
                  <p:nvPr/>
                </p:nvSpPr>
                <p:spPr>
                  <a:xfrm>
                    <a:off x="6856560" y="5376240"/>
                    <a:ext cx="1658880" cy="59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94" name=""/>
            <p:cNvSpPr/>
            <p:nvPr/>
          </p:nvSpPr>
          <p:spPr>
            <a:xfrm>
              <a:off x="5380200" y="5000760"/>
              <a:ext cx="23810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toward rece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CDE4-0443-4FA5-ACBB-480DC92817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26800" y="507960"/>
            <a:ext cx="801684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surement equations for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e optical triangulator (1/2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93760" y="2620800"/>
            <a:ext cx="7048440" cy="3267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01680" y="1562040"/>
            <a:ext cx="79279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be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the received spot on the CC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rom the receiving lens optical axi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which is off-set at a fixed distance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from the launching optical ax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85840" y="5962680"/>
            <a:ext cx="9144000" cy="819000"/>
            <a:chOff x="285840" y="5962680"/>
            <a:chExt cx="9144000" cy="819000"/>
          </a:xfrm>
        </p:grpSpPr>
        <p:sp>
          <p:nvSpPr>
            <p:cNvPr id="299" name=""/>
            <p:cNvSpPr/>
            <p:nvPr/>
          </p:nvSpPr>
          <p:spPr>
            <a:xfrm>
              <a:off x="285840" y="5962680"/>
              <a:ext cx="91440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Book Antiqua"/>
                </a:rPr>
                <a:t>For a varia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Book Antiqua"/>
                </a:rPr>
                <a:t>we get a corresponding var.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6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6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Book Antiqua"/>
                </a:rPr>
                <a:t>and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lens convert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in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and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into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7781760" y="6032520"/>
                  <a:ext cx="260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∓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1190520" y="6437160"/>
                  <a:ext cx="260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∓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2" name=""/>
          <p:cNvGrpSpPr/>
          <p:nvPr/>
        </p:nvGrpSpPr>
        <p:grpSpPr>
          <a:xfrm>
            <a:off x="7224840" y="4191120"/>
            <a:ext cx="1957320" cy="776160"/>
            <a:chOff x="7224840" y="4191120"/>
            <a:chExt cx="1957320" cy="776160"/>
          </a:xfrm>
        </p:grpSpPr>
        <p:sp>
          <p:nvSpPr>
            <p:cNvPr id="303" name=""/>
            <p:cNvSpPr/>
            <p:nvPr/>
          </p:nvSpPr>
          <p:spPr>
            <a:xfrm>
              <a:off x="7329600" y="4191120"/>
              <a:ext cx="1722240" cy="7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24840" y="4327560"/>
              <a:ext cx="504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82040" y="4211640"/>
              <a:ext cx="15001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conversion from angle to displac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684840" y="5116680"/>
            <a:ext cx="234324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7400880" y="5119560"/>
                <a:ext cx="1344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∝</m:t>
                    </m:r>
                    <m:r>
                      <m:t xml:space="preserve">α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7224840" y="3373560"/>
            <a:ext cx="1957320" cy="776160"/>
            <a:chOff x="7224840" y="3373560"/>
            <a:chExt cx="1957320" cy="776160"/>
          </a:xfrm>
        </p:grpSpPr>
        <p:sp>
          <p:nvSpPr>
            <p:cNvPr id="309" name=""/>
            <p:cNvSpPr/>
            <p:nvPr/>
          </p:nvSpPr>
          <p:spPr>
            <a:xfrm>
              <a:off x="7329600" y="3373560"/>
              <a:ext cx="1722240" cy="7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24840" y="3510000"/>
              <a:ext cx="504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82040" y="3394080"/>
              <a:ext cx="15001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distance measur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as an a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3"/>
          <a:srcRect l="0" t="14205" r="0" b="14205"/>
          <a:stretch/>
        </p:blipFill>
        <p:spPr>
          <a:xfrm>
            <a:off x="4680000" y="3019320"/>
            <a:ext cx="458640" cy="1825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4032360" y="3154320"/>
            <a:ext cx="439560" cy="2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57CB-B74F-460C-B531-A3B699E37D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30040" y="520560"/>
            <a:ext cx="7399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surement equations for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e optical triangulator (2/2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15" name=""/>
          <p:cNvSpPr/>
          <p:nvPr/>
        </p:nvSpPr>
        <p:spPr>
          <a:xfrm>
            <a:off x="361800" y="169236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measured from the position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n the CC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12920" y="2139840"/>
                <a:ext cx="17064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7" name=""/>
          <p:cNvGrpSpPr/>
          <p:nvPr/>
        </p:nvGrpSpPr>
        <p:grpSpPr>
          <a:xfrm>
            <a:off x="326880" y="5264280"/>
            <a:ext cx="8526600" cy="1545840"/>
            <a:chOff x="326880" y="5264280"/>
            <a:chExt cx="8526600" cy="1545840"/>
          </a:xfrm>
        </p:grpSpPr>
        <p:sp>
          <p:nvSpPr>
            <p:cNvPr id="318" name=""/>
            <p:cNvSpPr/>
            <p:nvPr/>
          </p:nvSpPr>
          <p:spPr>
            <a:xfrm>
              <a:off x="412560" y="5264280"/>
              <a:ext cx="26035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and finall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326880" y="5770440"/>
                  <a:ext cx="3330720" cy="103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Δx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Δα</m:t>
                          </m:r>
                        </m:num>
                        <m:den>
                          <m:r>
                            <m:t xml:space="preserve">α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"/>
            <p:cNvSpPr/>
            <p:nvPr/>
          </p:nvSpPr>
          <p:spPr>
            <a:xfrm>
              <a:off x="3968640" y="5859360"/>
              <a:ext cx="488484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once again as for the 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passive optical triangula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70200" y="2198520"/>
            <a:ext cx="2250720" cy="1360440"/>
            <a:chOff x="970200" y="2198520"/>
            <a:chExt cx="2250720" cy="1360440"/>
          </a:xfrm>
        </p:grpSpPr>
        <p:sp>
          <p:nvSpPr>
            <p:cNvPr id="322" name=""/>
            <p:cNvSpPr/>
            <p:nvPr/>
          </p:nvSpPr>
          <p:spPr>
            <a:xfrm rot="2705400">
              <a:off x="1216080" y="2352600"/>
              <a:ext cx="866880" cy="1054080"/>
            </a:xfrm>
            <a:prstGeom prst="ellipse">
              <a:avLst/>
            </a:prstGeom>
            <a:noFill/>
            <a:ln w="158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2749680" y="2198520"/>
                  <a:ext cx="47124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α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2211480" y="2724120"/>
              <a:ext cx="452520" cy="0"/>
            </a:xfrm>
            <a:prstGeom prst="line">
              <a:avLst/>
            </a:prstGeom>
            <a:ln w="158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087800" y="4944960"/>
            <a:ext cx="3951360" cy="895320"/>
            <a:chOff x="4087800" y="4944960"/>
            <a:chExt cx="3951360" cy="895320"/>
          </a:xfrm>
        </p:grpSpPr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4087800" y="4944960"/>
                  <a:ext cx="262728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</m:t>
                              </m:r>
                            </m:sub>
                          </m:sSub>
                          <m:r>
                            <m:t xml:space="preserve">D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Δx</m:t>
                      </m:r>
                      <m:r>
                        <m:t xml:space="preserve">∝</m:t>
                      </m:r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7024680" y="4994280"/>
                  <a:ext cx="101448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∝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"/>
          <p:cNvGrpSpPr/>
          <p:nvPr/>
        </p:nvGrpSpPr>
        <p:grpSpPr>
          <a:xfrm>
            <a:off x="339840" y="3403440"/>
            <a:ext cx="8746920" cy="1552680"/>
            <a:chOff x="339840" y="3403440"/>
            <a:chExt cx="8746920" cy="1552680"/>
          </a:xfrm>
        </p:grpSpPr>
        <p:grpSp>
          <p:nvGrpSpPr>
            <p:cNvPr id="329" name=""/>
            <p:cNvGrpSpPr/>
            <p:nvPr/>
          </p:nvGrpSpPr>
          <p:grpSpPr>
            <a:xfrm>
              <a:off x="339840" y="3403440"/>
              <a:ext cx="8229600" cy="1531800"/>
              <a:chOff x="339840" y="3403440"/>
              <a:chExt cx="8229600" cy="1531800"/>
            </a:xfrm>
          </p:grpSpPr>
          <p:sp>
            <p:nvSpPr>
              <p:cNvPr id="330" name=""/>
              <p:cNvSpPr/>
              <p:nvPr/>
            </p:nvSpPr>
            <p:spPr>
              <a:xfrm>
                <a:off x="339840" y="3403440"/>
                <a:ext cx="822960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90000"/>
                  </a:lnSpc>
                  <a:spcBef>
                    <a:spcPts val="70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hence, by differentiating in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Book Antiqua"/>
                  </a:rPr>
                  <a:t>L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 and in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Book Antiqua"/>
                  </a:rPr>
                  <a:t>x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Book Antiqua"/>
                  </a:rPr>
                  <a:t>, we ge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1" name=""/>
                  <p:cNvSpPr txBox="1"/>
                  <p:nvPr/>
                </p:nvSpPr>
                <p:spPr>
                  <a:xfrm>
                    <a:off x="355680" y="3895560"/>
                    <a:ext cx="2892240" cy="103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L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c</m:t>
                            </m:r>
                          </m:sub>
                        </m:sSub>
                        <m:r>
                          <m:t xml:space="preserve">Δx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32" name=""/>
            <p:cNvSpPr/>
            <p:nvPr/>
          </p:nvSpPr>
          <p:spPr>
            <a:xfrm>
              <a:off x="3543480" y="4238640"/>
              <a:ext cx="55432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5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ame formula as for passive triangulato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but with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instead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16360" y="3794040"/>
              <a:ext cx="508968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 is now electronically measured by a CC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and we don’t use a goniometer to measur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9A35-F88B-47D9-AE12-6DF79C2687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30040" y="469440"/>
            <a:ext cx="7783560" cy="8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ercise on the laser triangula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“known“ formulas: only calculations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35" name=""/>
          <p:cNvSpPr/>
          <p:nvPr/>
        </p:nvSpPr>
        <p:spPr>
          <a:xfrm>
            <a:off x="387360" y="1379520"/>
            <a:ext cx="861228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: as in the case of passive optical triangulator, we work wit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0 cm (an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e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25 cm) fo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 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we now consid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 an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CC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680" y="2390760"/>
                <a:ext cx="68832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399960" y="3537000"/>
            <a:ext cx="8577360" cy="1679400"/>
            <a:chOff x="399960" y="3537000"/>
            <a:chExt cx="8577360" cy="1679400"/>
          </a:xfrm>
        </p:grpSpPr>
        <p:sp>
          <p:nvSpPr>
            <p:cNvPr id="338" name=""/>
            <p:cNvSpPr/>
            <p:nvPr/>
          </p:nvSpPr>
          <p:spPr>
            <a:xfrm>
              <a:off x="399960" y="3537000"/>
              <a:ext cx="85773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If we resolv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10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m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w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Book Antiqua"/>
                </a:rPr>
                <a:t>CCD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) on the photodetector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426960" y="3994200"/>
                  <a:ext cx="536112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Δ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"/>
            <p:cNvSpPr/>
            <p:nvPr/>
          </p:nvSpPr>
          <p:spPr>
            <a:xfrm>
              <a:off x="6431040" y="4299120"/>
              <a:ext cx="227808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(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=40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( 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 = 1 m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09600" y="5137200"/>
            <a:ext cx="8834400" cy="1708200"/>
            <a:chOff x="309600" y="5137200"/>
            <a:chExt cx="8834400" cy="170820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76200" y="5137200"/>
                  <a:ext cx="660564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Δα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t xml:space="preserve">α</m:t>
                      </m:r>
                      <m:r>
                        <m:t xml:space="preserve">≃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 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ra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309600" y="6141960"/>
              <a:ext cx="883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Remember how for the passive triangulator it wa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3 mrad (micro-screw goniom.)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0.1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mrad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angular encod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F9DB-AD25-4120-A59B-069603DF09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-1440" y="3832200"/>
            <a:ext cx="9145440" cy="3025800"/>
            <a:chOff x="-1440" y="3832200"/>
            <a:chExt cx="9145440" cy="3025800"/>
          </a:xfrm>
        </p:grpSpPr>
        <p:grpSp>
          <p:nvGrpSpPr>
            <p:cNvPr id="345" name=""/>
            <p:cNvGrpSpPr/>
            <p:nvPr/>
          </p:nvGrpSpPr>
          <p:grpSpPr>
            <a:xfrm>
              <a:off x="-1440" y="3832200"/>
              <a:ext cx="9145440" cy="3025800"/>
              <a:chOff x="-1440" y="3832200"/>
              <a:chExt cx="9145440" cy="3025800"/>
            </a:xfrm>
          </p:grpSpPr>
          <p:sp>
            <p:nvSpPr>
              <p:cNvPr id="346" name=""/>
              <p:cNvSpPr/>
              <p:nvPr/>
            </p:nvSpPr>
            <p:spPr>
              <a:xfrm>
                <a:off x="8434440" y="4861080"/>
                <a:ext cx="709560" cy="167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548240" y="4861080"/>
                <a:ext cx="4173480" cy="199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40" y="3832200"/>
                <a:ext cx="4652640" cy="302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9" name=""/>
            <p:cNvSpPr/>
            <p:nvPr/>
          </p:nvSpPr>
          <p:spPr>
            <a:xfrm>
              <a:off x="5415120" y="3884760"/>
              <a:ext cx="349704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ATA: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1 m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m   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il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125 mm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ec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250 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96560" y="469800"/>
            <a:ext cx="71931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ercise on the active triangulator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with data, calculations and steps to get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69720" y="1539720"/>
            <a:ext cx="8545320" cy="2287800"/>
            <a:chOff x="369720" y="1539720"/>
            <a:chExt cx="8545320" cy="2287800"/>
          </a:xfrm>
        </p:grpSpPr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6264000" y="1539720"/>
                  <a:ext cx="265104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3" name=""/>
            <p:cNvSpPr/>
            <p:nvPr/>
          </p:nvSpPr>
          <p:spPr>
            <a:xfrm>
              <a:off x="2773080" y="1596960"/>
              <a:ext cx="301680" cy="1792440"/>
            </a:xfrm>
            <a:prstGeom prst="ellipse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4240" y="2509920"/>
              <a:ext cx="672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726840" y="1981080"/>
              <a:ext cx="0" cy="517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16200" y="2193840"/>
              <a:ext cx="14684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0000"/>
            </a:bodyPr>
            <a:p>
              <a:pPr>
                <a:lnSpc>
                  <a:spcPct val="70000"/>
                </a:lnSpc>
                <a:spcBef>
                  <a:spcPts val="575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Book Antiqua"/>
                </a:rPr>
                <a:t>optical axi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405120" y="2509920"/>
              <a:ext cx="12600" cy="79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6840" y="1992240"/>
              <a:ext cx="696744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1440" y="2247840"/>
              <a:ext cx="216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3987720" y="2520000"/>
              <a:ext cx="133200" cy="22860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1" y="0"/>
                  </a:moveTo>
                  <a:cubicBezTo>
                    <a:pt x="43" y="15"/>
                    <a:pt x="25" y="30"/>
                    <a:pt x="15" y="45"/>
                  </a:cubicBezTo>
                  <a:cubicBezTo>
                    <a:pt x="5" y="60"/>
                    <a:pt x="1" y="77"/>
                    <a:pt x="0" y="9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60520" y="2498760"/>
              <a:ext cx="216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1480" y="2292120"/>
              <a:ext cx="133200" cy="22860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1" y="0"/>
                  </a:moveTo>
                  <a:cubicBezTo>
                    <a:pt x="43" y="15"/>
                    <a:pt x="25" y="30"/>
                    <a:pt x="15" y="45"/>
                  </a:cubicBezTo>
                  <a:cubicBezTo>
                    <a:pt x="5" y="60"/>
                    <a:pt x="1" y="77"/>
                    <a:pt x="0" y="9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3360" y="3456000"/>
              <a:ext cx="22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931840" y="338580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0680" y="3456000"/>
              <a:ext cx="350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522600"/>
              <a:ext cx="5288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44880" y="3524040"/>
              <a:ext cx="528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9720" y="2127240"/>
              <a:ext cx="5284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11680" y="2766960"/>
              <a:ext cx="5288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363920" y="6486480"/>
            <a:ext cx="4303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w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rec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= (</a:t>
            </a: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rec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/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ill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)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w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=10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m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w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C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002040" y="5021280"/>
            <a:ext cx="5986440" cy="709560"/>
            <a:chOff x="3002040" y="5021280"/>
            <a:chExt cx="5986440" cy="709560"/>
          </a:xfrm>
        </p:grpSpPr>
        <p:sp>
          <p:nvSpPr>
            <p:cNvPr id="372" name=""/>
            <p:cNvSpPr/>
            <p:nvPr/>
          </p:nvSpPr>
          <p:spPr>
            <a:xfrm>
              <a:off x="3002040" y="5021280"/>
              <a:ext cx="18954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ill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4948200" y="5037120"/>
                  <a:ext cx="40402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ll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5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t xml:space="preserve">μ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 </m:t>
                      </m:r>
                      <m:r>
                        <m:t xml:space="preserve">μ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4" name=""/>
          <p:cNvGrpSpPr/>
          <p:nvPr/>
        </p:nvGrpSpPr>
        <p:grpSpPr>
          <a:xfrm>
            <a:off x="2979720" y="5745240"/>
            <a:ext cx="6122880" cy="709560"/>
            <a:chOff x="2979720" y="5745240"/>
            <a:chExt cx="6122880" cy="709560"/>
          </a:xfrm>
        </p:grpSpPr>
        <p:sp>
          <p:nvSpPr>
            <p:cNvPr id="375" name=""/>
            <p:cNvSpPr/>
            <p:nvPr/>
          </p:nvSpPr>
          <p:spPr>
            <a:xfrm>
              <a:off x="2979720" y="5745240"/>
              <a:ext cx="18954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ec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4790880" y="5797440"/>
                  <a:ext cx="43117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</m:t>
                              </m:r>
                            </m:sub>
                          </m:sSub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 </m:t>
                      </m:r>
                      <m:r>
                        <m:t xml:space="preserve">μ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 </m:t>
                      </m:r>
                      <m:r>
                        <m:t xml:space="preserve">μ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D61F-8D4D-4E59-BE9D-7E14F38829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30040" y="520560"/>
            <a:ext cx="77835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terpolation in the laser triangulato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8" name=""/>
          <p:cNvSpPr/>
          <p:nvPr/>
        </p:nvSpPr>
        <p:spPr>
          <a:xfrm>
            <a:off x="444600" y="2243160"/>
            <a:ext cx="84708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ploiting the spatial extension of the laser spot on the CCD, we can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terpolate over more bright pixel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ev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solve a sub-pixel laser spot pos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=0.2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CC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r even less) with a resulting improvement in angular and distance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0840" y="4321080"/>
            <a:ext cx="8723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EXERCISE (for home…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Using a laser triangulator with Gaussian laser spot large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50 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m on a 1024 pixel CCD (with 12 bit amplitude resolution and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CCD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10 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m),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we want to retrieve the position of the “spot center" obtained by interpolating over bright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4600" y="1301760"/>
            <a:ext cx="847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patial resolu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the CCD limits angular resolu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hence resolu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n the measurement of distanc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67BE-3AD1-4A26-8481-C4EBC38491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30040" y="520560"/>
            <a:ext cx="77835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ercise on the laser triangulato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2" name=""/>
          <p:cNvSpPr/>
          <p:nvPr/>
        </p:nvSpPr>
        <p:spPr>
          <a:xfrm>
            <a:off x="349200" y="1393920"/>
            <a:ext cx="858996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if the telemeter laser is an He-Ne laser at 633 nm, what </a:t>
            </a:r>
            <a:r>
              <a:rPr b="1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kind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of </a:t>
            </a:r>
            <a:r>
              <a:rPr b="1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CCD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should we use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how many and which </a:t>
            </a:r>
            <a:r>
              <a:rPr b="1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pixels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on the CCD are “well </a:t>
            </a:r>
            <a:r>
              <a:rPr b="1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lit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" when the “background light" covers 1/100 (in amplitude) of the measurement dynamic r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how shall me measure the </a:t>
            </a:r>
            <a:r>
              <a:rPr b="1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positio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of the </a:t>
            </a:r>
            <a:r>
              <a:rPr b="1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spot center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on the CCD? How much wide is the “visible” sp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which are the practical limits to the </a:t>
            </a:r>
            <a:r>
              <a:rPr b="1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accuracy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imagine we can achieve a resolution of 0.1 pixel and calculate the absolute </a:t>
            </a:r>
            <a:r>
              <a:rPr b="1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resolutio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of the telemeter at the minimum measurable distance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L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mi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10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FBBD-8100-44E7-A5BE-A8270BBFD8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1596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ummary 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7" name=""/>
          <p:cNvSpPr/>
          <p:nvPr/>
        </p:nvSpPr>
        <p:spPr>
          <a:xfrm>
            <a:off x="528480" y="1778040"/>
            <a:ext cx="79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0360" indent="-360360">
              <a:lnSpc>
                <a:spcPct val="95000"/>
              </a:lnSpc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asurement principles an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8480" y="2382840"/>
            <a:ext cx="7955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0360" indent="-360360">
              <a:lnSpc>
                <a:spcPct val="95000"/>
              </a:lnSpc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riangul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pas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8480" y="5819760"/>
            <a:ext cx="795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0360" indent="-360360">
              <a:lnSpc>
                <a:spcPct val="95000"/>
              </a:lnSpc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DA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Ight Detection And Rang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548160"/>
            <a:ext cx="85676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0360" indent="-360360">
              <a:lnSpc>
                <a:spcPct val="95000"/>
              </a:lnSpc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ime Of Flight (TOF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pul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Continuous Wave (CW)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[with sine modulation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ower budge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a laser telemeter and system equa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iming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optimal filtering, noise and accuracy, ambigu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optics (launch/receiving), instrument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D2AF-96C5-448F-9F4F-8C025CBDD0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30040" y="520560"/>
            <a:ext cx="77835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ercise on the laser triangulato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4" name=""/>
          <p:cNvSpPr/>
          <p:nvPr/>
        </p:nvSpPr>
        <p:spPr>
          <a:xfrm>
            <a:off x="301680" y="5430960"/>
            <a:ext cx="884232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Book Antiqua"/>
              </a:rPr>
              <a:t>[in general one pixel is lit if its signal level brings its output voltage to a greater than zero (just quantization limit) or here the pixel is well lit when its "signal" level is &gt; 1/100 of the peak/dynamic-range of the whole optical signal (limits due to “noise" and background light)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1680" y="1092240"/>
            <a:ext cx="861372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ANSW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for a red He-Ne laser we can conveniently use a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Si CCD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, sensible in the visible range and in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1680" y="2556000"/>
            <a:ext cx="861372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To calculate how many and which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pixels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on the CCD are “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well lit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", we must before define what we mean for “well lit": since the single pixel can resolve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2</a:t>
            </a:r>
            <a:r>
              <a:rPr b="0" i="1" lang="en-US" sz="2800" spc="-1" strike="noStrike" baseline="30000">
                <a:solidFill>
                  <a:srgbClr val="4d4d4d"/>
                </a:solidFill>
                <a:latin typeface="Book Antiqua"/>
              </a:rPr>
              <a:t>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2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12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4096 levels of photocurrent and hence incident optical power, we can say that a pixel is well lit (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SNR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1) if the current signal is equal to the minimum detectable current (due to quantization or electronic noise of the receiver + “background light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C94B-F1A0-4684-8DF4-373542AF45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30040" y="520560"/>
            <a:ext cx="77835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ercise on the laser triangulato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8" name=""/>
          <p:cNvSpPr/>
          <p:nvPr/>
        </p:nvSpPr>
        <p:spPr>
          <a:xfrm>
            <a:off x="301680" y="4738680"/>
            <a:ext cx="884232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We hence can calc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Book Antiqua"/>
              </a:rPr>
              <a:t>r</a:t>
            </a:r>
            <a:r>
              <a:rPr b="1" i="1" lang="en-US" sz="1000" spc="-1" strike="noStrike">
                <a:solidFill>
                  <a:srgbClr val="4d4d4d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</a:t>
            </a:r>
            <a:r>
              <a:rPr b="1" i="1" lang="en-US" sz="2800" spc="-1" strike="noStrike">
                <a:solidFill>
                  <a:srgbClr val="4d4d4d"/>
                </a:solidFill>
                <a:latin typeface="Book Antiqua"/>
              </a:rPr>
              <a:t>k</a:t>
            </a:r>
            <a:r>
              <a:rPr b="1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1" i="1" lang="en-US" sz="28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1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with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k</a:t>
            </a:r>
            <a:r>
              <a:rPr b="1" i="1" lang="en-US" sz="1600" spc="-1" strike="noStrike">
                <a:solidFill>
                  <a:srgbClr val="4d4d4d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=[0.5</a:t>
            </a:r>
            <a:r>
              <a:rPr b="1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2.3</a:t>
            </a:r>
            <a:r>
              <a:rPr b="1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log</a:t>
            </a:r>
            <a:r>
              <a:rPr b="1" lang="en-US" sz="2800" spc="-1" strike="noStrike" baseline="-25000">
                <a:solidFill>
                  <a:srgbClr val="4d4d4d"/>
                </a:solidFill>
                <a:latin typeface="Book Antiqua"/>
              </a:rPr>
              <a:t>10</a:t>
            </a:r>
            <a:r>
              <a:rPr b="1" i="1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]</a:t>
            </a:r>
            <a:r>
              <a:rPr b="1" lang="en-US" sz="2800" spc="-1" strike="noStrike" baseline="30000">
                <a:solidFill>
                  <a:srgbClr val="4d4d4d"/>
                </a:solidFill>
                <a:latin typeface="Book Antiqua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clearly </a:t>
            </a:r>
            <a:r>
              <a:rPr b="0" i="1" lang="en-US" sz="2400" spc="-1" strike="noStrike">
                <a:solidFill>
                  <a:srgbClr val="4d4d4d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0" lang="en-US" sz="24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 correspond to a certain number of pixe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1680" y="1549440"/>
            <a:ext cx="86137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The optical power on the single pixel is the optical intensity times the pixel area (precisely one should integrate the intensity over the pixel surf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1680" y="2852640"/>
            <a:ext cx="861372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Optical intensity is decreasing as exp(-2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r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/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2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) getting farer from the peak (in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r</a:t>
            </a:r>
            <a:r>
              <a:rPr b="0" i="1" lang="en-US" sz="1400" spc="-1" strike="noStrike">
                <a:solidFill>
                  <a:srgbClr val="4d4d4d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0). So we obtain an</a:t>
            </a:r>
            <a:br>
              <a:rPr sz="2800"/>
            </a:b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1/</a:t>
            </a:r>
            <a:r>
              <a:rPr b="1" i="1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 part of the peak value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when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2</a:t>
            </a:r>
            <a:r>
              <a:rPr b="1" i="1" lang="en-US" sz="2800" spc="-1" strike="noStrike">
                <a:solidFill>
                  <a:srgbClr val="4d4d4d"/>
                </a:solidFill>
                <a:latin typeface="Book Antiqua"/>
              </a:rPr>
              <a:t>r</a:t>
            </a:r>
            <a:r>
              <a:rPr b="1" lang="en-US" sz="2800" spc="-1" strike="noStrike" baseline="30000">
                <a:solidFill>
                  <a:srgbClr val="4d4d4d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=</a:t>
            </a:r>
            <a:r>
              <a:rPr b="1" i="1" lang="en-US" sz="28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1" lang="en-US" sz="2800" spc="-1" strike="noStrike" baseline="30000">
                <a:solidFill>
                  <a:srgbClr val="4d4d4d"/>
                </a:solidFill>
                <a:latin typeface="Book Antiqua"/>
              </a:rPr>
              <a:t>2</a:t>
            </a:r>
            <a:r>
              <a:rPr b="1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ln(</a:t>
            </a:r>
            <a:r>
              <a:rPr b="1" i="1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)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or equivalently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r/w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(0.5ln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)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0.5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[0.5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2.3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log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10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]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608C-8B47-47D2-A1B7-134C33854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30040" y="520560"/>
            <a:ext cx="77835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ercise on the laser triangulato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2" name=""/>
          <p:cNvSpPr/>
          <p:nvPr/>
        </p:nvSpPr>
        <p:spPr>
          <a:xfrm>
            <a:off x="289080" y="4897440"/>
            <a:ext cx="884232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we hence obtain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r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2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2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50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m corresponding to 10 pixels each of size 10 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m (starting from the Gaussan center). The total number of well-lit pixels is finally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20 pixel (</a:t>
            </a:r>
            <a:r>
              <a:rPr b="1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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10)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, for a "visible" spot size (diameter) of approximately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200 </a:t>
            </a:r>
            <a:r>
              <a:rPr b="1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9880" y="3249720"/>
            <a:ext cx="86029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just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quantizatio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we get 1/4096 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1/4000 of the peak value for 2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r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2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ln(4000) </a:t>
            </a:r>
            <a:r>
              <a:rPr b="0" lang="en-US" sz="2000" spc="-1" strike="noStrike">
                <a:solidFill>
                  <a:srgbClr val="4d4d4d"/>
                </a:solidFill>
                <a:latin typeface="Book Antiqua"/>
              </a:rPr>
              <a:t>(</a:t>
            </a:r>
            <a:r>
              <a:rPr b="0" lang="en-US" sz="2000" spc="-1" strike="noStrike">
                <a:solidFill>
                  <a:srgbClr val="4d4d4d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4d4d4d"/>
                </a:solidFill>
                <a:latin typeface="Book Antiqua"/>
              </a:rPr>
              <a:t> 4000 amplitude levels for </a:t>
            </a:r>
            <a:r>
              <a:rPr b="0" i="1" lang="en-US" sz="2000" spc="-1" strike="noStrike">
                <a:solidFill>
                  <a:srgbClr val="4d4d4d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4d4d4d"/>
                </a:solidFill>
                <a:latin typeface="Book Antiqua"/>
              </a:rPr>
              <a:t>=12 bit)</a:t>
            </a:r>
            <a:br>
              <a:rPr sz="2800"/>
            </a:b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r/w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(0.5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ln4000)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0.5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[1.15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log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10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4000]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0.5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[1.15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3.6]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0.5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5120" y="1281240"/>
            <a:ext cx="92188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with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noise and background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(at 1/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1/100 from peak):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we get 1/100 of the peak value for 2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r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2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2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ln(100)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r/w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(0.5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ln100)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0.5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[1.15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log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10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100]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0.5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[2.3]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0.5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1.5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and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r</a:t>
            </a:r>
            <a:r>
              <a:rPr b="0" i="1" lang="en-US" sz="1000" spc="-1" strike="noStrike">
                <a:solidFill>
                  <a:srgbClr val="4d4d4d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75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m with a well-lit spot of about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150 </a:t>
            </a:r>
            <a:r>
              <a:rPr b="1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diameter or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15 pixel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64120" y="2832120"/>
            <a:ext cx="497988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for 1/</a:t>
            </a:r>
            <a:r>
              <a:rPr b="0" i="1" lang="en-US" sz="24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=1/10 of peak, </a:t>
            </a:r>
            <a:r>
              <a:rPr b="0" i="1" lang="en-US" sz="2400" spc="-1" strike="noStrike">
                <a:solidFill>
                  <a:srgbClr val="4d4d4d"/>
                </a:solidFill>
                <a:latin typeface="Book Antiqua"/>
              </a:rPr>
              <a:t>r </a:t>
            </a: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 1.1</a:t>
            </a:r>
            <a:r>
              <a:rPr b="0" lang="en-US" sz="24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4d4d4d"/>
                </a:solidFill>
                <a:latin typeface="Book Antiqua"/>
              </a:rPr>
              <a:t>w</a:t>
            </a:r>
            <a:r>
              <a:rPr b="0" lang="en-US" sz="2400" spc="-1" strike="noStrike" baseline="-25000">
                <a:solidFill>
                  <a:srgbClr val="4d4d4d"/>
                </a:solidFill>
                <a:latin typeface="Book Antiqua"/>
              </a:rPr>
              <a:t>rec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[as we know exp(-2)=13 %</a:t>
            </a:r>
            <a:r>
              <a:rPr b="0" lang="en-US" sz="2400" spc="-1" strike="noStrike">
                <a:solidFill>
                  <a:srgbClr val="4d4d4d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1/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1FA6-1159-4F53-B103-78965B2EBC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30040" y="520560"/>
            <a:ext cx="778356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xercise on the laser triangulato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7" name=""/>
          <p:cNvSpPr/>
          <p:nvPr/>
        </p:nvSpPr>
        <p:spPr>
          <a:xfrm>
            <a:off x="301680" y="5303880"/>
            <a:ext cx="88423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The CCD is wide 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x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max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1024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10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1cm and, considering that 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/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x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max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/</a:t>
            </a:r>
            <a:r>
              <a:rPr b="0" i="1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max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-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L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/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L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mi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, the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resolution 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of the measure is 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L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L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mi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(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/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x</a:t>
            </a:r>
            <a:r>
              <a:rPr b="0" lang="en-US" sz="2800" spc="-1" strike="noStrike" baseline="-25000">
                <a:solidFill>
                  <a:srgbClr val="4d4d4d"/>
                </a:solidFill>
                <a:latin typeface="Book Antiqua"/>
              </a:rPr>
              <a:t>max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)= =10m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(1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m/1cm)=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1mm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[at 10 m distance it is 10</a:t>
            </a:r>
            <a:r>
              <a:rPr b="0" lang="en-US" sz="2800" spc="-1" strike="noStrike" baseline="30000">
                <a:solidFill>
                  <a:srgbClr val="4d4d4d"/>
                </a:solidFill>
                <a:latin typeface="Book Antiqua"/>
              </a:rPr>
              <a:t>-4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0520" y="1389240"/>
            <a:ext cx="885348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The spot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positio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on the CCD can be obtained by a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weighted average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of the Gaussian profile “points”, maybe after subtracting background level, and preferably by the average of only well-lit points; or by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least squares fitting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with function (Gaussian + offset): we can imagine achieving 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4d4d4d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=0.1pixel=1</a:t>
            </a:r>
            <a:r>
              <a:rPr b="0" lang="en-US" sz="2800" spc="-1" strike="noStrike">
                <a:solidFill>
                  <a:srgbClr val="4d4d4d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0160" y="3686040"/>
            <a:ext cx="8781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- Limits to the </a:t>
            </a:r>
            <a:r>
              <a:rPr b="1" lang="en-US" sz="2800" spc="-1" strike="noStrike">
                <a:solidFill>
                  <a:srgbClr val="4d4d4d"/>
                </a:solidFill>
                <a:latin typeface="Book Antiqua"/>
              </a:rPr>
              <a:t>accuracy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are set by noise at the photodetector (ext. light, shot noise, CCD dark current, additional noise: quantization/electronic) leading to a wrong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 Antiqua"/>
              </a:rPr>
              <a:t>estimate of the center position</a:t>
            </a:r>
            <a:r>
              <a:rPr b="0" lang="en-US" sz="2800" spc="-1" strike="noStrike">
                <a:solidFill>
                  <a:srgbClr val="4d4d4d"/>
                </a:solidFill>
                <a:latin typeface="Book Antiqua"/>
              </a:rPr>
              <a:t> of ideal Gaus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60560" y="973080"/>
            <a:ext cx="6734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Book Antiqua"/>
              </a:rPr>
              <a:t>using the photovoltage as pixel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2096640" y="1244520"/>
            <a:ext cx="21924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BC36-9D7F-41F6-A61B-908BE357CD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93840"/>
            <a:ext cx="800100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ime Of Flight (“TOF”) tele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principles and working equations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770040" y="1585800"/>
            <a:ext cx="7291440" cy="2173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1270080" y="5105520"/>
            <a:ext cx="6705360" cy="1430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95440" y="3954600"/>
            <a:ext cx="78580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ser radiation, by means of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al puls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undergoes a round-trip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ath 2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forth and back)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 a time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TOF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ime Of Flight), traveling at light spee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3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3825720" y="1600200"/>
            <a:ext cx="501840" cy="54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E5C9-CA8B-4CD3-BB80-BF73EE89B4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320" y="393840"/>
            <a:ext cx="800100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ime Of Flight (“TOF”) tele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principles and working equations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641600" y="1657440"/>
            <a:ext cx="5819760" cy="1241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4830840" y="3236760"/>
            <a:ext cx="3017880" cy="9748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836960" y="4481640"/>
            <a:ext cx="2449800" cy="1119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34800" y="5946840"/>
            <a:ext cx="8737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xample: to ge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=1 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we nee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m/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m/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7 ns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imit fo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-switched laser; for short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values we need a mode-locked laser; power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=1 mm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p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… difficult to resolve sub-mm with conventional T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62080" y="3165480"/>
            <a:ext cx="2274840" cy="1141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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is constant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depending only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on the time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resolution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41440" y="4629240"/>
            <a:ext cx="2041560" cy="85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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/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1 /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improves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inre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D6D4-4FB5-4984-8CEE-A84F90900E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4442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ime Of Flight tele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length and time resolution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1182600" y="1376280"/>
            <a:ext cx="6211800" cy="3583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82680" y="5029200"/>
            <a:ext cx="84344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ength resolution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n the measurement depends on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ime resolu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so also on pulse duratio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4120" y="5786280"/>
            <a:ext cx="84344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 resolve a time distance or interv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e must work with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ulse duration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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hence with “fast” photodetector electronics, having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andwidth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1/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BA53-8C89-47D4-A080-EE52E910CE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30400" y="457200"/>
            <a:ext cx="66420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ime Of Flight tele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ime interval measurement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9" name=""/>
          <p:cNvSpPr/>
          <p:nvPr/>
        </p:nvSpPr>
        <p:spPr>
          <a:xfrm>
            <a:off x="223920" y="1341360"/>
            <a:ext cx="892008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measurement of a time interval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achieved with a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lectronic count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"counting"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stance between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transmitted pulse) and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pulse received), on the corresponding photodetected electronic signa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sition of pulses on the time axis is  determined by 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reshold discriminator 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rigger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n the voltage waveform/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000" y="5729400"/>
            <a:ext cx="85788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t always an analogu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falls exactly on a clock transi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 the measurement o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has the discrete resolution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the electronic counter, with uncertainty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7072200" y="6404040"/>
                <a:ext cx="622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422" name=""/>
          <p:cNvGrpSpPr/>
          <p:nvPr/>
        </p:nvGrpSpPr>
        <p:grpSpPr>
          <a:xfrm>
            <a:off x="1662840" y="3498840"/>
            <a:ext cx="5434920" cy="1665360"/>
            <a:chOff x="1662840" y="3498840"/>
            <a:chExt cx="5434920" cy="1665360"/>
          </a:xfrm>
        </p:grpSpPr>
        <p:sp>
          <p:nvSpPr>
            <p:cNvPr id="423" name=""/>
            <p:cNvSpPr/>
            <p:nvPr/>
          </p:nvSpPr>
          <p:spPr>
            <a:xfrm flipH="1" flipV="1">
              <a:off x="2431440" y="3987720"/>
              <a:ext cx="18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95600" y="3987720"/>
              <a:ext cx="324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62840" y="4604040"/>
              <a:ext cx="4853160" cy="2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7440" y="4579920"/>
              <a:ext cx="666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65560" y="4592880"/>
              <a:ext cx="6904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06920" y="4656240"/>
              <a:ext cx="6908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97280" y="3498840"/>
              <a:ext cx="6904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2403360" y="3906360"/>
              <a:ext cx="2938320" cy="1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lg"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61880" y="414972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90520" y="414972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20600" y="414972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74880" y="4151520"/>
              <a:ext cx="16992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03520" y="4151520"/>
              <a:ext cx="16956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3600" y="4151520"/>
              <a:ext cx="16992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86080" y="4154760"/>
              <a:ext cx="16992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14720" y="4154760"/>
              <a:ext cx="16956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44800" y="4154760"/>
              <a:ext cx="16992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98720" y="415620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27360" y="415620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57440" y="415620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09920" y="4159440"/>
              <a:ext cx="16992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38560" y="4159440"/>
              <a:ext cx="16992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68640" y="4159440"/>
              <a:ext cx="16992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22560" y="416088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51200" y="416088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81280" y="416088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33760" y="416412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62400" y="416412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92480" y="4164120"/>
              <a:ext cx="169920" cy="43992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46760" y="4165920"/>
              <a:ext cx="16956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75040" y="4165920"/>
              <a:ext cx="16992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05480" y="4165920"/>
              <a:ext cx="169560" cy="439560"/>
            </a:xfrm>
            <a:prstGeom prst="rect">
              <a:avLst/>
            </a:prstGeom>
            <a:noFill/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15920" y="3889440"/>
              <a:ext cx="31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969696"/>
                  </a:solidFill>
                  <a:latin typeface="Book Antiqua"/>
                </a:rPr>
                <a:t>T</a:t>
              </a:r>
              <a:r>
                <a:rPr b="1" lang="en-US" sz="1600" spc="-1" strike="noStrike" baseline="-25000">
                  <a:solidFill>
                    <a:srgbClr val="969696"/>
                  </a:solidFill>
                  <a:latin typeface="Book Antiqu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274840" y="4668840"/>
            <a:ext cx="4253040" cy="973080"/>
            <a:chOff x="2274840" y="4668840"/>
            <a:chExt cx="4253040" cy="973080"/>
          </a:xfrm>
        </p:grpSpPr>
        <p:sp>
          <p:nvSpPr>
            <p:cNvPr id="457" name=""/>
            <p:cNvSpPr/>
            <p:nvPr/>
          </p:nvSpPr>
          <p:spPr>
            <a:xfrm>
              <a:off x="2274840" y="5121360"/>
              <a:ext cx="42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3200" spc="-1" strike="noStrike">
                  <a:solidFill>
                    <a:srgbClr val="ff0000"/>
                  </a:solidFill>
                  <a:latin typeface="Book Antiqua"/>
                </a:rPr>
                <a:t> =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Book Antiqua"/>
                </a:rPr>
                <a:t>stop</a:t>
              </a:r>
              <a:r>
                <a:rPr b="1" lang="en-US" sz="3200" spc="-1" strike="noStrike">
                  <a:solidFill>
                    <a:srgbClr val="ff0000"/>
                  </a:solidFill>
                  <a:latin typeface="Book Antiqua"/>
                </a:rPr>
                <a:t> –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Book Antiqua"/>
                </a:rPr>
                <a:t>start</a:t>
              </a:r>
              <a:r>
                <a:rPr b="1" lang="en-US" sz="32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Book Antiqua"/>
                </a:rPr>
                <a:t>N</a:t>
              </a: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Book Antiqu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94000" y="4668840"/>
              <a:ext cx="158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78160" y="4670640"/>
              <a:ext cx="486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Book Antiqu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122E-5FCD-4073-968E-9B9ADCCC1E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30040" y="414360"/>
            <a:ext cx="760068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ime Of Flight tele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measurement uncertainty of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61" name=""/>
          <p:cNvSpPr/>
          <p:nvPr/>
        </p:nvSpPr>
        <p:spPr>
          <a:xfrm>
            <a:off x="338040" y="1506600"/>
            <a:ext cx="82263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aving uncertainty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both on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en the combined accuracy on the measured time of flig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= [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+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1/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  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8040" y="4551480"/>
            <a:ext cx="862812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general, by choosing the clock perio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hort enough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measurement uncertainty will depend on other facto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much more significant than the “small quantization”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particular on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mplitude noise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 the trigger inp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s noise depends on the circuit electronic noise and on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mplitude noise of the detect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119640" y="2182680"/>
                <a:ext cx="5050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45120" y="2157480"/>
                <a:ext cx="484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314280" y="3005280"/>
            <a:ext cx="86295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we start the clock, with perio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exactly at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e then hav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=0 [ clock pulses starting wit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]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for the whole TOF we obtain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7348680" y="3722760"/>
                <a:ext cx="637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594A-C13D-40BB-92F0-A1542E4711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 flipV="1">
            <a:off x="4978440" y="2811600"/>
            <a:ext cx="1378080" cy="30924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31400" y="456840"/>
            <a:ext cx="80866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ime Of Flight telemete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hreshold discrimination and noise: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69" name=""/>
          <p:cNvSpPr/>
          <p:nvPr/>
        </p:nvSpPr>
        <p:spPr>
          <a:xfrm>
            <a:off x="334800" y="1353960"/>
            <a:ext cx="80092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time of flight is measured a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its variance is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+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8040" y="3200400"/>
            <a:ext cx="37162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location of pulses on time axis  is obtained by 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reshold discriminator (trigger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cting on the voltage signal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photodetec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7520" y="5538960"/>
            <a:ext cx="42181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mplitude nois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becomes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ime nois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rough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lope in the trigger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65760" y="1839960"/>
            <a:ext cx="2521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is more no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503520" y="2562120"/>
            <a:ext cx="5551560" cy="4349520"/>
            <a:chOff x="3503520" y="2562120"/>
            <a:chExt cx="5551560" cy="4349520"/>
          </a:xfrm>
        </p:grpSpPr>
        <p:pic>
          <p:nvPicPr>
            <p:cNvPr id="474" name="" descr=""/>
            <p:cNvPicPr/>
            <p:nvPr/>
          </p:nvPicPr>
          <p:blipFill>
            <a:blip r:embed="rId2"/>
            <a:stretch/>
          </p:blipFill>
          <p:spPr>
            <a:xfrm>
              <a:off x="4065480" y="2562120"/>
              <a:ext cx="4913280" cy="43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503520" y="4227120"/>
              <a:ext cx="71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r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9240" y="2643120"/>
              <a:ext cx="4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443480" y="2619000"/>
              <a:ext cx="0" cy="30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753400" y="5499000"/>
              <a:ext cx="30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24800" y="5499000"/>
              <a:ext cx="4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59400" y="3932280"/>
            <a:ext cx="1158840" cy="828720"/>
            <a:chOff x="4559400" y="3932280"/>
            <a:chExt cx="1158840" cy="828720"/>
          </a:xfrm>
        </p:grpSpPr>
        <p:sp>
          <p:nvSpPr>
            <p:cNvPr id="481" name=""/>
            <p:cNvSpPr/>
            <p:nvPr/>
          </p:nvSpPr>
          <p:spPr>
            <a:xfrm flipV="1">
              <a:off x="4608360" y="3978000"/>
              <a:ext cx="0" cy="73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30760" y="3932280"/>
              <a:ext cx="87480" cy="98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19600" y="4662720"/>
              <a:ext cx="87480" cy="9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4559400" y="3980160"/>
              <a:ext cx="11095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4559400" y="4712040"/>
              <a:ext cx="11095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8080" y="4023000"/>
              <a:ext cx="5824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Book Antiqu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325440" y="2135160"/>
            <a:ext cx="86407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Book Antiqua"/>
              </a:rPr>
              <a:t>Detection of the light pulse providing </a:t>
            </a:r>
            <a:r>
              <a:rPr b="0" i="1" lang="en-US" sz="1800" spc="-1" strike="noStrike">
                <a:solidFill>
                  <a:srgbClr val="333333"/>
                </a:solidFill>
                <a:latin typeface="Book Antiqua"/>
              </a:rPr>
              <a:t>t</a:t>
            </a:r>
            <a:r>
              <a:rPr b="0" lang="en-US" sz="1800" spc="-1" strike="noStrike" baseline="-25000">
                <a:solidFill>
                  <a:srgbClr val="333333"/>
                </a:solidFill>
                <a:latin typeface="Book Antiqua"/>
              </a:rPr>
              <a:t>stop</a:t>
            </a:r>
            <a:r>
              <a:rPr b="0" lang="en-US" sz="1800" spc="-1" strike="noStrike">
                <a:solidFill>
                  <a:srgbClr val="333333"/>
                </a:solidFill>
                <a:latin typeface="Book Antiqua"/>
              </a:rPr>
              <a:t> is  “more noisy" (with lower SNR) since the light signal returning from the target is much weaker than the transmitted signal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stop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1800" spc="-1" strike="noStrike">
                <a:solidFill>
                  <a:srgbClr val="333333"/>
                </a:solidFill>
                <a:latin typeface="Book Antiqua"/>
              </a:rPr>
              <a:t>&gt;&gt;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 Antiqua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2359-1298-40AD-B22A-020A394770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147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surement principles in Telemetr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1/2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84600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58480" indent="-258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ook Antiqua"/>
              <a:buChar char="•"/>
              <a:tabLst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tele-metr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distance-measurement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or also measurement at distan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e measure the distanc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betwee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instrumen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nd a remot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targ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ange-findin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ange-finder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" name=""/>
          <p:cNvSpPr/>
          <p:nvPr/>
        </p:nvSpPr>
        <p:spPr>
          <a:xfrm>
            <a:off x="357120" y="2546280"/>
            <a:ext cx="87868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286200" indent="-2862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triangula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trigonometric method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target is "triangulated" from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wo points apart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on the same baseline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see measurement of the distance of the stars); measuring the angle between the two lines of sight one gets the distance as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/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/t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4267080"/>
            <a:ext cx="87850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286200" indent="-2862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Time Of Fligh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measurement by counting a time interval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ulsed laser or CW sine modulated (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 la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= 2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=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c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/2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 "2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" for a round-trip path)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  </a:t>
            </a:r>
            <a:br>
              <a:rPr sz="2200"/>
            </a:br>
            <a:r>
              <a:rPr b="1" lang="en-US" sz="2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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= 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Book Antiqua"/>
              </a:rPr>
              <a:t>m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/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/(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/2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200"/>
            </a:b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=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c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/2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/</a:t>
            </a:r>
            <a:r>
              <a:rPr b="1" lang="en-US" sz="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f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Book Antiqua"/>
              </a:rPr>
              <a:t>m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= 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Book Antiqua"/>
              </a:rPr>
              <a:t>m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/2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/</a:t>
            </a:r>
            <a:r>
              <a:rPr b="1" lang="en-US" sz="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lang="en-US" sz="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“ counting  in terms of </a:t>
            </a: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Book Antiqua"/>
              </a:rPr>
              <a:t>m 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/2 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>
              <a:lnSpc>
                <a:spcPct val="9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( measurement depends on res./acc. on T and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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 , for CW also on  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Book Antiqua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e </a:t>
            </a: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87640" y="5065560"/>
            <a:ext cx="1817640" cy="40824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1040" y="5881680"/>
            <a:ext cx="4782960" cy="40788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5A3A-0165-4667-96F7-34659B72EF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431280"/>
            <a:ext cx="80010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W telemete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principle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14280" y="2913120"/>
            <a:ext cx="4757760" cy="27669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49200" y="1446120"/>
            <a:ext cx="8456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tical power sine modulated at frequency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5297400" y="2563920"/>
            <a:ext cx="3387960" cy="2546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324400" y="5138640"/>
            <a:ext cx="3673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We detect the phase dela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between detected signal (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 and transmitted signal (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01720" y="4038480"/>
            <a:ext cx="28908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57160" y="5068800"/>
            <a:ext cx="173160" cy="27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8480" y="184320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) = </a:t>
            </a:r>
            <a:r>
              <a:rPr b="1" i="1" lang="en-US" sz="32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Book Antiqua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 [1+</a:t>
            </a:r>
            <a:r>
              <a:rPr b="1" i="1" lang="en-US" sz="3200" spc="-1" strike="noStrike">
                <a:solidFill>
                  <a:srgbClr val="ff0000"/>
                </a:solidFill>
                <a:latin typeface="Book Antiqua"/>
              </a:rPr>
              <a:t>m</a:t>
            </a:r>
            <a:r>
              <a:rPr b="1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i="1" lang="en-US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sin(</a:t>
            </a: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ff0000"/>
                </a:solidFill>
                <a:latin typeface="Book Antiqu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Book Antiqua"/>
              </a:rPr>
              <a:t>mod</a:t>
            </a:r>
            <a:r>
              <a:rPr b="1" i="1" lang="en-US" sz="32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956200" y="4786200"/>
            <a:ext cx="387360" cy="184320"/>
            <a:chOff x="5956200" y="4786200"/>
            <a:chExt cx="387360" cy="184320"/>
          </a:xfrm>
        </p:grpSpPr>
        <p:sp>
          <p:nvSpPr>
            <p:cNvPr id="497" name=""/>
            <p:cNvSpPr/>
            <p:nvPr/>
          </p:nvSpPr>
          <p:spPr>
            <a:xfrm>
              <a:off x="5962680" y="48639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29360" y="4786200"/>
              <a:ext cx="2142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i="1" lang="en-US" sz="10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956200" y="4827600"/>
              <a:ext cx="0" cy="77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102360" y="4830840"/>
              <a:ext cx="0" cy="77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564240" y="2389320"/>
            <a:ext cx="824040" cy="477720"/>
            <a:chOff x="6564240" y="2389320"/>
            <a:chExt cx="824040" cy="477720"/>
          </a:xfrm>
        </p:grpSpPr>
        <p:sp>
          <p:nvSpPr>
            <p:cNvPr id="502" name=""/>
            <p:cNvSpPr/>
            <p:nvPr/>
          </p:nvSpPr>
          <p:spPr>
            <a:xfrm flipV="1">
              <a:off x="6600960" y="2573280"/>
              <a:ext cx="0" cy="293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121520" y="2570040"/>
              <a:ext cx="0" cy="293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00960" y="2660760"/>
              <a:ext cx="5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64240" y="2389320"/>
              <a:ext cx="8240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Book Antiqua"/>
                </a:rPr>
                <a:t>mod</a:t>
              </a:r>
              <a:r>
                <a:rPr b="1" lang="en-US" sz="1200" spc="-1" strike="noStrike">
                  <a:solidFill>
                    <a:srgbClr val="ff0000"/>
                  </a:solidFill>
                  <a:latin typeface="Book Antiqua"/>
                </a:rPr>
                <a:t>=1/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Book Antiqua"/>
                </a:rPr>
                <a:t>f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Book Antiqua"/>
                </a:rPr>
                <a:t>m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14360" y="6159600"/>
            <a:ext cx="7223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280080" indent="-280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L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/2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 = 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/2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mod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/ 2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 = 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/2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/ 2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81760" y="1990800"/>
            <a:ext cx="2727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7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is the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2414-3DD8-470B-824B-A034C45F64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431280"/>
            <a:ext cx="80010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W telemete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working equations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239760" y="1731960"/>
            <a:ext cx="4919760" cy="1951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5297400" y="1535040"/>
            <a:ext cx="3387960" cy="254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7280" y="4727520"/>
                <a:ext cx="54655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Δϕ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d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∝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403200" y="5740560"/>
            <a:ext cx="81961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Measurement sensitivity (of the phase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on the distance </a:t>
            </a:r>
            <a:r>
              <a:rPr b="0" i="1" lang="en-US" sz="2400" spc="-1" strike="noStrike">
                <a:solidFill>
                  <a:srgbClr val="0000ff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) gets higher for higher modulation frequency, BUT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“if 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Book Antiqua"/>
              </a:rPr>
              <a:t>mo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is too high”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we can run into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measurement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31920" y="2975040"/>
            <a:ext cx="365040" cy="3650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865160" y="3255840"/>
            <a:ext cx="293760" cy="816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4080" y="4044960"/>
            <a:ext cx="499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sensitivity tells how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(direct measure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varies with a variation of the distance </a:t>
            </a:r>
            <a:r>
              <a:rPr b="0" i="1" lang="en-US" sz="2000" spc="-1" strike="noStrike">
                <a:solidFill>
                  <a:srgbClr val="ff0000"/>
                </a:solidFill>
                <a:latin typeface="Book Antiqu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27800" y="4299120"/>
            <a:ext cx="23083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with 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Book Antiqua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=10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)=2 mrad (1.2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we get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creasing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Book Antiqua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w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 small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3645-25E7-4B89-9A99-B0836EFC4C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Power budget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in optical telemeter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rcRect l="0" t="10369" r="0" b="0"/>
          <a:stretch/>
        </p:blipFill>
        <p:spPr>
          <a:xfrm>
            <a:off x="216000" y="1106640"/>
            <a:ext cx="6784920" cy="52765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4705200" y="3538440"/>
            <a:ext cx="4438800" cy="7542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5864400" y="5259240"/>
            <a:ext cx="3279600" cy="6638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246240" y="1670040"/>
            <a:ext cx="170172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Book Antiqu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Book Antiqu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157440" y="2023920"/>
            <a:ext cx="11160" cy="72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35840" y="21970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129440" y="1371600"/>
            <a:ext cx="1809720" cy="1741320"/>
            <a:chOff x="7129440" y="1371600"/>
            <a:chExt cx="1809720" cy="1741320"/>
          </a:xfrm>
        </p:grpSpPr>
        <p:pic>
          <p:nvPicPr>
            <p:cNvPr id="525" name="" descr=""/>
            <p:cNvPicPr/>
            <p:nvPr/>
          </p:nvPicPr>
          <p:blipFill>
            <a:blip r:embed="rId5"/>
            <a:stretch/>
          </p:blipFill>
          <p:spPr>
            <a:xfrm>
              <a:off x="7129440" y="1371600"/>
              <a:ext cx="180972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129440" y="2695680"/>
              <a:ext cx="18050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64360" y="2246400"/>
              <a:ext cx="14461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ull divergence an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674640" y="6450120"/>
            <a:ext cx="55292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practical applications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&gt;&gt;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DDCA-BEB4-49CB-BA10-C4C83F2871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720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operative target (reflecting) (1/2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30" name=""/>
          <p:cNvSpPr/>
          <p:nvPr/>
        </p:nvSpPr>
        <p:spPr>
          <a:xfrm>
            <a:off x="223920" y="1279440"/>
            <a:ext cx="822636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n the target is cooperative, e.g.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orner cub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eflector, it behaves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ke a mirro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hence the receiver sees the target at 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stance 2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98440" y="4514760"/>
            <a:ext cx="8237520" cy="2354400"/>
            <a:chOff x="298440" y="4514760"/>
            <a:chExt cx="8237520" cy="2354400"/>
          </a:xfrm>
        </p:grpSpPr>
        <p:sp>
          <p:nvSpPr>
            <p:cNvPr id="532" name=""/>
            <p:cNvSpPr/>
            <p:nvPr/>
          </p:nvSpPr>
          <p:spPr>
            <a:xfrm>
              <a:off x="298440" y="4514760"/>
              <a:ext cx="823752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The beam spot size (diameter) at distance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and hence the fractional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eceived power (respect to transmitted power from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ource), on a circular area with diamet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(receiving lens) set at distance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, is equal 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442800" y="5862600"/>
                  <a:ext cx="2376720" cy="100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/4</m:t>
                              </m:r>
                            </m:e>
                          </m:d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/4</m:t>
                              </m:r>
                            </m:e>
                          </m:d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4" name=""/>
            <p:cNvSpPr/>
            <p:nvPr/>
          </p:nvSpPr>
          <p:spPr>
            <a:xfrm flipH="1" flipV="1">
              <a:off x="1366920" y="6006600"/>
              <a:ext cx="674640" cy="228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44800" y="6041880"/>
              <a:ext cx="44578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ratio of the receiver area to received beam spot size (are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1171080" y="6482880"/>
              <a:ext cx="675000" cy="228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78000" y="2424240"/>
            <a:ext cx="8175600" cy="2228760"/>
            <a:chOff x="378000" y="2424240"/>
            <a:chExt cx="8175600" cy="2228760"/>
          </a:xfrm>
        </p:grpSpPr>
        <p:grpSp>
          <p:nvGrpSpPr>
            <p:cNvPr id="538" name=""/>
            <p:cNvGrpSpPr/>
            <p:nvPr/>
          </p:nvGrpSpPr>
          <p:grpSpPr>
            <a:xfrm>
              <a:off x="378000" y="2424240"/>
              <a:ext cx="8175600" cy="2228760"/>
              <a:chOff x="378000" y="2424240"/>
              <a:chExt cx="8175600" cy="2228760"/>
            </a:xfrm>
          </p:grpSpPr>
          <p:sp>
            <p:nvSpPr>
              <p:cNvPr id="539" name=""/>
              <p:cNvSpPr/>
              <p:nvPr/>
            </p:nvSpPr>
            <p:spPr>
              <a:xfrm>
                <a:off x="1612800" y="3200400"/>
                <a:ext cx="0" cy="223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10600" y="2428920"/>
                <a:ext cx="183960" cy="1747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1603440" y="2823840"/>
                <a:ext cx="5780160" cy="37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609560" y="3421080"/>
                <a:ext cx="5780160" cy="37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619280" y="2440080"/>
                <a:ext cx="5780160" cy="37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1635120" y="3798720"/>
                <a:ext cx="5780160" cy="37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58920" y="3179880"/>
                <a:ext cx="35568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33cc33"/>
                    </a:solidFill>
                    <a:latin typeface="Book Antiqua"/>
                  </a:rPr>
                  <a:t>D</a:t>
                </a:r>
                <a:r>
                  <a:rPr b="1" lang="en-US" sz="1600" spc="-1" strike="noStrike" baseline="-25000">
                    <a:solidFill>
                      <a:srgbClr val="33cc33"/>
                    </a:solidFill>
                    <a:latin typeface="Book Antiqu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1498680" y="2424240"/>
                <a:ext cx="6120" cy="1774800"/>
                <a:chOff x="1498680" y="2424240"/>
                <a:chExt cx="6120" cy="17748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498680" y="2424240"/>
                  <a:ext cx="6120" cy="1774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lg"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503000" y="3016440"/>
                  <a:ext cx="0" cy="590400"/>
                </a:xfrm>
                <a:prstGeom prst="line">
                  <a:avLst/>
                </a:prstGeom>
                <a:ln w="25560">
                  <a:solidFill>
                    <a:srgbClr val="99cc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378000" y="2437920"/>
                <a:ext cx="865080" cy="1762200"/>
                <a:chOff x="378000" y="2437920"/>
                <a:chExt cx="865080" cy="17622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044720" y="244152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049400" y="419400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 flipV="1">
                  <a:off x="1136160" y="2437920"/>
                  <a:ext cx="9720" cy="17622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78000" y="3184560"/>
                  <a:ext cx="86508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>
                    <a:lnSpc>
                      <a:spcPct val="95000"/>
                    </a:lnSpc>
                    <a:spcBef>
                      <a:spcPts val="400"/>
                    </a:spcBef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i="1" lang="en-US" sz="1600" spc="-1" strike="noStrike">
                      <a:solidFill>
                        <a:srgbClr val="ff0000"/>
                      </a:solidFill>
                      <a:latin typeface="Book Antiqua"/>
                    </a:rPr>
                    <a:t>D</a:t>
                  </a:r>
                  <a:r>
                    <a:rPr b="1" lang="en-US" sz="1600" spc="-1" strike="noStrike">
                      <a:solidFill>
                        <a:srgbClr val="ff0000"/>
                      </a:solidFill>
                      <a:latin typeface="Book Antiqua"/>
                    </a:rPr>
                    <a:t>=</a:t>
                  </a:r>
                  <a:r>
                    <a:rPr b="1" i="1" lang="en-US" sz="16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en-US" sz="1600" spc="-1" strike="noStrike" baseline="-25000">
                      <a:solidFill>
                        <a:srgbClr val="ff0000"/>
                      </a:solidFill>
                      <a:latin typeface="Book Antiqua"/>
                    </a:rPr>
                    <a:t>s</a:t>
                  </a:r>
                  <a:r>
                    <a:rPr b="1" lang="en-US" sz="16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r>
                    <a:rPr b="1" lang="en-US" sz="1600" spc="-1" strike="noStrike">
                      <a:solidFill>
                        <a:srgbClr val="ff0000"/>
                      </a:solidFill>
                      <a:latin typeface="Book Antiqua"/>
                    </a:rPr>
                    <a:t>2</a:t>
                  </a:r>
                  <a:r>
                    <a:rPr b="1" i="1" lang="en-US" sz="1600" spc="-1" strike="noStrike">
                      <a:solidFill>
                        <a:srgbClr val="ff0000"/>
                      </a:solidFill>
                      <a:latin typeface="Book Antiqua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1550880" y="4224240"/>
                <a:ext cx="5856480" cy="428760"/>
                <a:chOff x="1550880" y="4224240"/>
                <a:chExt cx="5856480" cy="4287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550880" y="4227480"/>
                  <a:ext cx="0" cy="208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407360" y="4224240"/>
                  <a:ext cx="0" cy="208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555920" y="4327560"/>
                  <a:ext cx="58338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481640" y="4344840"/>
                  <a:ext cx="45864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95000"/>
                    </a:lnSpc>
                    <a:spcBef>
                      <a:spcPts val="451"/>
                    </a:spcBef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7651800" y="2825640"/>
                <a:ext cx="901800" cy="976320"/>
                <a:chOff x="7651800" y="2825640"/>
                <a:chExt cx="901800" cy="9763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7664400" y="2825640"/>
                  <a:ext cx="190440" cy="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51800" y="3801960"/>
                  <a:ext cx="190440" cy="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7746840" y="2827080"/>
                  <a:ext cx="11160" cy="9745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816680" y="3192480"/>
                  <a:ext cx="73692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>
                    <a:lnSpc>
                      <a:spcPct val="95000"/>
                    </a:lnSpc>
                    <a:spcBef>
                      <a:spcPts val="400"/>
                    </a:spcBef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i="1" lang="en-US" sz="1600" spc="-1" strike="noStrike">
                      <a:solidFill>
                        <a:srgbClr val="777777"/>
                      </a:solidFill>
                      <a:latin typeface="Book Antiqua"/>
                    </a:rPr>
                    <a:t>D'</a:t>
                  </a:r>
                  <a:r>
                    <a:rPr b="1" lang="en-US" sz="1600" spc="-1" strike="noStrike">
                      <a:solidFill>
                        <a:srgbClr val="777777"/>
                      </a:solidFill>
                      <a:latin typeface="Book Antiqua"/>
                    </a:rPr>
                    <a:t>=</a:t>
                  </a:r>
                  <a:r>
                    <a:rPr b="1" i="1" lang="en-US" sz="1600" spc="-1" strike="noStrike">
                      <a:solidFill>
                        <a:srgbClr val="777777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en-US" sz="1600" spc="-1" strike="noStrike" baseline="-25000">
                      <a:solidFill>
                        <a:srgbClr val="777777"/>
                      </a:solidFill>
                      <a:latin typeface="Book Antiqua"/>
                    </a:rPr>
                    <a:t>s</a:t>
                  </a:r>
                  <a:r>
                    <a:rPr b="1" lang="en-US" sz="1600" spc="-1" strike="noStrike">
                      <a:solidFill>
                        <a:srgbClr val="777777"/>
                      </a:solidFill>
                      <a:latin typeface="Symbol"/>
                      <a:ea typeface="Symbol"/>
                    </a:rPr>
                    <a:t></a:t>
                  </a:r>
                  <a:r>
                    <a:rPr b="1" i="1" lang="en-US" sz="1600" spc="-1" strike="noStrike">
                      <a:solidFill>
                        <a:srgbClr val="777777"/>
                      </a:solidFill>
                      <a:latin typeface="Book Antiqua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4" name=""/>
            <p:cNvSpPr/>
            <p:nvPr/>
          </p:nvSpPr>
          <p:spPr>
            <a:xfrm>
              <a:off x="3691080" y="3557520"/>
              <a:ext cx="45216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701880" y="3035160"/>
              <a:ext cx="45252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981600" y="3989520"/>
              <a:ext cx="45216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3995280" y="2595240"/>
              <a:ext cx="4525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730840" y="2154240"/>
            <a:ext cx="3235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nfinite plane reflecting su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80360" y="5929200"/>
            <a:ext cx="12650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if all the receiver is lit (</a:t>
            </a:r>
            <a:r>
              <a:rPr b="0" i="1" lang="en-US" sz="1800" spc="-1" strike="noStrike">
                <a:solidFill>
                  <a:srgbClr val="ff0000"/>
                </a:solidFill>
                <a:latin typeface="Book Antiqua"/>
              </a:rPr>
              <a:t>D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&gt;</a:t>
            </a:r>
            <a:r>
              <a:rPr b="0" i="1" lang="en-US" sz="1800" spc="-1" strike="noStrike">
                <a:solidFill>
                  <a:srgbClr val="ff0000"/>
                </a:solidFill>
                <a:latin typeface="Book Antiqua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Book Antiqua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52680" y="6602400"/>
            <a:ext cx="3399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reas ratio at the receiv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B87B-3A8E-443B-AD9D-14E376E916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8720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operative target (reflecting) (2/2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72" name=""/>
          <p:cNvSpPr/>
          <p:nvPr/>
        </p:nvSpPr>
        <p:spPr>
          <a:xfrm>
            <a:off x="223920" y="1336680"/>
            <a:ext cx="86551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the corner cube has a diameter smaller then the laser spot size on it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and the receiver collects all the reflected beam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“only corner cube cutting the beam") 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28560" y="2293920"/>
                <a:ext cx="1532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74" name=""/>
          <p:cNvGrpSpPr/>
          <p:nvPr/>
        </p:nvGrpSpPr>
        <p:grpSpPr>
          <a:xfrm>
            <a:off x="3328920" y="2401920"/>
            <a:ext cx="5021280" cy="765000"/>
            <a:chOff x="3328920" y="2401920"/>
            <a:chExt cx="5021280" cy="765000"/>
          </a:xfrm>
        </p:grpSpPr>
        <p:sp>
          <p:nvSpPr>
            <p:cNvPr id="575" name=""/>
            <p:cNvSpPr/>
            <p:nvPr/>
          </p:nvSpPr>
          <p:spPr>
            <a:xfrm flipV="1">
              <a:off x="3745080" y="2556000"/>
              <a:ext cx="401616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41840" y="2760840"/>
              <a:ext cx="401616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60920" y="2514600"/>
              <a:ext cx="401616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765600" y="2858760"/>
              <a:ext cx="401616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28920" y="2620800"/>
              <a:ext cx="3556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spcBef>
                  <a:spcPts val="4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33cc33"/>
                  </a:solidFill>
                  <a:latin typeface="Book Antiqua"/>
                </a:rPr>
                <a:t>D</a:t>
              </a:r>
              <a:r>
                <a:rPr b="1" lang="en-US" sz="1600" spc="-1" strike="noStrike" baseline="-25000">
                  <a:solidFill>
                    <a:srgbClr val="33cc33"/>
                  </a:solidFill>
                  <a:latin typeface="Book Antiqu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670200" y="2401920"/>
              <a:ext cx="7920" cy="765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7761240" y="2666880"/>
              <a:ext cx="588960" cy="390240"/>
              <a:chOff x="7761240" y="2666880"/>
              <a:chExt cx="588960" cy="39024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7761240" y="2688840"/>
                <a:ext cx="147600" cy="191880"/>
                <a:chOff x="7761240" y="2688840"/>
                <a:chExt cx="147600" cy="19188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761240" y="2688840"/>
                  <a:ext cx="141120" cy="9684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V="1">
                  <a:off x="7762680" y="2783880"/>
                  <a:ext cx="146160" cy="9684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7994520" y="2666880"/>
                <a:ext cx="35568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777777"/>
                    </a:solidFill>
                    <a:latin typeface="Book Antiqua"/>
                  </a:rPr>
                  <a:t>D</a:t>
                </a:r>
                <a:r>
                  <a:rPr b="1" lang="en-US" sz="1600" spc="-1" strike="noStrike" baseline="-25000">
                    <a:solidFill>
                      <a:srgbClr val="777777"/>
                    </a:solidFill>
                    <a:latin typeface="Book Antiqua"/>
                  </a:rPr>
                  <a:t>c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947000" y="2707920"/>
                <a:ext cx="0" cy="14292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>
            <a:off x="214200" y="3600360"/>
            <a:ext cx="8885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in addition to the corner cube also the receiver is cutting the beam, we have again (like for the infinite plane reflecto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09760" y="4164120"/>
                <a:ext cx="196992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4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89" name=""/>
          <p:cNvGrpSpPr/>
          <p:nvPr/>
        </p:nvGrpSpPr>
        <p:grpSpPr>
          <a:xfrm>
            <a:off x="3340080" y="4764240"/>
            <a:ext cx="5010120" cy="564480"/>
            <a:chOff x="3340080" y="4764240"/>
            <a:chExt cx="5010120" cy="564480"/>
          </a:xfrm>
        </p:grpSpPr>
        <p:sp>
          <p:nvSpPr>
            <p:cNvPr id="590" name=""/>
            <p:cNvSpPr/>
            <p:nvPr/>
          </p:nvSpPr>
          <p:spPr>
            <a:xfrm flipV="1">
              <a:off x="3744720" y="4827240"/>
              <a:ext cx="401652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741480" y="5032080"/>
              <a:ext cx="401652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47960" y="4764240"/>
              <a:ext cx="40291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765600" y="5130720"/>
              <a:ext cx="401616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40080" y="4903560"/>
              <a:ext cx="3553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spcBef>
                  <a:spcPts val="4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33cc33"/>
                  </a:solidFill>
                  <a:latin typeface="Book Antiqua"/>
                </a:rPr>
                <a:t>D</a:t>
              </a:r>
              <a:r>
                <a:rPr b="1" lang="en-US" sz="1600" spc="-1" strike="noStrike" baseline="-25000">
                  <a:solidFill>
                    <a:srgbClr val="33cc33"/>
                  </a:solidFill>
                  <a:latin typeface="Book Antiqu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66960" y="4856040"/>
              <a:ext cx="0" cy="36936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761240" y="4938480"/>
              <a:ext cx="588960" cy="390240"/>
              <a:chOff x="7761240" y="4938480"/>
              <a:chExt cx="588960" cy="39024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761240" y="4960440"/>
                <a:ext cx="147600" cy="191880"/>
                <a:chOff x="7761240" y="4960440"/>
                <a:chExt cx="147600" cy="1918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7761240" y="4960440"/>
                  <a:ext cx="141120" cy="9684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7762680" y="5055480"/>
                  <a:ext cx="146160" cy="9684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7994520" y="4938480"/>
                <a:ext cx="35568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777777"/>
                    </a:solidFill>
                    <a:latin typeface="Book Antiqua"/>
                  </a:rPr>
                  <a:t>D</a:t>
                </a:r>
                <a:r>
                  <a:rPr b="1" lang="en-US" sz="1600" spc="-1" strike="noStrike" baseline="-25000">
                    <a:solidFill>
                      <a:srgbClr val="777777"/>
                    </a:solidFill>
                    <a:latin typeface="Book Antiqua"/>
                  </a:rPr>
                  <a:t>c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947000" y="4979520"/>
                <a:ext cx="0" cy="14292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>
            <a:off x="369720" y="6211800"/>
            <a:ext cx="8480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condition of “cutting receiver” is valid when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 2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 hence 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ONLY when </a:t>
            </a: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D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 Antiqua"/>
              </a:rPr>
              <a:t>cc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&lt; </a:t>
            </a:r>
            <a:r>
              <a:rPr b="1" i="1" lang="en-US" sz="2000" spc="-1" strike="noStrike">
                <a:solidFill>
                  <a:srgbClr val="0000ff"/>
                </a:solidFill>
                <a:latin typeface="Book Antiqua"/>
              </a:rPr>
              <a:t>D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 Antiqua"/>
              </a:rPr>
              <a:t>r </a:t>
            </a: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/2 the corner cube is effectively cutting the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620720" y="2298600"/>
            <a:ext cx="6516720" cy="1180800"/>
            <a:chOff x="1620720" y="2298600"/>
            <a:chExt cx="6516720" cy="1180800"/>
          </a:xfrm>
        </p:grpSpPr>
        <p:sp>
          <p:nvSpPr>
            <p:cNvPr id="604" name=""/>
            <p:cNvSpPr/>
            <p:nvPr/>
          </p:nvSpPr>
          <p:spPr>
            <a:xfrm>
              <a:off x="1620720" y="2307960"/>
              <a:ext cx="40165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122280" y="2298600"/>
              <a:ext cx="12600" cy="892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35280" y="3171600"/>
              <a:ext cx="540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Book Antiqua"/>
                </a:rPr>
                <a:t>D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r</a:t>
              </a: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 &gt; 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Book Antiqua"/>
                </a:rPr>
                <a:t>D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cc</a:t>
              </a: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+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s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Book Antiqua"/>
                </a:rPr>
                <a:t>L &gt; D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cc</a:t>
              </a: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+ 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Book Antiqua"/>
                </a:rPr>
                <a:t>D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cc</a:t>
              </a: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 = 2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Book Antiqua"/>
                </a:rPr>
                <a:t>D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cc</a:t>
              </a: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   </a:t>
              </a:r>
              <a:r>
                <a:rPr b="0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   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Book Antiqua"/>
                </a:rPr>
                <a:t>D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cc</a:t>
              </a:r>
              <a:r>
                <a:rPr b="0" lang="en-US" sz="10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&lt; 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Book Antiqua"/>
                </a:rPr>
                <a:t>D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Book Antiqua"/>
                </a:rPr>
                <a:t>r</a:t>
              </a:r>
              <a:r>
                <a:rPr b="0" lang="en-US" sz="2000" spc="-1" strike="noStrike">
                  <a:solidFill>
                    <a:srgbClr val="0000ff"/>
                  </a:solidFill>
                  <a:latin typeface="Book Antiqua"/>
                </a:rPr>
                <a:t>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 flipH="1" flipV="1">
            <a:off x="3645000" y="4849560"/>
            <a:ext cx="4108320" cy="122040"/>
          </a:xfrm>
          <a:prstGeom prst="line">
            <a:avLst/>
          </a:prstGeom>
          <a:ln w="1260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669840" y="5118120"/>
            <a:ext cx="4108680" cy="120600"/>
          </a:xfrm>
          <a:prstGeom prst="line">
            <a:avLst/>
          </a:prstGeom>
          <a:ln w="1260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957920" y="4179960"/>
                <a:ext cx="4186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2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600" y="5397120"/>
            <a:ext cx="9212400" cy="852840"/>
            <a:chOff x="39600" y="5397120"/>
            <a:chExt cx="9212400" cy="852840"/>
          </a:xfrm>
        </p:grpSpPr>
        <p:sp>
          <p:nvSpPr>
            <p:cNvPr id="611" name=""/>
            <p:cNvSpPr/>
            <p:nvPr/>
          </p:nvSpPr>
          <p:spPr>
            <a:xfrm flipV="1">
              <a:off x="401760" y="5594040"/>
              <a:ext cx="401616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8520" y="5799240"/>
              <a:ext cx="401616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4640" y="5530680"/>
              <a:ext cx="402912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22280" y="5897160"/>
              <a:ext cx="401652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600" y="5670720"/>
              <a:ext cx="3556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spcBef>
                  <a:spcPts val="4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33cc33"/>
                  </a:solidFill>
                  <a:latin typeface="Book Antiqua"/>
                </a:rPr>
                <a:t>D</a:t>
              </a:r>
              <a:r>
                <a:rPr b="1" lang="en-US" sz="1600" spc="-1" strike="noStrike" baseline="-25000">
                  <a:solidFill>
                    <a:srgbClr val="33cc33"/>
                  </a:solidFill>
                  <a:latin typeface="Book Antiqu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4000" y="5622840"/>
              <a:ext cx="0" cy="370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4417920" y="5705640"/>
              <a:ext cx="588960" cy="390240"/>
              <a:chOff x="4417920" y="5705640"/>
              <a:chExt cx="588960" cy="39024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4417920" y="5727600"/>
                <a:ext cx="147600" cy="191880"/>
                <a:chOff x="4417920" y="5727600"/>
                <a:chExt cx="147600" cy="19188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4417920" y="5727600"/>
                  <a:ext cx="141120" cy="9684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4419360" y="5822640"/>
                  <a:ext cx="146160" cy="9684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4651200" y="5705640"/>
                <a:ext cx="35568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95000"/>
                  </a:lnSpc>
                  <a:spcBef>
                    <a:spcPts val="40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777777"/>
                    </a:solidFill>
                    <a:latin typeface="Book Antiqua"/>
                  </a:rPr>
                  <a:t>D</a:t>
                </a:r>
                <a:r>
                  <a:rPr b="1" lang="en-US" sz="1600" spc="-1" strike="noStrike" baseline="-25000">
                    <a:solidFill>
                      <a:srgbClr val="777777"/>
                    </a:solidFill>
                    <a:latin typeface="Book Antiqua"/>
                  </a:rPr>
                  <a:t>c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03680" y="5746680"/>
                <a:ext cx="0" cy="14292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V="1">
              <a:off x="4451400" y="5559120"/>
              <a:ext cx="4016160" cy="196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05320" y="5886360"/>
              <a:ext cx="4029120" cy="219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15360" y="5648400"/>
              <a:ext cx="0" cy="36828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458200" y="5713560"/>
              <a:ext cx="3556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spcBef>
                  <a:spcPts val="4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600" spc="-1" strike="noStrike">
                  <a:solidFill>
                    <a:srgbClr val="33cc33"/>
                  </a:solidFill>
                  <a:latin typeface="Book Antiqua"/>
                </a:rPr>
                <a:t>D</a:t>
              </a:r>
              <a:r>
                <a:rPr b="1" lang="en-US" sz="1600" spc="-1" strike="noStrike" baseline="-25000">
                  <a:solidFill>
                    <a:srgbClr val="33cc33"/>
                  </a:solidFill>
                  <a:latin typeface="Book Antiqu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4430880" y="5397120"/>
              <a:ext cx="401616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27640" y="5996160"/>
              <a:ext cx="40496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606560" y="5651640"/>
              <a:ext cx="3794040" cy="91800"/>
            </a:xfrm>
            <a:prstGeom prst="line">
              <a:avLst/>
            </a:prstGeom>
            <a:ln w="1260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4598640" y="5913360"/>
              <a:ext cx="3792600" cy="93600"/>
            </a:xfrm>
            <a:prstGeom prst="line">
              <a:avLst/>
            </a:prstGeom>
            <a:ln w="1260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745480" y="5734080"/>
              <a:ext cx="506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spcBef>
                  <a:spcPts val="4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777777"/>
                  </a:solidFill>
                  <a:latin typeface="Book Antiqua"/>
                </a:rPr>
                <a:t>2</a:t>
              </a:r>
              <a:r>
                <a:rPr b="1" i="1" lang="en-US" sz="1600" spc="-1" strike="noStrike">
                  <a:solidFill>
                    <a:srgbClr val="777777"/>
                  </a:solidFill>
                  <a:latin typeface="Book Antiqua"/>
                </a:rPr>
                <a:t>D</a:t>
              </a:r>
              <a:r>
                <a:rPr b="1" lang="en-US" sz="1600" spc="-1" strike="noStrike" baseline="-25000">
                  <a:solidFill>
                    <a:srgbClr val="777777"/>
                  </a:solidFill>
                  <a:latin typeface="Book Antiqua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705880" y="5567400"/>
              <a:ext cx="14400" cy="538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33360" y="3324240"/>
            <a:ext cx="276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areas ratio at the 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8264520" y="2079720"/>
                <a:ext cx="905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4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8346960" y="2908440"/>
            <a:ext cx="9493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it is like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Book Antiqua"/>
              </a:rPr>
              <a:t>D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Book Antiqua"/>
              </a:rPr>
              <a:t>r</a:t>
            </a: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=2</a:t>
            </a:r>
            <a:r>
              <a:rPr b="0" i="1" lang="en-US" sz="1600" spc="-1" strike="noStrike">
                <a:solidFill>
                  <a:srgbClr val="0000ff"/>
                </a:solidFill>
                <a:latin typeface="Book Antiqua"/>
              </a:rPr>
              <a:t>D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Book Antiqua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5080" y="5292720"/>
            <a:ext cx="3398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reas ratio at the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95920" y="3110040"/>
            <a:ext cx="1328760" cy="4381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FB3B-448D-41C4-8847-A1E68B0A46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50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lid angle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39" name=""/>
          <p:cNvSpPr/>
          <p:nvPr/>
        </p:nvSpPr>
        <p:spPr>
          <a:xfrm>
            <a:off x="5886360" y="1035000"/>
            <a:ext cx="3168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Def. #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Book Antiqua"/>
              </a:rPr>
              <a:t>Radian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s the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plane angle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subtended by a circular arc, as the length of the arc (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 divided by the radius of the arc (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: 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=</a:t>
            </a: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(1 rad is the plane angle where the arc is equal to the radiu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Def. #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Book Antiqua"/>
              </a:rPr>
              <a:t>Steradian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s the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solid angle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subtended at the center of a sphere, as the area (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 of the cap divided by the squared radius of the sphere (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: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=</a:t>
            </a: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6000" y="976320"/>
            <a:ext cx="5495760" cy="5891040"/>
            <a:chOff x="216000" y="976320"/>
            <a:chExt cx="5495760" cy="5891040"/>
          </a:xfrm>
        </p:grpSpPr>
        <p:pic>
          <p:nvPicPr>
            <p:cNvPr id="641" name="" descr=""/>
            <p:cNvPicPr/>
            <p:nvPr/>
          </p:nvPicPr>
          <p:blipFill>
            <a:blip r:embed="rId2"/>
            <a:srcRect l="0" t="1336" r="0" b="445"/>
            <a:stretch/>
          </p:blipFill>
          <p:spPr>
            <a:xfrm>
              <a:off x="216000" y="976320"/>
              <a:ext cx="5495760" cy="58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4352760" y="5973480"/>
              <a:ext cx="613080" cy="826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722840" y="5751000"/>
              <a:ext cx="264960" cy="24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22720" y="5391000"/>
              <a:ext cx="3207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Book Antiqua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87800" y="5702040"/>
              <a:ext cx="3445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Book Antiqua"/>
                </a:rPr>
                <a:t>R</a:t>
              </a:r>
              <a:r>
                <a:rPr b="0" lang="en-US" sz="2200" spc="-1" strike="noStrike" baseline="30000">
                  <a:solidFill>
                    <a:srgbClr val="ff0000"/>
                  </a:solidFill>
                  <a:latin typeface="Book Antiqua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14800" y="5716440"/>
              <a:ext cx="208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54520" y="4093920"/>
              <a:ext cx="1350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Book Antiqua"/>
                </a:rPr>
                <a:t>( 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Book Antiqua"/>
                </a:rPr>
                <a:t>r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0" lang="en-US" sz="2200" spc="-1" strike="noStrike">
                  <a:solidFill>
                    <a:srgbClr val="ff0000"/>
                  </a:solidFill>
                  <a:latin typeface="Book Antiqua"/>
                </a:rPr>
                <a:t>&lt;&lt;</a:t>
              </a:r>
              <a:r>
                <a:rPr b="0" lang="en-US" sz="8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Book Antiqua"/>
                </a:rPr>
                <a:t>R </a:t>
              </a:r>
              <a:r>
                <a:rPr b="0" lang="en-US" sz="2200" spc="-1" strike="noStrike">
                  <a:solidFill>
                    <a:srgbClr val="ff0000"/>
                  </a:solidFill>
                  <a:latin typeface="Book Antiqua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002040" y="316080"/>
                <a:ext cx="615960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Ω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ρ</m:t>
                            </m:r>
                            <m:r>
                              <m:t xml:space="preserve">⋅</m:t>
                            </m:r>
                            <m:r>
                              <m:t xml:space="preserve">dρ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π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78D2-5776-458C-A84F-B732ED82BC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2771640" y="1095480"/>
            <a:ext cx="5172120" cy="74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50744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adiance of a Lambert diffusing surface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rcRect l="0" t="11297" r="0" b="0"/>
          <a:stretch/>
        </p:blipFill>
        <p:spPr>
          <a:xfrm>
            <a:off x="609480" y="1511280"/>
            <a:ext cx="7737480" cy="508464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5381640" y="2546280"/>
            <a:ext cx="954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88120" y="2530440"/>
            <a:ext cx="9504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03960" y="2511360"/>
            <a:ext cx="9504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51720" y="2158920"/>
            <a:ext cx="139068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912000" y="3825720"/>
            <a:ext cx="311040" cy="383400"/>
            <a:chOff x="6912000" y="3825720"/>
            <a:chExt cx="311040" cy="383400"/>
          </a:xfrm>
        </p:grpSpPr>
        <p:sp>
          <p:nvSpPr>
            <p:cNvPr id="657" name=""/>
            <p:cNvSpPr/>
            <p:nvPr/>
          </p:nvSpPr>
          <p:spPr>
            <a:xfrm>
              <a:off x="6912000" y="3917880"/>
              <a:ext cx="3110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24600" y="3825720"/>
              <a:ext cx="279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912000" y="4390920"/>
            <a:ext cx="311040" cy="383400"/>
            <a:chOff x="6912000" y="4390920"/>
            <a:chExt cx="311040" cy="383400"/>
          </a:xfrm>
        </p:grpSpPr>
        <p:sp>
          <p:nvSpPr>
            <p:cNvPr id="660" name=""/>
            <p:cNvSpPr/>
            <p:nvPr/>
          </p:nvSpPr>
          <p:spPr>
            <a:xfrm>
              <a:off x="6912000" y="4483080"/>
              <a:ext cx="3110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24600" y="4390920"/>
              <a:ext cx="279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2855880" y="1138320"/>
                <a:ext cx="3668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`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ra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6667560" y="1285920"/>
            <a:ext cx="129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Radiant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3680" y="2085840"/>
            <a:ext cx="317160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73320" y="26319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radiance or brigh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346640" y="2673360"/>
                <a:ext cx="3449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t xml:space="preserve">Ad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A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A600-AEB9-4FE7-A526-842C28FABC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507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cooperative target (diffusing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68" name=""/>
          <p:cNvSpPr/>
          <p:nvPr/>
        </p:nvSpPr>
        <p:spPr>
          <a:xfrm>
            <a:off x="262080" y="1444680"/>
            <a:ext cx="8750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n the target is non-cooperative, its illuminate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ith area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is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ffus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light with a diffusing coefficient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1587600" y="2289240"/>
            <a:ext cx="6238800" cy="405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99160" y="5264280"/>
                <a:ext cx="21700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1917720" y="6421320"/>
            <a:ext cx="535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the target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rightness (or radi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352760" y="5273640"/>
            <a:ext cx="4645080" cy="1114560"/>
            <a:chOff x="4352760" y="5273640"/>
            <a:chExt cx="4645080" cy="1114560"/>
          </a:xfrm>
        </p:grpSpPr>
        <p:grpSp>
          <p:nvGrpSpPr>
            <p:cNvPr id="673" name=""/>
            <p:cNvGrpSpPr/>
            <p:nvPr/>
          </p:nvGrpSpPr>
          <p:grpSpPr>
            <a:xfrm>
              <a:off x="4352760" y="5934240"/>
              <a:ext cx="1235160" cy="428400"/>
              <a:chOff x="4352760" y="5934240"/>
              <a:chExt cx="1235160" cy="428400"/>
            </a:xfrm>
          </p:grpSpPr>
          <p:sp>
            <p:nvSpPr>
              <p:cNvPr id="674" name=""/>
              <p:cNvSpPr/>
              <p:nvPr/>
            </p:nvSpPr>
            <p:spPr>
              <a:xfrm>
                <a:off x="4737240" y="6121440"/>
                <a:ext cx="8506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441680" y="5964120"/>
                <a:ext cx="501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Book Antiqua"/>
                  </a:rPr>
                  <a:t>A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Book Antiqua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352760" y="5934240"/>
                <a:ext cx="390600" cy="3524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108480" y="5273640"/>
              <a:ext cx="2880000" cy="466920"/>
              <a:chOff x="6108480" y="5273640"/>
              <a:chExt cx="2880000" cy="46692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6108480" y="5486400"/>
                <a:ext cx="22986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486640" y="5342040"/>
                <a:ext cx="501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</a:t>
                </a:r>
                <a:r>
                  <a:rPr b="1" i="1" lang="en-US" sz="800" spc="-1" strike="noStrike">
                    <a:solidFill>
                      <a:srgbClr val="ff0000"/>
                    </a:solidFill>
                    <a:latin typeface="Book Antiqua"/>
                  </a:rPr>
                  <a:t> </a:t>
                </a:r>
                <a:r>
                  <a:rPr b="1" i="1" lang="en-US" sz="1600" spc="-1" strike="noStrike">
                    <a:solidFill>
                      <a:srgbClr val="ff0000"/>
                    </a:solidFill>
                    <a:latin typeface="Book Antiqua"/>
                  </a:rPr>
                  <a:t>P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Book Antiqu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397720" y="5273640"/>
                <a:ext cx="495360" cy="4287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6235560" y="5921280"/>
              <a:ext cx="2762280" cy="466920"/>
              <a:chOff x="6235560" y="5921280"/>
              <a:chExt cx="2762280" cy="466920"/>
            </a:xfrm>
          </p:grpSpPr>
          <p:sp>
            <p:nvSpPr>
              <p:cNvPr id="682" name=""/>
              <p:cNvSpPr/>
              <p:nvPr/>
            </p:nvSpPr>
            <p:spPr>
              <a:xfrm flipH="1">
                <a:off x="6235560" y="6134040"/>
                <a:ext cx="2184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96360" y="5989680"/>
                <a:ext cx="5014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Book Antiqua"/>
                  </a:rPr>
                  <a:t> </a:t>
                </a:r>
                <a:r>
                  <a:rPr b="1" i="1" lang="en-US" sz="600" spc="-1" strike="noStrike">
                    <a:solidFill>
                      <a:srgbClr val="ff0000"/>
                    </a:solidFill>
                    <a:latin typeface="Book Antiqua"/>
                  </a:rPr>
                  <a:t> </a:t>
                </a:r>
                <a:r>
                  <a:rPr b="1" i="1" lang="en-US" sz="16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407440" y="5921280"/>
                <a:ext cx="495360" cy="42876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06E8-2BD3-4964-80B0-EA332755C8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88800" y="1609560"/>
            <a:ext cx="8359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m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e solid angle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e plane angle) by which the light diffused from the target is seen by the receiver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831960" y="2305080"/>
                <a:ext cx="26589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πθ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π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7" name=""/>
          <p:cNvSpPr/>
          <p:nvPr/>
        </p:nvSpPr>
        <p:spPr>
          <a:xfrm>
            <a:off x="3773520" y="2593800"/>
            <a:ext cx="3192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2)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74760" y="5076720"/>
            <a:ext cx="8237520" cy="1501920"/>
            <a:chOff x="374760" y="5076720"/>
            <a:chExt cx="8237520" cy="1501920"/>
          </a:xfrm>
        </p:grpSpPr>
        <p:sp>
          <p:nvSpPr>
            <p:cNvPr id="689" name=""/>
            <p:cNvSpPr/>
            <p:nvPr/>
          </p:nvSpPr>
          <p:spPr>
            <a:xfrm>
              <a:off x="374760" y="5076720"/>
              <a:ext cx="82375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with a fractional received 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"/>
                <p:cNvSpPr txBox="1"/>
                <p:nvPr/>
              </p:nvSpPr>
              <p:spPr>
                <a:xfrm>
                  <a:off x="814680" y="5524560"/>
                  <a:ext cx="167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δ</m:t>
                      </m:r>
                      <m:f>
                        <m:num>
                          <m:sSubSup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"/>
            <p:cNvSpPr/>
            <p:nvPr/>
          </p:nvSpPr>
          <p:spPr>
            <a:xfrm>
              <a:off x="2945160" y="5629320"/>
              <a:ext cx="38494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0000"/>
            </a:bodyPr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like for cooperative 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but with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</a:t>
              </a:r>
              <a:r>
                <a:rPr b="1" lang="en-US" sz="2400" spc="-1" strike="noStrike">
                  <a:solidFill>
                    <a:srgbClr val="0000ff"/>
                  </a:solidFill>
                  <a:latin typeface="Book Antiqua"/>
                </a:rPr>
                <a:t> instead of 1/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Book Antiqua"/>
                </a:rPr>
                <a:t>s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nd obviousl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1&lt;&lt;1/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908760" y="2370240"/>
            <a:ext cx="1925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gle of s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f the receiver (from the targ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65040" y="3514680"/>
            <a:ext cx="8766360" cy="1401840"/>
            <a:chOff x="365040" y="3514680"/>
            <a:chExt cx="8766360" cy="1401840"/>
          </a:xfrm>
        </p:grpSpPr>
        <p:sp>
          <p:nvSpPr>
            <p:cNvPr id="694" name=""/>
            <p:cNvSpPr/>
            <p:nvPr/>
          </p:nvSpPr>
          <p:spPr>
            <a:xfrm>
              <a:off x="365040" y="3514680"/>
              <a:ext cx="77630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nd hence the power collected at the receiver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785880" y="3736800"/>
                  <a:ext cx="6524640" cy="11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π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δP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πA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δ</m:t>
                      </m:r>
                      <m:f>
                        <m:num>
                          <m:sSubSup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"/>
            <p:cNvSpPr/>
            <p:nvPr/>
          </p:nvSpPr>
          <p:spPr>
            <a:xfrm>
              <a:off x="7572240" y="3821040"/>
              <a:ext cx="15591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independent from the lit area (spot size) on the tar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507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cooperative target (diffusing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3429000" y="3924000"/>
            <a:ext cx="2235240" cy="914760"/>
            <a:chOff x="3429000" y="3924000"/>
            <a:chExt cx="2235240" cy="914760"/>
          </a:xfrm>
        </p:grpSpPr>
        <p:sp>
          <p:nvSpPr>
            <p:cNvPr id="699" name=""/>
            <p:cNvSpPr/>
            <p:nvPr/>
          </p:nvSpPr>
          <p:spPr>
            <a:xfrm flipV="1">
              <a:off x="5105520" y="4152600"/>
              <a:ext cx="558720" cy="393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470480" y="4444920"/>
              <a:ext cx="558720" cy="3938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356000" y="4457520"/>
              <a:ext cx="228600" cy="3301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3429000" y="3924000"/>
              <a:ext cx="228600" cy="3301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701F-7CAD-4377-BEE0-C0FC0964AF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43000" y="469800"/>
            <a:ext cx="750744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wer budget with diff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 additional loss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optics and atmosphere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04" name=""/>
          <p:cNvSpPr/>
          <p:nvPr/>
        </p:nvSpPr>
        <p:spPr>
          <a:xfrm>
            <a:off x="388800" y="1457280"/>
            <a:ext cx="83584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sidering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ower loss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ue to Tx and Rx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op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and round-trip (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opagation in the atmosp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at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720720" y="3621240"/>
                <a:ext cx="34686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m</m:t>
                        </m:r>
                      </m:sub>
                    </m:sSub>
                    <m:r>
                      <m:t xml:space="preserve">δ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722160" y="2328840"/>
                <a:ext cx="35020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m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4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7" name=""/>
          <p:cNvGrpSpPr/>
          <p:nvPr/>
        </p:nvGrpSpPr>
        <p:grpSpPr>
          <a:xfrm>
            <a:off x="504720" y="4933800"/>
            <a:ext cx="8237520" cy="1600200"/>
            <a:chOff x="504720" y="4933800"/>
            <a:chExt cx="8237520" cy="1600200"/>
          </a:xfrm>
        </p:grpSpPr>
        <p:sp>
          <p:nvSpPr>
            <p:cNvPr id="708" name=""/>
            <p:cNvSpPr/>
            <p:nvPr/>
          </p:nvSpPr>
          <p:spPr>
            <a:xfrm>
              <a:off x="504720" y="4933800"/>
              <a:ext cx="82375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n the end we can write a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general 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9" name=""/>
                <p:cNvSpPr txBox="1"/>
                <p:nvPr/>
              </p:nvSpPr>
              <p:spPr>
                <a:xfrm>
                  <a:off x="641520" y="5414760"/>
                  <a:ext cx="187452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G</m:t>
                      </m:r>
                      <m:f>
                        <m:num>
                          <m:sSubSup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bSup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0" name=""/>
          <p:cNvGrpSpPr/>
          <p:nvPr/>
        </p:nvGrpSpPr>
        <p:grpSpPr>
          <a:xfrm>
            <a:off x="3141720" y="5246640"/>
            <a:ext cx="5424480" cy="1535040"/>
            <a:chOff x="3141720" y="5246640"/>
            <a:chExt cx="5424480" cy="1535040"/>
          </a:xfrm>
        </p:grpSpPr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6757920" y="5753160"/>
                  <a:ext cx="180828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L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tm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3141720" y="5246640"/>
                  <a:ext cx="1571400" cy="14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m>
                        <m:m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pt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mr>
                        <m:mr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pt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713" name=""/>
            <p:cNvSpPr/>
            <p:nvPr/>
          </p:nvSpPr>
          <p:spPr>
            <a:xfrm flipV="1">
              <a:off x="3666960" y="5638680"/>
              <a:ext cx="18288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64080" y="6013440"/>
              <a:ext cx="18252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21400" y="5333760"/>
              <a:ext cx="2346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coope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non-coope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40440" y="6175440"/>
              <a:ext cx="15811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 Antiqua"/>
                </a:rPr>
                <a:t>equivalent lengt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16360" y="5648400"/>
              <a:ext cx="17020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ook Antiqua"/>
                </a:rPr>
                <a:t>equivalent GA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4978440" y="2328840"/>
                <a:ext cx="3276720" cy="24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5535720" y="3152880"/>
            <a:ext cx="1652400" cy="66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7FD9-9DD4-4DF8-AB3C-58FD7B13C7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204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suement principles in Telemetr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2/2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8" name=""/>
          <p:cNvSpPr/>
          <p:nvPr/>
        </p:nvSpPr>
        <p:spPr>
          <a:xfrm>
            <a:off x="353880" y="2222640"/>
            <a:ext cx="87375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289080" indent="-289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3)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interferometr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by means of counting optical wavelengths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laser beam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monochromatic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 is sent to the target and the returning light is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herently detected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by beat note analysis on a photodetector; the detected signal goes 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cos(2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kL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, with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=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and from the phase of the cosine function we ca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"count" the distance increment in terms of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/2 and its fraction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om 0 to 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r for small variation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starting from a fixed 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Book Antiqu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9720" y="4267080"/>
            <a:ext cx="8658360" cy="15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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kL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(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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L</a:t>
            </a:r>
            <a:r>
              <a:rPr b="1" lang="en-US" sz="1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=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/2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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/</a:t>
            </a:r>
            <a:r>
              <a:rPr b="1" lang="en-US" sz="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1" lang="en-US" sz="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2200" spc="-1" strike="noStrike">
                <a:solidFill>
                  <a:srgbClr val="ff0000"/>
                </a:solidFill>
                <a:latin typeface="Book Antiqua"/>
              </a:rPr>
              <a:t>         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“ 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counting L in terms of </a:t>
            </a: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/2 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cos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Book Antiqua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[ 2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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Book Antiqua"/>
              </a:rPr>
              <a:t>·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L</a:t>
            </a: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Book Antiqua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/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 Antiqua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(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/2)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]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           ( resolutio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Book Antiqua"/>
              </a:rPr>
              <a:t>depends on laser’s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Book Antiqua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0120" y="5510160"/>
            <a:ext cx="8543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with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typicall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0.5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m (VI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we count 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in terms o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/2=250 nm (resolving “just”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</a:t>
            </a:r>
            <a:br>
              <a:rPr sz="2200"/>
            </a:b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but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o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/2 we obtai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=125 nm or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60 nm and les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2040" y="1395000"/>
            <a:ext cx="82836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8008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ook Antiqua"/>
              <a:buChar char="•"/>
              <a:tabLst>
                <a:tab algn="l" pos="53640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ook Antiqua"/>
              </a:rPr>
              <a:t>tele-metr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distance-measurement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or also measurement at distanc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e measure the distanc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betwee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instrumen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nd a remot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9DD3-DE26-4E6A-A5F8-A83F1B8608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43000" y="520560"/>
            <a:ext cx="750744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ain of the optical telemeter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21" name=""/>
          <p:cNvSpPr/>
          <p:nvPr/>
        </p:nvSpPr>
        <p:spPr>
          <a:xfrm>
            <a:off x="477720" y="1457280"/>
            <a:ext cx="77630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optical telemeter gain can be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&gt;&gt;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e case of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operative targe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sinc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lt;&lt;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68360" y="2436840"/>
                <a:ext cx="2311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3098880" y="2382840"/>
            <a:ext cx="3301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 mrad an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5120" y="2933640"/>
            <a:ext cx="7763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is case the expression is analogous to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gain of the antenna" in a radio transmission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 where it is extremely important to have low divergenc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9640" y="4222800"/>
            <a:ext cx="77630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stead, the optical telemeter gain is always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&lt;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e case of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on-cooperative target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typ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0.5-0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0280" y="5214960"/>
            <a:ext cx="8055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oo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ntireflection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ated 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laser) allow reflection losses &lt;1%, at each air-glass interface, and absorption+scattering losses in the material (glass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uartz) &l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hole transmission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opt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&gt;0.98-0.9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71F1-4ADA-4002-9A74-00C8F54D7E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269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ttenuation coefficient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28" name=""/>
          <p:cNvSpPr/>
          <p:nvPr/>
        </p:nvSpPr>
        <p:spPr>
          <a:xfrm>
            <a:off x="388800" y="1444680"/>
            <a:ext cx="8190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uring its propagation (in the air), the laser beam undergoes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bsorption and scattering losse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ue to molecules or particulate always present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 th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800" y="5038560"/>
            <a:ext cx="844884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refully avoiding molecular absorption peaks, we can approximately adop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0.1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for a very clear atmosphere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0.3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for clear atmosphere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0.5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for little haze,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gt;&gt;0.5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f fog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725400" y="2546280"/>
            <a:ext cx="8089920" cy="873000"/>
            <a:chOff x="725400" y="2546280"/>
            <a:chExt cx="8089920" cy="873000"/>
          </a:xfrm>
        </p:grpSpPr>
        <p:sp>
          <p:nvSpPr>
            <p:cNvPr id="731" name=""/>
            <p:cNvSpPr/>
            <p:nvPr/>
          </p:nvSpPr>
          <p:spPr>
            <a:xfrm>
              <a:off x="725400" y="2831760"/>
              <a:ext cx="57546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Book Antiqua"/>
                </a:rPr>
                <a:t>atm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 = exp ( -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 ) 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)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 Antiqua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91240" y="2546280"/>
              <a:ext cx="222408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from the law o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ook Antiqua"/>
                </a:rPr>
                <a:t>Lambert-Be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60520" y="3646440"/>
            <a:ext cx="8396280" cy="1112760"/>
            <a:chOff x="560520" y="3646440"/>
            <a:chExt cx="8396280" cy="1112760"/>
          </a:xfrm>
        </p:grpSpPr>
        <p:sp>
          <p:nvSpPr>
            <p:cNvPr id="734" name=""/>
            <p:cNvSpPr/>
            <p:nvPr/>
          </p:nvSpPr>
          <p:spPr>
            <a:xfrm>
              <a:off x="709560" y="3646440"/>
              <a:ext cx="82472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)+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)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</a:rPr>
                <a:t>     attenuation coeffic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560520" y="4065480"/>
              <a:ext cx="1631880" cy="693720"/>
              <a:chOff x="560520" y="4065480"/>
              <a:chExt cx="1631880" cy="693720"/>
            </a:xfrm>
          </p:grpSpPr>
          <p:sp>
            <p:nvSpPr>
              <p:cNvPr id="736" name=""/>
              <p:cNvSpPr/>
              <p:nvPr/>
            </p:nvSpPr>
            <p:spPr>
              <a:xfrm flipV="1">
                <a:off x="1185840" y="4065480"/>
                <a:ext cx="13320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0520" y="4422600"/>
                <a:ext cx="1631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</a:rPr>
                  <a:t>absorp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 flipH="1" flipV="1">
              <a:off x="2236680" y="4065120"/>
              <a:ext cx="798480" cy="3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60840" y="4408560"/>
              <a:ext cx="53784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scatte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(“diffused” light by molecul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388800" y="6005520"/>
            <a:ext cx="844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[ in the case of no absorptio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DD59-2D78-4CE3-81BA-ABEF87859AC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269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tmospheric attenuation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42" name=""/>
          <p:cNvSpPr/>
          <p:nvPr/>
        </p:nvSpPr>
        <p:spPr>
          <a:xfrm>
            <a:off x="388800" y="1406520"/>
            <a:ext cx="832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early, at any fixe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atmospheric transmission is exponentially decreasing wit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reducing received pow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831960" y="2274840"/>
            <a:ext cx="6702480" cy="442584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266920" y="5219640"/>
            <a:ext cx="5683320" cy="111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68360" y="4278240"/>
            <a:ext cx="5683320" cy="111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061480" y="4122720"/>
            <a:ext cx="75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1</a:t>
            </a:r>
            <a:r>
              <a:rPr b="0" lang="en-US" sz="1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47080" y="5062680"/>
            <a:ext cx="75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1</a:t>
            </a:r>
            <a:r>
              <a:rPr b="0" lang="en-US" sz="10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184D-5AE9-4547-8976-496A2E0B087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269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tmospheric attenuation (examples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379440" y="1149480"/>
            <a:ext cx="4500360" cy="359856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388800" y="4822920"/>
            <a:ext cx="85298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With </a:t>
            </a:r>
            <a:r>
              <a:rPr b="1" lang="en-US" sz="2200" spc="-1" strike="noStrike">
                <a:solidFill>
                  <a:srgbClr val="33cc33"/>
                </a:solidFill>
                <a:latin typeface="Book Antiqua"/>
              </a:rPr>
              <a:t>very clear atmosphere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, we can reach up to 20 km (and come back!) with an optical transmission </a:t>
            </a:r>
            <a:r>
              <a:rPr b="1" lang="en-US" sz="2200" spc="-1" strike="noStrike">
                <a:solidFill>
                  <a:srgbClr val="33cc33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33cc33"/>
                </a:solidFill>
                <a:latin typeface="Book Antiqua"/>
              </a:rPr>
              <a:t>1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With some </a:t>
            </a: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haze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, at a 10 km distance, transmission is </a:t>
            </a:r>
            <a:r>
              <a:rPr b="1" lang="en-US" sz="2200" spc="-1" strike="noStrike">
                <a:solidFill>
                  <a:srgbClr val="0000ff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With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fog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, just at 1 km distance, transmission is below </a:t>
            </a:r>
            <a:r>
              <a:rPr b="1" lang="en-US" sz="2200" spc="-1" strike="noStrike">
                <a:solidFill>
                  <a:srgbClr val="ff0000"/>
                </a:solidFill>
                <a:latin typeface="Book Antiqua"/>
              </a:rPr>
              <a:t>1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21280" y="1677960"/>
            <a:ext cx="412128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n order to have the highest 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Book Antiqua"/>
              </a:rPr>
              <a:t>atm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, we must avoid some peaks of atmospheric absorption (with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) highest and 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Book Antiqua"/>
              </a:rPr>
              <a:t>atm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lowest): 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. 0.70, 076, 0.80, 0.855, 0.93, 1.13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m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used lasers ar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He-Ne (0.633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m) 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Nd:YAG (1.064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m) or (532 nm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LD-GaAlAs (0.82-0.88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3240" y="6407280"/>
            <a:ext cx="7556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(with </a:t>
            </a:r>
            <a:r>
              <a:rPr b="0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=3.5 km</a:t>
            </a:r>
            <a:r>
              <a:rPr b="0" lang="en-US" sz="2200" spc="-1" strike="noStrike" baseline="30000">
                <a:solidFill>
                  <a:srgbClr val="ff0000"/>
                </a:solidFill>
                <a:latin typeface="Book Antiqua"/>
              </a:rPr>
              <a:t>-1</a:t>
            </a: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 we get </a:t>
            </a:r>
            <a:r>
              <a:rPr b="0" i="1" lang="en-US" sz="22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Book Antiqua"/>
              </a:rPr>
              <a:t>atm</a:t>
            </a: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=exp(-7)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10</a:t>
            </a:r>
            <a:r>
              <a:rPr b="0" lang="en-US" sz="2200" spc="-1" strike="noStrike" baseline="30000">
                <a:solidFill>
                  <a:srgbClr val="ff0000"/>
                </a:solidFill>
                <a:latin typeface="Book Antiqua"/>
              </a:rPr>
              <a:t>-3</a:t>
            </a:r>
            <a:r>
              <a:rPr b="0" lang="en-US" sz="2200" spc="-1" strike="noStrike">
                <a:solidFill>
                  <a:srgbClr val="ff0000"/>
                </a:solidFill>
                <a:latin typeface="Book Antiqua"/>
              </a:rPr>
              <a:t> at 1 k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019160" y="1365120"/>
            <a:ext cx="568440" cy="2930760"/>
            <a:chOff x="1019160" y="1365120"/>
            <a:chExt cx="568440" cy="2930760"/>
          </a:xfrm>
        </p:grpSpPr>
        <p:grpSp>
          <p:nvGrpSpPr>
            <p:cNvPr id="754" name=""/>
            <p:cNvGrpSpPr/>
            <p:nvPr/>
          </p:nvGrpSpPr>
          <p:grpSpPr>
            <a:xfrm>
              <a:off x="1019160" y="1365120"/>
              <a:ext cx="442800" cy="2930760"/>
              <a:chOff x="1019160" y="1365120"/>
              <a:chExt cx="442800" cy="2930760"/>
            </a:xfrm>
          </p:grpSpPr>
          <p:sp>
            <p:nvSpPr>
              <p:cNvPr id="755" name=""/>
              <p:cNvSpPr/>
              <p:nvPr/>
            </p:nvSpPr>
            <p:spPr>
              <a:xfrm>
                <a:off x="1063800" y="1365120"/>
                <a:ext cx="93600" cy="1979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1144440" y="3355920"/>
                <a:ext cx="12960" cy="603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019160" y="401940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Book Antiqu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1219320" y="3083040"/>
              <a:ext cx="3682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Book Antiqua"/>
                </a:rPr>
                <a:t>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4361040" y="2093760"/>
            <a:ext cx="252360" cy="225720"/>
          </a:xfrm>
          <a:prstGeom prst="ellipse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38960" y="5140440"/>
            <a:ext cx="252360" cy="225360"/>
          </a:xfrm>
          <a:prstGeom prst="ellipse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50280" y="5657760"/>
            <a:ext cx="252360" cy="2253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25840" y="2651040"/>
            <a:ext cx="252360" cy="2253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53160" y="6149880"/>
            <a:ext cx="252720" cy="225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30240" y="3387600"/>
            <a:ext cx="8892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22400" y="3247920"/>
            <a:ext cx="252360" cy="225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B6A1-40C2-4C99-A4B2-82FAFCA2D68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79280" y="520200"/>
            <a:ext cx="7404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tmospheric attenuation (calculations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5386320" y="1450800"/>
            <a:ext cx="3656160" cy="2922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89000" y="1292400"/>
                <a:ext cx="5089320" cy="31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α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k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α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k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α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k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km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e</m:t>
                            </m:r>
                          </m:den>
                        </m:f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25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57040" y="4498920"/>
                <a:ext cx="8020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α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k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α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k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α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k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km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8591400" y="2195640"/>
            <a:ext cx="295560" cy="22356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81560" y="1511280"/>
            <a:ext cx="4203720" cy="774720"/>
          </a:xfrm>
          <a:prstGeom prst="line">
            <a:avLst/>
          </a:prstGeom>
          <a:ln cap="rnd" w="19080">
            <a:solidFill>
              <a:srgbClr val="99cc00"/>
            </a:solidFill>
            <a:custDash>
              <a:ds d="100000" sp="1000"/>
            </a:custDash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182000" y="2638440"/>
            <a:ext cx="295200" cy="223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86240" y="2795760"/>
            <a:ext cx="2813040" cy="185400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E3F9-5E22-4754-94D3-5EF7F585974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3333600" y="2387520"/>
            <a:ext cx="2425680" cy="2284560"/>
            <a:chOff x="3333600" y="2387520"/>
            <a:chExt cx="2425680" cy="2284560"/>
          </a:xfrm>
        </p:grpSpPr>
        <p:pic>
          <p:nvPicPr>
            <p:cNvPr id="775" name="" descr=""/>
            <p:cNvPicPr/>
            <p:nvPr/>
          </p:nvPicPr>
          <p:blipFill>
            <a:blip r:embed="rId2"/>
            <a:srcRect l="0" t="0" r="1080" b="0"/>
            <a:stretch/>
          </p:blipFill>
          <p:spPr>
            <a:xfrm>
              <a:off x="3333600" y="2387520"/>
              <a:ext cx="242568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4405320" y="3152880"/>
              <a:ext cx="90360" cy="7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295880" y="3048120"/>
              <a:ext cx="3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969696"/>
                  </a:solidFill>
                  <a:latin typeface="Symbol"/>
                  <a:ea typeface="Symbol"/>
                </a:rPr>
                <a:t>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269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tmospheric attenuation (examples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149400" y="1252440"/>
            <a:ext cx="5641920" cy="548640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5894280" y="1335240"/>
            <a:ext cx="314640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olar light spectrum reaching the Earth surface shows transparency windows and absorption peak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of the atmosp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5320" y="3132000"/>
            <a:ext cx="314640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AM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=(sin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22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"Air Mass"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wher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 is the arrival angle respect to the Earth surface (“to the horizon")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Book Antiqua"/>
              </a:rPr>
              <a:t>Sun ele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 rot="5400000">
            <a:off x="5325840" y="1476720"/>
            <a:ext cx="623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3449520" y="1643040"/>
            <a:ext cx="1932120" cy="1396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830160" y="2568600"/>
            <a:ext cx="8313120" cy="4049640"/>
            <a:chOff x="830160" y="2568600"/>
            <a:chExt cx="8313120" cy="4049640"/>
          </a:xfrm>
        </p:grpSpPr>
        <p:grpSp>
          <p:nvGrpSpPr>
            <p:cNvPr id="785" name=""/>
            <p:cNvGrpSpPr/>
            <p:nvPr/>
          </p:nvGrpSpPr>
          <p:grpSpPr>
            <a:xfrm>
              <a:off x="830160" y="4738680"/>
              <a:ext cx="8313120" cy="1879560"/>
              <a:chOff x="830160" y="4738680"/>
              <a:chExt cx="8313120" cy="1879560"/>
            </a:xfrm>
          </p:grpSpPr>
          <p:sp>
            <p:nvSpPr>
              <p:cNvPr id="786" name=""/>
              <p:cNvSpPr/>
              <p:nvPr/>
            </p:nvSpPr>
            <p:spPr>
              <a:xfrm>
                <a:off x="5943960" y="4738680"/>
                <a:ext cx="3199320" cy="18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80000"/>
                  </a:lnSpc>
                  <a:spcBef>
                    <a:spcPts val="550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Book Antiqua"/>
                  </a:rPr>
                  <a:t>Note how for small elevation angles the solar light e.m. spectrum depletes of </a:t>
                </a:r>
                <a:r>
                  <a:rPr b="1" lang="en-US" sz="2200" spc="-1" strike="noStrike">
                    <a:solidFill>
                      <a:srgbClr val="0000ff"/>
                    </a:solidFill>
                    <a:latin typeface="Book Antiqua"/>
                  </a:rPr>
                  <a:t>blu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Book Antiqua"/>
                  </a:rPr>
                  <a:t> light (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Book Antiqua"/>
                  </a:rPr>
                  <a:t>scattering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Book Antiqua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Book Antiqua"/>
                  </a:rPr>
                  <a:t>-4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Book Antiqua"/>
                  </a:rPr>
                  <a:t>)</a:t>
                </a:r>
                <a:br>
                  <a:rPr sz="2200"/>
                </a:br>
                <a:r>
                  <a:rPr b="0" lang="en-US" sz="2200" spc="-1" strike="noStrike">
                    <a:solidFill>
                      <a:srgbClr val="000000"/>
                    </a:solidFill>
                    <a:latin typeface="Book Antiqua"/>
                  </a:rPr>
                  <a:t>and enriches, relatively, of </a:t>
                </a:r>
                <a:r>
                  <a:rPr b="1" lang="en-US" sz="2200" spc="-1" strike="noStrike">
                    <a:solidFill>
                      <a:srgbClr val="ff0000"/>
                    </a:solidFill>
                    <a:latin typeface="Book Antiqua"/>
                  </a:rPr>
                  <a:t>red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Book Antiqua"/>
                  </a:rPr>
                  <a:t> light (less scatter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830160" y="6100920"/>
                <a:ext cx="1536120" cy="190440"/>
                <a:chOff x="830160" y="6100920"/>
                <a:chExt cx="1536120" cy="1904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1238400" y="6278760"/>
                  <a:ext cx="830880" cy="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30160" y="6278760"/>
                  <a:ext cx="521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83840" y="6100920"/>
                  <a:ext cx="446760" cy="1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80000"/>
                    </a:lnSpc>
                    <a:spcBef>
                      <a:spcPts val="349"/>
                    </a:spcBef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US" sz="1400" spc="-1" strike="noStrike">
                      <a:solidFill>
                        <a:srgbClr val="0000ff"/>
                      </a:solidFill>
                      <a:latin typeface="Book Antiqua"/>
                    </a:rPr>
                    <a:t>V</a:t>
                  </a:r>
                  <a:r>
                    <a:rPr b="1" lang="en-US" sz="1400" spc="-1" strike="noStrike">
                      <a:solidFill>
                        <a:srgbClr val="00ff00"/>
                      </a:solidFill>
                      <a:latin typeface="Book Antiqua"/>
                    </a:rPr>
                    <a:t>I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Book Antiqua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832400" y="6280200"/>
                  <a:ext cx="5338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2" name=""/>
            <p:cNvSpPr/>
            <p:nvPr/>
          </p:nvSpPr>
          <p:spPr>
            <a:xfrm>
              <a:off x="1022040" y="2568600"/>
              <a:ext cx="458280" cy="71748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29240" y="4988160"/>
              <a:ext cx="458640" cy="71748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135000" y="903240"/>
            <a:ext cx="3176640" cy="6005520"/>
            <a:chOff x="135000" y="903240"/>
            <a:chExt cx="3176640" cy="6005520"/>
          </a:xfrm>
        </p:grpSpPr>
        <p:sp>
          <p:nvSpPr>
            <p:cNvPr id="795" name=""/>
            <p:cNvSpPr/>
            <p:nvPr/>
          </p:nvSpPr>
          <p:spPr>
            <a:xfrm flipH="1" flipV="1">
              <a:off x="682560" y="1085400"/>
              <a:ext cx="547920" cy="1500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5960" y="903240"/>
              <a:ext cx="26956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sun at no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02840" y="5376960"/>
              <a:ext cx="1500120" cy="1257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5000" y="6626160"/>
              <a:ext cx="26956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sunrise or sun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3400560" y="2535120"/>
            <a:ext cx="1701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sin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Book Antiqua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BP/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68640" y="1295280"/>
            <a:ext cx="111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out of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ADDB-C17C-49AB-A15A-697CC2CF8DD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269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System equations and telemeter SNR</a:t>
            </a:r>
            <a:endParaRPr b="0" lang="en-US" sz="3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2" name=""/>
          <p:cNvSpPr/>
          <p:nvPr/>
        </p:nvSpPr>
        <p:spPr>
          <a:xfrm>
            <a:off x="423720" y="1424160"/>
            <a:ext cx="83026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photoreceiver (photodetector+transimpedance amp.) detecting receiver optical pow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nois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be adde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optica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hot nois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obtai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total noise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pow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as incident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al power on the photodiod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411120" y="3747960"/>
            <a:ext cx="7862760" cy="2027520"/>
            <a:chOff x="411120" y="3747960"/>
            <a:chExt cx="7862760" cy="2027520"/>
          </a:xfrm>
        </p:grpSpPr>
        <p:sp>
          <p:nvSpPr>
            <p:cNvPr id="804" name=""/>
            <p:cNvSpPr/>
            <p:nvPr/>
          </p:nvSpPr>
          <p:spPr>
            <a:xfrm>
              <a:off x="411120" y="3747960"/>
              <a:ext cx="786276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n order to work with a given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ratio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/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)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/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t the telemeter receiver, we must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"/>
                <p:cNvSpPr txBox="1"/>
                <p:nvPr/>
              </p:nvSpPr>
              <p:spPr>
                <a:xfrm>
                  <a:off x="431640" y="4672080"/>
                  <a:ext cx="444672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P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bSup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bSup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06" name=""/>
            <p:cNvGrpSpPr/>
            <p:nvPr/>
          </p:nvGrpSpPr>
          <p:grpSpPr>
            <a:xfrm>
              <a:off x="5586480" y="4624560"/>
              <a:ext cx="2589120" cy="938160"/>
              <a:chOff x="5586480" y="4624560"/>
              <a:chExt cx="2589120" cy="938160"/>
            </a:xfrm>
          </p:grpSpPr>
          <p:sp>
            <p:nvSpPr>
              <p:cNvPr id="807" name=""/>
              <p:cNvSpPr/>
              <p:nvPr/>
            </p:nvSpPr>
            <p:spPr>
              <a:xfrm>
                <a:off x="5586480" y="4670280"/>
                <a:ext cx="1092240" cy="8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</a:rPr>
                  <a:t>remi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</a:rPr>
                  <a:t>that we ha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08" name=""/>
                  <p:cNvSpPr txBox="1"/>
                  <p:nvPr/>
                </p:nvSpPr>
                <p:spPr>
                  <a:xfrm>
                    <a:off x="6761160" y="4624560"/>
                    <a:ext cx="1414440" cy="84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809" name=""/>
          <p:cNvGrpSpPr/>
          <p:nvPr/>
        </p:nvGrpSpPr>
        <p:grpSpPr>
          <a:xfrm>
            <a:off x="388800" y="4797360"/>
            <a:ext cx="3832200" cy="1920960"/>
            <a:chOff x="388800" y="4797360"/>
            <a:chExt cx="3832200" cy="1920960"/>
          </a:xfrm>
        </p:grpSpPr>
        <p:sp>
          <p:nvSpPr>
            <p:cNvPr id="810" name=""/>
            <p:cNvSpPr/>
            <p:nvPr/>
          </p:nvSpPr>
          <p:spPr>
            <a:xfrm>
              <a:off x="388800" y="4797360"/>
              <a:ext cx="750960" cy="814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776160" y="5635440"/>
              <a:ext cx="447840" cy="48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68280" y="5997600"/>
              <a:ext cx="2952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telemet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equivalent 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12920" y="3095640"/>
            <a:ext cx="8516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ceived signal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tical power is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depending on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4459320" y="5616720"/>
            <a:ext cx="4226040" cy="1168200"/>
            <a:chOff x="4459320" y="5616720"/>
            <a:chExt cx="4226040" cy="1168200"/>
          </a:xfrm>
        </p:grpSpPr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4970520" y="5616720"/>
                  <a:ext cx="371484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P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  <m:f>
                        <m:num>
                          <m:sSubSup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bSup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r>
                        <m:t xml:space="preserve">∝</m:t>
                      </m:r>
                      <m:s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D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816" name=""/>
            <p:cNvSpPr/>
            <p:nvPr/>
          </p:nvSpPr>
          <p:spPr>
            <a:xfrm>
              <a:off x="4459320" y="5921280"/>
              <a:ext cx="6699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</a:t>
              </a:r>
              <a:r>
                <a:rPr b="0" lang="en-US" sz="36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A30B-0C2A-42AC-AF48-7994A820FA5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269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Equivalent power vs. </a:t>
            </a:r>
            <a:r>
              <a:rPr b="0" i="1" lang="en-US" sz="3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Book Antiqua"/>
              </a:rPr>
              <a:t>eq</a:t>
            </a: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 and …</a:t>
            </a:r>
            <a:endParaRPr b="0" lang="en-US" sz="3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8" name=""/>
          <p:cNvSpPr/>
          <p:nvPr/>
        </p:nvSpPr>
        <p:spPr>
          <a:xfrm>
            <a:off x="423720" y="1424160"/>
            <a:ext cx="8302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e observe that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elemeter equivalent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5520" y="3375000"/>
            <a:ext cx="82501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s directly proportional to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and to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versely proportional to the receiver area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rectly proportional to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e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06440" y="1757520"/>
                <a:ext cx="648972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∝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23720" y="5018040"/>
            <a:ext cx="84042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xing the other parameters, we can see on bilogarithmic scales different parallel lines (for different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level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creasing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with increasing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we can identif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me typical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working regions for optical tele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9BAC-9034-4CBD-B44B-95770422AD8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269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ower vs distance (equivalent)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rcRect l="12983" t="0" r="0" b="4406"/>
          <a:stretch/>
        </p:blipFill>
        <p:spPr>
          <a:xfrm>
            <a:off x="882720" y="1144440"/>
            <a:ext cx="5064120" cy="5464440"/>
          </a:xfrm>
          <a:prstGeom prst="rect">
            <a:avLst/>
          </a:prstGeom>
          <a:ln w="0">
            <a:noFill/>
          </a:ln>
        </p:spPr>
      </p:pic>
      <p:grpSp>
        <p:nvGrpSpPr>
          <p:cNvPr id="824" name=""/>
          <p:cNvGrpSpPr/>
          <p:nvPr/>
        </p:nvGrpSpPr>
        <p:grpSpPr>
          <a:xfrm>
            <a:off x="2998440" y="4454640"/>
            <a:ext cx="6309000" cy="1900080"/>
            <a:chOff x="2998440" y="4454640"/>
            <a:chExt cx="6309000" cy="1900080"/>
          </a:xfrm>
        </p:grpSpPr>
        <p:sp>
          <p:nvSpPr>
            <p:cNvPr id="825" name=""/>
            <p:cNvSpPr/>
            <p:nvPr/>
          </p:nvSpPr>
          <p:spPr>
            <a:xfrm>
              <a:off x="6068880" y="4454640"/>
              <a:ext cx="3238560" cy="19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CW telemeter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ff"/>
                  </a:solidFill>
                  <a:latin typeface="Book Antiqua"/>
                </a:rPr>
                <a:t>P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Book Antiqua"/>
                </a:rPr>
                <a:t>s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=0.1mW 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Book Antiqua"/>
                </a:rPr>
                <a:t>G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=10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Book Antiqua"/>
                </a:rPr>
                <a:t>4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 (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Book Antiqua"/>
                </a:rPr>
                <a:t>s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=10mr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Book Antiqua"/>
                </a:rPr>
                <a:t>T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Book Antiqua"/>
                </a:rPr>
                <a:t>mis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=10ms-1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Book Antiqua"/>
                </a:rPr>
                <a:t>B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= 1/2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Book Antiqua"/>
                </a:rPr>
                <a:t>T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Book Antiqua"/>
                </a:rPr>
                <a:t>mis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= </a:t>
              </a:r>
              <a:r>
                <a:rPr b="1" lang="en-US" sz="1800" spc="-1" strike="noStrike">
                  <a:solidFill>
                    <a:srgbClr val="0000ff"/>
                  </a:solidFill>
                  <a:latin typeface="Book Antiqua"/>
                </a:rPr>
                <a:t>100Hz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-1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Book Antiqua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Book Antiqua"/>
                </a:rPr>
                <a:t>n</a:t>
              </a:r>
              <a:r>
                <a:rPr b="1" lang="en-US" sz="1800" spc="-1" strike="noStrike">
                  <a:solidFill>
                    <a:srgbClr val="0000ff"/>
                  </a:solidFill>
                  <a:latin typeface="Book Antiqua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</a:t>
              </a:r>
              <a:r>
                <a:rPr b="1" lang="en-US" sz="1800" spc="-1" strike="noStrike">
                  <a:solidFill>
                    <a:srgbClr val="0000ff"/>
                  </a:solidFill>
                  <a:latin typeface="Book Antiqua"/>
                </a:rPr>
                <a:t> "nW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2998440" y="459432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351320" y="1830240"/>
            <a:ext cx="4792680" cy="1970280"/>
            <a:chOff x="4351320" y="1830240"/>
            <a:chExt cx="4792680" cy="1970280"/>
          </a:xfrm>
        </p:grpSpPr>
        <p:sp>
          <p:nvSpPr>
            <p:cNvPr id="828" name=""/>
            <p:cNvSpPr/>
            <p:nvPr/>
          </p:nvSpPr>
          <p:spPr>
            <a:xfrm flipH="1">
              <a:off x="4351320" y="1976400"/>
              <a:ext cx="17812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72200" y="1830240"/>
              <a:ext cx="297180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Pulsed telemeter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ff0000"/>
                  </a:solidFill>
                  <a:latin typeface="Book Antiqua"/>
                </a:rPr>
                <a:t>E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Book Antiqua"/>
                </a:rPr>
                <a:t>p</a:t>
              </a: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2mJ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10ns 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Book Antiqua"/>
                </a:rPr>
                <a:t>P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Book Antiqua"/>
                </a:rPr>
                <a:t>s,p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=0.2MW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Book Antiqua"/>
                </a:rPr>
                <a:t>G</a:t>
              </a: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</a:t>
              </a:r>
              <a:r>
                <a:rPr b="0" i="1" lang="en-US" sz="12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0.5 (non-cooperativ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Book Antiqua"/>
                </a:rPr>
                <a:t>B </a:t>
              </a: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 1/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</a:t>
              </a: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= </a:t>
              </a: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</a:rPr>
                <a:t>100M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Book Antiqua"/>
                </a:rPr>
                <a:t>P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Book Antiqua"/>
                </a:rPr>
                <a:t>n</a:t>
              </a: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</a:t>
              </a: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</a:rPr>
                <a:t> "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ff0000"/>
                  </a:solidFill>
                  <a:latin typeface="Book Antiqua"/>
                </a:rPr>
                <a:t>W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2011320" y="6539040"/>
            <a:ext cx="369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BookT"/>
              </a:rPr>
              <a:t>equivalent distance </a:t>
            </a:r>
            <a:r>
              <a:rPr b="0" i="1" lang="en-US" sz="1600" spc="-1" strike="noStrike">
                <a:solidFill>
                  <a:srgbClr val="000000"/>
                </a:solidFill>
                <a:latin typeface="ITCCenturyBookT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ITCCenturyBookT"/>
              </a:rPr>
              <a:t>/(</a:t>
            </a:r>
            <a:r>
              <a:rPr b="0" i="1" lang="en-US" sz="1600" spc="-1" strike="noStrike">
                <a:solidFill>
                  <a:srgbClr val="000000"/>
                </a:solidFill>
                <a:latin typeface="ITCCenturyBookT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ITCCenturyBookT"/>
              </a:rPr>
              <a:t>atm</a:t>
            </a:r>
            <a:r>
              <a:rPr b="0" lang="en-US" sz="1600" spc="-1" strike="noStrike">
                <a:solidFill>
                  <a:srgbClr val="000000"/>
                </a:solidFill>
                <a:latin typeface="ITCCenturyBookT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ITCCenturyBookT"/>
              </a:rPr>
              <a:t>0.5</a:t>
            </a:r>
            <a:r>
              <a:rPr b="0" lang="en-US" sz="1600" spc="-1" strike="noStrike">
                <a:solidFill>
                  <a:srgbClr val="000000"/>
                </a:solidFill>
                <a:latin typeface="ITCCenturyBookT"/>
              </a:rPr>
              <a:t> (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-77760" y="3278160"/>
            <a:ext cx="14112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BookT"/>
              </a:rPr>
              <a:t>equivalent power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ITCCenturyBookT"/>
              </a:rPr>
              <a:t>G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ITCCenturyBookT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ITCCenturyBookT"/>
              </a:rPr>
              <a:t> 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49320" y="4462560"/>
            <a:ext cx="453960" cy="334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936720" y="1809720"/>
            <a:ext cx="453960" cy="335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7186680" y="3541680"/>
                <a:ext cx="1944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,re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c</m:t>
                            </m:r>
                          </m:sub>
                        </m:sSub>
                        <m:r>
                          <m:t xml:space="preserve">B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,rec</m:t>
                            </m:r>
                          </m:sub>
                        </m:sSub>
                        <m:r>
                          <m:t xml:space="preserve">∝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179280" y="907920"/>
            <a:ext cx="8683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Book Antiqua"/>
              </a:rPr>
              <a:t>GP</a:t>
            </a:r>
            <a:r>
              <a:rPr b="0" lang="en-US" sz="1800" spc="-1" strike="noStrike" baseline="-25000">
                <a:solidFill>
                  <a:srgbClr val="5f5f5f"/>
                </a:solidFill>
                <a:latin typeface="Book Antiqua"/>
              </a:rPr>
              <a:t>s</a:t>
            </a:r>
            <a:r>
              <a:rPr b="0" lang="en-US" sz="1000" spc="-1" strike="noStrike">
                <a:solidFill>
                  <a:srgbClr val="5f5f5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Symbol"/>
                <a:ea typeface="Symbol"/>
              </a:rPr>
              <a:t></a:t>
            </a:r>
            <a:r>
              <a:rPr b="0" lang="en-US" sz="1000" spc="-1" strike="noStrike">
                <a:solidFill>
                  <a:srgbClr val="5f5f5f"/>
                </a:solidFill>
                <a:latin typeface="Book Antiqua"/>
              </a:rPr>
              <a:t> </a:t>
            </a:r>
            <a:r>
              <a:rPr b="0" i="1" lang="en-US" sz="1800" spc="-1" strike="noStrike">
                <a:solidFill>
                  <a:srgbClr val="5f5f5f"/>
                </a:solidFill>
                <a:latin typeface="Book Antiqua"/>
              </a:rPr>
              <a:t>L</a:t>
            </a:r>
            <a:r>
              <a:rPr b="0" lang="en-US" sz="1800" spc="-1" strike="noStrike" baseline="30000">
                <a:solidFill>
                  <a:srgbClr val="5f5f5f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5f5f5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f5f5f"/>
                </a:solidFill>
                <a:latin typeface="Book Antiqua"/>
              </a:rPr>
              <a:t> equivalent power must be increased by two orders of magnitude for an increase of </a:t>
            </a:r>
            <a:r>
              <a:rPr b="0" i="1" lang="en-US" sz="1800" spc="-1" strike="noStrike">
                <a:solidFill>
                  <a:srgbClr val="5f5f5f"/>
                </a:solidFill>
                <a:latin typeface="Book Antiqua"/>
              </a:rPr>
              <a:t>L</a:t>
            </a:r>
            <a:r>
              <a:rPr b="0" lang="en-US" sz="1800" spc="-1" strike="noStrike">
                <a:solidFill>
                  <a:srgbClr val="5f5f5f"/>
                </a:solidFill>
                <a:latin typeface="Book Antiqua"/>
              </a:rPr>
              <a:t> by one order of 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170080" y="5708160"/>
            <a:ext cx="0" cy="6462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82680" y="5686560"/>
            <a:ext cx="901800" cy="10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364000" y="2465280"/>
            <a:ext cx="24120" cy="3889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270080" y="2465280"/>
            <a:ext cx="4097160" cy="14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40240" y="2424240"/>
            <a:ext cx="88920" cy="88920"/>
          </a:xfrm>
          <a:prstGeom prst="ellipse">
            <a:avLst/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20760" y="5654520"/>
            <a:ext cx="88920" cy="88920"/>
          </a:xfrm>
          <a:prstGeom prst="ellipse">
            <a:avLst/>
          </a:prstGeom>
          <a:solidFill>
            <a:srgbClr val="63a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3695760" y="3049560"/>
            <a:ext cx="450720" cy="45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3328560" y="2682360"/>
            <a:ext cx="451080" cy="451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6161040" y="3998880"/>
            <a:ext cx="1398600" cy="425520"/>
            <a:chOff x="6161040" y="3998880"/>
            <a:chExt cx="1398600" cy="425520"/>
          </a:xfrm>
        </p:grpSpPr>
        <p:sp>
          <p:nvSpPr>
            <p:cNvPr id="845" name=""/>
            <p:cNvSpPr/>
            <p:nvPr/>
          </p:nvSpPr>
          <p:spPr>
            <a:xfrm>
              <a:off x="7097760" y="3998880"/>
              <a:ext cx="461880" cy="425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864480" y="4218120"/>
              <a:ext cx="24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61040" y="4006800"/>
              <a:ext cx="696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eq. opt.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114480" y="1808280"/>
            <a:ext cx="998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100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71520" y="4459320"/>
            <a:ext cx="495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1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2192400" y="2514600"/>
            <a:ext cx="3159000" cy="3160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898880" y="5348160"/>
            <a:ext cx="978120" cy="403200"/>
          </a:xfrm>
          <a:prstGeom prst="ellipse">
            <a:avLst/>
          </a:prstGeom>
          <a:noFill/>
          <a:ln cap="rnd" w="255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3FE3-7073-4A92-9881-DDC28BE3619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269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oise at the receiver (of the telemeter)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53" name=""/>
          <p:cNvSpPr/>
          <p:nvPr/>
        </p:nvSpPr>
        <p:spPr>
          <a:xfrm>
            <a:off x="423720" y="1424160"/>
            <a:ext cx="857412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 "optical" noise contributions to noise pow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nois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,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ssociated to received signal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nois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,b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ssociated to background light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n the det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noise 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Book Antiqua"/>
              </a:rPr>
              <a:t>n,e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photodetector and transimp. amp.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ront-e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n,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n,bg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Book Antiqua"/>
              </a:rPr>
              <a:t>n,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7360" y="4019400"/>
            <a:ext cx="844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is the “useful“ signal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the background and clearly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e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(resp.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7360" y="4968720"/>
            <a:ext cx="875664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et’s evaluate the current noise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e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n photodiode output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e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shot noise on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shot noise on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,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electronic noi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e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"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Book Antiqua"/>
              </a:rPr>
              <a:t>el,0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"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ff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Book Antiqua"/>
              </a:rPr>
              <a:t>n,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18160" y="5361120"/>
            <a:ext cx="25797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this noise is practically observed AFTER the photodiode but it is virtually “transferred" 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to its "inpu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6067440" y="6265800"/>
            <a:ext cx="425520" cy="249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106640" y="985680"/>
            <a:ext cx="6879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optical power;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DC current;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AC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2E64-DA50-4E3F-92C8-0FED84EFC4E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09600" y="4225320"/>
            <a:ext cx="447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69696"/>
                </a:solidFill>
                <a:latin typeface="Book Antiqua"/>
              </a:rPr>
              <a:t>T E L E M E T E R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80010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easurement field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Telemeter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4600" y="1972800"/>
            <a:ext cx="57960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Book Antiqua"/>
              </a:rPr>
              <a:t>Distance and displacement measurement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5" name=""/>
          <p:cNvSpPr/>
          <p:nvPr/>
        </p:nvSpPr>
        <p:spPr>
          <a:xfrm>
            <a:off x="4676760" y="4005360"/>
            <a:ext cx="1398600" cy="11714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7760" y="5169600"/>
            <a:ext cx="4525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WITH SINE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electrical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phase shif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eas. on mod. l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59480" y="5752080"/>
            <a:ext cx="34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0066"/>
                </a:solidFill>
                <a:latin typeface="Book Antiqua"/>
              </a:rPr>
              <a:t>topography</a:t>
            </a:r>
            <a:r>
              <a:rPr b="0" lang="it-IT" sz="2000" spc="-1" strike="noStrike">
                <a:solidFill>
                  <a:srgbClr val="660066"/>
                </a:solidFill>
                <a:latin typeface="Comic Sans MS"/>
              </a:rPr>
              <a:t>, medium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95480" y="4006800"/>
            <a:ext cx="3430080" cy="2144160"/>
            <a:chOff x="1095480" y="4006800"/>
            <a:chExt cx="3430080" cy="2144160"/>
          </a:xfrm>
        </p:grpSpPr>
        <p:sp>
          <p:nvSpPr>
            <p:cNvPr id="119" name=""/>
            <p:cNvSpPr/>
            <p:nvPr/>
          </p:nvSpPr>
          <p:spPr>
            <a:xfrm flipH="1">
              <a:off x="2898360" y="4006800"/>
              <a:ext cx="1190520" cy="11541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2280" y="5169600"/>
              <a:ext cx="2346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PUL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(meas. </a:t>
              </a:r>
              <a:r>
                <a:rPr b="0" lang="en-US" sz="20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time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of fligh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95480" y="5752080"/>
              <a:ext cx="343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Book Antiqua"/>
                </a:rPr>
                <a:t>geodesy, radar</a:t>
              </a:r>
              <a:r>
                <a:rPr b="0" lang="en-US" sz="2000" spc="-1" strike="noStrike">
                  <a:solidFill>
                    <a:srgbClr val="660066"/>
                  </a:solidFill>
                  <a:latin typeface="Comic Sans MS"/>
                </a:rPr>
                <a:t>, long-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88200" y="2530440"/>
            <a:ext cx="2779560" cy="2028240"/>
            <a:chOff x="6388200" y="2530440"/>
            <a:chExt cx="2779560" cy="2028240"/>
          </a:xfrm>
        </p:grpSpPr>
        <p:sp>
          <p:nvSpPr>
            <p:cNvPr id="123" name=""/>
            <p:cNvSpPr/>
            <p:nvPr/>
          </p:nvSpPr>
          <p:spPr>
            <a:xfrm>
              <a:off x="6388200" y="3276360"/>
              <a:ext cx="2779560" cy="9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INTERFERO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(meas. </a:t>
              </a:r>
              <a:r>
                <a:rPr b="0" lang="en-US" sz="20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optical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coherent detec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18320" y="2530440"/>
              <a:ext cx="721800" cy="801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59480" y="4159800"/>
              <a:ext cx="26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Comic Sans MS"/>
                </a:rPr>
                <a:t>very high-resol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792520" y="2517840"/>
            <a:ext cx="3492360" cy="1439280"/>
            <a:chOff x="2792520" y="2517840"/>
            <a:chExt cx="3492360" cy="1439280"/>
          </a:xfrm>
        </p:grpSpPr>
        <p:sp>
          <p:nvSpPr>
            <p:cNvPr id="127" name=""/>
            <p:cNvSpPr/>
            <p:nvPr/>
          </p:nvSpPr>
          <p:spPr>
            <a:xfrm flipH="1">
              <a:off x="4410000" y="2517840"/>
              <a:ext cx="9360" cy="8254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92520" y="3283920"/>
              <a:ext cx="3492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BY INTENSITY MOD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(</a:t>
              </a:r>
              <a:r>
                <a:rPr b="0" lang="en-US" sz="20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optical mod.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incoherent meas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306360" y="2530440"/>
            <a:ext cx="3279600" cy="2028240"/>
            <a:chOff x="-306360" y="2530440"/>
            <a:chExt cx="3279600" cy="2028240"/>
          </a:xfrm>
        </p:grpSpPr>
        <p:sp>
          <p:nvSpPr>
            <p:cNvPr id="130" name=""/>
            <p:cNvSpPr/>
            <p:nvPr/>
          </p:nvSpPr>
          <p:spPr>
            <a:xfrm flipH="1">
              <a:off x="1402920" y="2530440"/>
              <a:ext cx="755640" cy="8269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306360" y="3298320"/>
              <a:ext cx="327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BY TRIANG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(meas. optical </a:t>
              </a: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and </a:t>
              </a:r>
              <a:br>
                <a:rPr sz="2000"/>
              </a:br>
              <a:r>
                <a:rPr b="0" lang="en-US" sz="20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beam position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5920" y="415980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Comic Sans MS"/>
                </a:rPr>
                <a:t>short-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79520" y="4514040"/>
            <a:ext cx="13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[0.1-10 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7720" y="445212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[</a:t>
            </a:r>
            <a:r>
              <a:rPr b="0" lang="en-US" sz="2000" spc="-1" strike="noStrike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660066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=100-10 n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8640" y="60742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[0.1-10 k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9880" y="605052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[1-1000 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06C4-FBCD-4ABC-BEDE-9EF404AB68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2691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oise at the receiver (of the telemeter)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60" name=""/>
          <p:cNvSpPr/>
          <p:nvPr/>
        </p:nvSpPr>
        <p:spPr>
          <a:xfrm>
            <a:off x="434880" y="2833560"/>
            <a:ext cx="844560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global variance, or power, of current noi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sum of variances of uncorrelated quantities)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re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 = 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n,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n,b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n,e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 =  2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e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Book Antiqua"/>
              </a:rPr>
              <a:t>el,0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03200" y="4191120"/>
            <a:ext cx="862668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ding the two DC photocurrents and the noise equivalent current  by the squared spectral responsivity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e get the optical power noise at the rece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 =  ( 2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(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Book Antiqua"/>
              </a:rPr>
              <a:t>el,0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9960" y="5810400"/>
            <a:ext cx="8371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et’s see some typical behaviors of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lectronic noise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n,el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(A/H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 for photoreceiver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photodiode+amp.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 different operating frequenc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90680" y="1289160"/>
            <a:ext cx="883116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arting from the 3 noise contrib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shot noise on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shot noise on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,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electronic noi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e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i="1" lang="en-US" sz="2400" spc="-1" strike="noStrike">
                <a:solidFill>
                  <a:srgbClr val="ff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Book Antiqua"/>
              </a:rPr>
              <a:t>el,0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0000ff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Book Antiqua"/>
              </a:rPr>
              <a:t>n,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6427800" y="1332000"/>
            <a:ext cx="2716200" cy="2300040"/>
            <a:chOff x="6427800" y="1332000"/>
            <a:chExt cx="2716200" cy="2300040"/>
          </a:xfrm>
        </p:grpSpPr>
        <p:sp>
          <p:nvSpPr>
            <p:cNvPr id="865" name=""/>
            <p:cNvSpPr/>
            <p:nvPr/>
          </p:nvSpPr>
          <p:spPr>
            <a:xfrm>
              <a:off x="6427800" y="1332000"/>
              <a:ext cx="27162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Book Antiqua"/>
                </a:rPr>
                <a:t>“</a:t>
              </a:r>
              <a:r>
                <a:rPr b="0" lang="en-US" sz="1600" spc="-1" strike="noStrike">
                  <a:solidFill>
                    <a:srgbClr val="ff0000"/>
                  </a:solidFill>
                  <a:latin typeface="Book Antiqua"/>
                </a:rPr>
                <a:t>equivalent” DC current producing a shot noise 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Book Antiqua"/>
                </a:rPr>
                <a:t>equal to the electronic noise transferred to the 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Book Antiqua"/>
                </a:rPr>
                <a:t>photodiode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449840" y="3111480"/>
              <a:ext cx="1315800" cy="52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35600" y="2406600"/>
              <a:ext cx="2032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761320" y="2400480"/>
              <a:ext cx="0" cy="714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12600" y="3901680"/>
            <a:ext cx="1766880" cy="1572120"/>
            <a:chOff x="12600" y="3901680"/>
            <a:chExt cx="1766880" cy="1572120"/>
          </a:xfrm>
        </p:grpSpPr>
        <p:sp>
          <p:nvSpPr>
            <p:cNvPr id="870" name=""/>
            <p:cNvSpPr/>
            <p:nvPr/>
          </p:nvSpPr>
          <p:spPr>
            <a:xfrm>
              <a:off x="317520" y="5315040"/>
              <a:ext cx="1461960" cy="1587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309600" y="4194000"/>
              <a:ext cx="0" cy="11210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17520" y="3901680"/>
              <a:ext cx="158760" cy="2919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6200000">
              <a:off x="-257760" y="4488840"/>
              <a:ext cx="836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Book Antiqua"/>
                </a:rPr>
                <a:t>.../</a:t>
              </a:r>
              <a:r>
                <a:rPr b="0" i="1" lang="en-US" sz="1800" spc="-1" strike="noStrike">
                  <a:solidFill>
                    <a:srgbClr val="5f5f5f"/>
                  </a:solidFill>
                  <a:latin typeface="Symbol"/>
                  <a:ea typeface="Symbol"/>
                </a:rPr>
                <a:t></a:t>
              </a:r>
              <a:r>
                <a:rPr b="0" lang="en-US" sz="1800" spc="-1" strike="noStrike" baseline="30000">
                  <a:solidFill>
                    <a:srgbClr val="5f5f5f"/>
                  </a:solidFill>
                  <a:latin typeface="Book Antiqu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1CD2-5F15-4DC9-823E-72CACC9C538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079640" y="520200"/>
            <a:ext cx="77644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lectronic noise for different photoreceivers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378000" y="1184400"/>
            <a:ext cx="6159240" cy="55371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6651720" y="5415120"/>
            <a:ext cx="24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D area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0.5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Capacity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0.5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425520" y="2935440"/>
            <a:ext cx="171360" cy="170640"/>
            <a:chOff x="425520" y="2935440"/>
            <a:chExt cx="171360" cy="170640"/>
          </a:xfrm>
        </p:grpSpPr>
        <p:sp>
          <p:nvSpPr>
            <p:cNvPr id="878" name=""/>
            <p:cNvSpPr/>
            <p:nvPr/>
          </p:nvSpPr>
          <p:spPr>
            <a:xfrm flipH="1">
              <a:off x="425520" y="3083040"/>
              <a:ext cx="162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25520" y="2935440"/>
              <a:ext cx="0" cy="14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34960" y="3082680"/>
              <a:ext cx="6192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25520" y="2362320"/>
            <a:ext cx="171360" cy="170640"/>
            <a:chOff x="425520" y="2362320"/>
            <a:chExt cx="171360" cy="170640"/>
          </a:xfrm>
        </p:grpSpPr>
        <p:sp>
          <p:nvSpPr>
            <p:cNvPr id="882" name=""/>
            <p:cNvSpPr/>
            <p:nvPr/>
          </p:nvSpPr>
          <p:spPr>
            <a:xfrm flipH="1">
              <a:off x="425520" y="2509920"/>
              <a:ext cx="162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25520" y="2362320"/>
              <a:ext cx="0" cy="14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534960" y="2509560"/>
              <a:ext cx="61920" cy="2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 flipV="1">
            <a:off x="425520" y="2468160"/>
            <a:ext cx="0" cy="7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27520" y="4141800"/>
            <a:ext cx="255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see (and “see again") the</a:t>
            </a:r>
            <a:r>
              <a:rPr b="0" lang="it-IT" sz="2000" spc="-1" strike="noStrike">
                <a:solidFill>
                  <a:srgbClr val="ff0000"/>
                </a:solidFill>
                <a:latin typeface="Book Antiqua"/>
              </a:rPr>
              <a:t> Book</a:t>
            </a:r>
            <a:r>
              <a:rPr b="0" lang="en-US" sz="2000" spc="-1" strike="noStrike">
                <a:solidFill>
                  <a:srgbClr val="ff0000"/>
                </a:solidFill>
                <a:latin typeface="Book Antiqua"/>
              </a:rPr>
              <a:t>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2F23-D3C2-40CB-9287-062ECB1D324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79640" y="520560"/>
            <a:ext cx="726912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valuation of the background ligh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(optical background power </a:t>
            </a:r>
            <a:r>
              <a:rPr b="0" i="1" lang="en-US" sz="30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88" name=""/>
          <p:cNvSpPr/>
          <p:nvPr/>
        </p:nvSpPr>
        <p:spPr>
          <a:xfrm>
            <a:off x="514440" y="1393920"/>
            <a:ext cx="847080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e start from the solar light spectrum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slide 45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from the working conditions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clouds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): we get the scen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pectral radiance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scene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(W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at multiplied ("integrated") over the bandwid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the interference filter, gives the optical  intensity of background light (“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e”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(W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)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cene “background"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00040" y="3683160"/>
            <a:ext cx="86439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tical power collected on the receiver is 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imes the background intensity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times the scene diffusivity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imes the viewing solid angle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[received intensity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]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ally multiplied by the receiver area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= (1/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)[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(W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bg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= [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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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/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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(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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wit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sin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Numerical Ape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06720" y="5570640"/>
            <a:ext cx="601920" cy="6364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8240" y="6543720"/>
            <a:ext cx="7605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in this slide "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I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" stays for optical intensity and not electric current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92240" y="5400720"/>
            <a:ext cx="1620720" cy="51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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sc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0ABE-141A-41D2-A30E-21F79684B8D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079640" y="546120"/>
            <a:ext cx="72691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ccuracy of the pulsed telemeter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94" name=""/>
          <p:cNvSpPr/>
          <p:nvPr/>
        </p:nvSpPr>
        <p:spPr>
          <a:xfrm>
            <a:off x="520560" y="6265800"/>
            <a:ext cx="79264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general, if not SNL, the background light and electronic noise contributions do increase the whole noise worsening the situa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530280" y="1035000"/>
                <a:ext cx="4684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1030320" y="3201840"/>
                <a:ext cx="24368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dS</m:t>
                                    </m:r>
                                  </m:num>
                                  <m:den>
                                    <m: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5073480" y="2147760"/>
            <a:ext cx="2903760" cy="257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552600" y="2076480"/>
                <a:ext cx="37303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o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o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≃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o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9" name=""/>
          <p:cNvGrpSpPr/>
          <p:nvPr/>
        </p:nvGrpSpPr>
        <p:grpSpPr>
          <a:xfrm>
            <a:off x="434880" y="4765680"/>
            <a:ext cx="8082000" cy="1507680"/>
            <a:chOff x="434880" y="4765680"/>
            <a:chExt cx="8082000" cy="1507680"/>
          </a:xfrm>
        </p:grpSpPr>
        <p:sp>
          <p:nvSpPr>
            <p:cNvPr id="900" name=""/>
            <p:cNvSpPr/>
            <p:nvPr/>
          </p:nvSpPr>
          <p:spPr>
            <a:xfrm>
              <a:off x="434880" y="4765680"/>
              <a:ext cx="76964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n a well-designed receiver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Book Antiqua"/>
                </a:rPr>
                <a:t>shot-noise limite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, SN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)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598320" y="4949640"/>
                  <a:ext cx="1758960" cy="13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∝</m:t>
                      </m:r>
                      <m:f>
                        <m:num>
                          <m:r>
                            <m:t xml:space="preserve">τ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2" name=""/>
            <p:cNvSpPr/>
            <p:nvPr/>
          </p:nvSpPr>
          <p:spPr>
            <a:xfrm>
              <a:off x="2930400" y="5520960"/>
              <a:ext cx="55864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number of received photons (over a single pulse or as the sum or “average” ov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puls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2338200" y="5800680"/>
              <a:ext cx="507960" cy="10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3006720" y="3274920"/>
            <a:ext cx="2260440" cy="905040"/>
            <a:chOff x="3006720" y="3274920"/>
            <a:chExt cx="2260440" cy="905040"/>
          </a:xfrm>
        </p:grpSpPr>
        <mc:AlternateContent>
          <mc:Choice xmlns:a14="http://schemas.microsoft.com/office/drawing/2010/main" Requires="a14">
            <p:sp>
              <p:nvSpPr>
                <p:cNvPr id="905" name=""/>
                <p:cNvSpPr txBox="1"/>
                <p:nvPr/>
              </p:nvSpPr>
              <p:spPr>
                <a:xfrm>
                  <a:off x="3006720" y="3274920"/>
                  <a:ext cx="15476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3400560" y="3798720"/>
                  <a:ext cx="18666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/</m:t>
                      </m:r>
                      <m:sSup>
                        <m:e>
                          <m:r>
                            <m:t xml:space="preserve">τ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≈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/</m:t>
                      </m:r>
                      <m:sSup>
                        <m:e>
                          <m:r>
                            <m:t xml:space="preserve">τ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"/>
            <p:cNvSpPr/>
            <p:nvPr/>
          </p:nvSpPr>
          <p:spPr>
            <a:xfrm>
              <a:off x="3692520" y="3643200"/>
              <a:ext cx="1077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984240" y="4292280"/>
            <a:ext cx="4206960" cy="419040"/>
            <a:chOff x="984240" y="4292280"/>
            <a:chExt cx="4206960" cy="419040"/>
          </a:xfrm>
        </p:grpSpPr>
        <p:sp>
          <p:nvSpPr>
            <p:cNvPr id="909" name=""/>
            <p:cNvSpPr/>
            <p:nvPr/>
          </p:nvSpPr>
          <p:spPr>
            <a:xfrm>
              <a:off x="984240" y="4362480"/>
              <a:ext cx="42069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for SNL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Book Antiqua"/>
                </a:rPr>
                <a:t>   P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Book Antiqua"/>
                </a:rPr>
                <a:t>n</a:t>
              </a:r>
              <a:r>
                <a:rPr b="1" lang="en-US" sz="1600" spc="-1" strike="noStrike" baseline="30000">
                  <a:solidFill>
                    <a:srgbClr val="ff0000"/>
                  </a:solidFill>
                  <a:latin typeface="Book Antiqua"/>
                </a:rPr>
                <a:t>2</a:t>
              </a: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  =  ( 2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Book Antiqua"/>
                </a:rPr>
                <a:t>h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</a:t>
              </a: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/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</a:t>
              </a: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)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Book Antiqua"/>
                </a:rPr>
                <a:t>B</a:t>
              </a: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 (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Book Antiqua"/>
                </a:rPr>
                <a:t>P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Book Antiqua"/>
                </a:rPr>
                <a:t>r</a:t>
              </a: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 +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Book Antiqua"/>
                </a:rPr>
                <a:t>P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Book Antiqua"/>
                </a:rPr>
                <a:t>bg</a:t>
              </a: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 +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Book Antiqua"/>
                </a:rPr>
                <a:t>P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Book Antiqua"/>
                </a:rPr>
                <a:t>el,0</a:t>
              </a:r>
              <a:r>
                <a:rPr b="1" lang="en-US" sz="1600" spc="-1" strike="noStrike">
                  <a:solidFill>
                    <a:srgbClr val="ff0000"/>
                  </a:solidFill>
                  <a:latin typeface="Book Antiqua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010040" y="4323960"/>
              <a:ext cx="495360" cy="352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3958920" y="4311360"/>
              <a:ext cx="561960" cy="399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610160" y="4304880"/>
              <a:ext cx="495360" cy="352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4559040" y="4292280"/>
              <a:ext cx="561960" cy="399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67E1-AAD2-406C-980F-B8BBBC6FEBE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055160" y="546120"/>
            <a:ext cx="72932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ccuracy of the CW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ne-modulated telemeter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43040" y="1471680"/>
                <a:ext cx="334620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4700520" y="1733400"/>
                <a:ext cx="35704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nc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gai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7" name=""/>
          <p:cNvSpPr/>
          <p:nvPr/>
        </p:nvSpPr>
        <p:spPr>
          <a:xfrm>
            <a:off x="227160" y="2855880"/>
            <a:ext cx="8794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analogy with the pulsed telemeter, now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the term 1/2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Book Antiqua"/>
              </a:rPr>
              <a:t>m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is equivalent to the duration </a:t>
            </a:r>
            <a:r>
              <a:rPr b="1" i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f the pul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ulsed telemeter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better working with short pulses (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mall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W sine-modulated telemeter: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tter working with an hig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dulation frequency (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igh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8280" y="5800680"/>
            <a:ext cx="81104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e would like to have 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or high pulse repetition rate, allowing for "pulse averaging" in the pulsed case) but this will caus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asurement ambiguity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4040" y="4821120"/>
            <a:ext cx="87487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sually for Q-switch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0ns &lt;&lt; (1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 for a typical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00kHz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 he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,p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&lt;&lt;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,CW-mod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in the SNL case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but due to electronic noise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00MHz &gt;&gt;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CW-mod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/2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mis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00Hz-1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80120" y="5451480"/>
            <a:ext cx="2684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Book Antiqua"/>
              </a:rPr>
              <a:t>SNL difficult when pulsed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EDB8-3205-497C-9FFE-8B2F44B8F99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079640" y="546120"/>
            <a:ext cx="72691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mbiguity in Time Of Flight telemeters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22" name=""/>
          <p:cNvSpPr/>
          <p:nvPr/>
        </p:nvSpPr>
        <p:spPr>
          <a:xfrm>
            <a:off x="349200" y="1469880"/>
            <a:ext cx="84358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orking with a periodic signal (transmitted and hence also received repeatedly), we have a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mbiguity proble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distinguishing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argets at different distanc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hat may return an optical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gnal with the same measurement information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time of flight or phase delay in the round-trip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4000" y="3489480"/>
            <a:ext cx="843588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order to avoid measurement ambiguity, we must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pulsed telem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rep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CW sin-mod teleme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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1/</a:t>
            </a: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Book Antiqua"/>
              </a:rPr>
              <a:t>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here 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Book Antiqua"/>
              </a:rPr>
              <a:t>max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is the “maximum Time Of Flight”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corresponding to the maximum distance </a:t>
            </a:r>
            <a:r>
              <a:rPr b="0" i="1" lang="en-US" sz="2400" spc="-1" strike="noStrike">
                <a:solidFill>
                  <a:srgbClr val="0000ff"/>
                </a:solidFill>
                <a:latin typeface="Book Antiqua"/>
              </a:rPr>
              <a:t>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, said </a:t>
            </a: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L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Book Antiqua"/>
              </a:rPr>
              <a:t>NA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, correctly 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6248520" y="4427640"/>
                <a:ext cx="2641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le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5" name=""/>
          <p:cNvSpPr/>
          <p:nvPr/>
        </p:nvSpPr>
        <p:spPr>
          <a:xfrm>
            <a:off x="6097680" y="4359240"/>
            <a:ext cx="2927160" cy="1470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648480" y="513252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lem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⟨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p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61CA-466B-4821-A1F8-F2E029FF732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7039080" y="2333520"/>
            <a:ext cx="9360" cy="3343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079640" y="546120"/>
            <a:ext cx="72691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mbiguity in Time Of Flight telemeters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552600" y="1409760"/>
            <a:ext cx="7988040" cy="408132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790560" y="5659560"/>
            <a:ext cx="7870680" cy="1054080"/>
            <a:chOff x="790560" y="5659560"/>
            <a:chExt cx="7870680" cy="1054080"/>
          </a:xfrm>
        </p:grpSpPr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790560" y="5699160"/>
                  <a:ext cx="20638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A</m:t>
                              </m:r>
                            </m:sub>
                          </m:sSub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32" name=""/>
            <p:cNvSpPr/>
            <p:nvPr/>
          </p:nvSpPr>
          <p:spPr>
            <a:xfrm>
              <a:off x="3267000" y="5659560"/>
              <a:ext cx="53942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Wh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mod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is “low" 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ep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is “high"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ook Antiqua"/>
                </a:rPr>
                <a:t>rep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low) there is no ambiguity Pb. [but litlle averaging and poor SNR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2917800" y="3284640"/>
            <a:ext cx="6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P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a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17800" y="4848120"/>
            <a:ext cx="6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P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am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475080"/>
            <a:ext cx="195480" cy="6825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84800" y="3462480"/>
            <a:ext cx="195120" cy="6825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616280" y="4950000"/>
            <a:ext cx="195480" cy="6825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917800" y="2575080"/>
            <a:ext cx="6573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917800" y="4167360"/>
            <a:ext cx="6573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0C63-228B-451A-B27A-D8EEC9F6F20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546120"/>
            <a:ext cx="72691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mbiguity in Time Of Flight telemeters</a:t>
            </a:r>
            <a:endParaRPr b="0" lang="en-US" sz="30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1" name=""/>
          <p:cNvSpPr/>
          <p:nvPr/>
        </p:nvSpPr>
        <p:spPr>
          <a:xfrm>
            <a:off x="345960" y="1374840"/>
            <a:ext cx="87980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ulsed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lem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-switched las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0 ns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0H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0kHz (repetition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e get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2)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2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re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15000k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5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problem arises only at large distances and/or for high repetition frequency of the pulse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[it is useful repeating measurements of single pulses in order to increase the accuracy (“averaging"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4520" y="3916440"/>
            <a:ext cx="879948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CW sine-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odulate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elem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ode laser with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0MH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0kHz (current modu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1/(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we get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2)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(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/2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1/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)=15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5km   (100kHz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5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problem arises already at medium-short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299200" y="1728720"/>
            <a:ext cx="1012680" cy="549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591320" y="2179800"/>
            <a:ext cx="939960" cy="512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08160" y="4287960"/>
            <a:ext cx="1148040" cy="5000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83160" y="5091120"/>
            <a:ext cx="695160" cy="5000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31920" y="6100920"/>
            <a:ext cx="8799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o achieve high accuracy we want high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(“averaging") but to reach high distances we must keep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low..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combined use of 2 frequencies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m1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e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 Antiqua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0EA1-0EB1-4890-88BE-B030ADC926B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079640" y="546120"/>
            <a:ext cx="72691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LIDAR</a:t>
            </a:r>
            <a:endParaRPr b="0" lang="en-US" sz="3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9" name=""/>
          <p:cNvSpPr/>
          <p:nvPr/>
        </p:nvSpPr>
        <p:spPr>
          <a:xfrm>
            <a:off x="345960" y="1203480"/>
            <a:ext cx="8379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ght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ntificatio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tectio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d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ery similar to a telemeter, it is an instrument for measuring “at distance”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operties of a mediu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ough which th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al pulse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ndergoes transmission an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ack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1539720" y="2990880"/>
            <a:ext cx="5257800" cy="306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CF4F-BFA5-46A2-BCFA-FCF42135606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079640" y="546120"/>
            <a:ext cx="72691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LIDAR</a:t>
            </a:r>
            <a:endParaRPr b="0" lang="en-US" sz="3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52" name=""/>
          <p:cNvSpPr/>
          <p:nvPr/>
        </p:nvSpPr>
        <p:spPr>
          <a:xfrm>
            <a:off x="309600" y="1401840"/>
            <a:ext cx="83358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ser source with high peak power (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Q-switche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 one or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ore suitable wavelength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 detect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bsorption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catterin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from the investigated components within the medium (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a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particulate in the atmosphe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ollutant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r plankton/chlorophyll/seawee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 wat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etc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2"/>
          <a:srcRect l="0" t="0" r="0" b="24685"/>
          <a:stretch/>
        </p:blipFill>
        <p:spPr>
          <a:xfrm>
            <a:off x="299880" y="3171960"/>
            <a:ext cx="4553280" cy="355896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5022720" y="3257640"/>
            <a:ext cx="3973680" cy="295092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5202360" y="6210360"/>
            <a:ext cx="3719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ackscattering  signal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OTDR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echn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0D0B-9FC2-48DB-85F4-548E9FE862C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708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easurement method by triangulation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3680" y="5136840"/>
            <a:ext cx="854064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8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-286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asurement becomes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ess accurate over long distanc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in practice fo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gt;&gt;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. In fact, if the detection angle gets small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&lt;10 mra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0.5°) rel. uncertaint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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ncreas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49200" y="1576440"/>
            <a:ext cx="8456760" cy="36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531120" y="2585880"/>
            <a:ext cx="50760" cy="185760"/>
          </a:xfrm>
          <a:custGeom>
            <a:avLst/>
            <a:gdLst/>
            <a:ahLst/>
            <a:rect l="l" t="t" r="r" b="b"/>
            <a:pathLst>
              <a:path w="32" h="117">
                <a:moveTo>
                  <a:pt x="20" y="0"/>
                </a:moveTo>
                <a:cubicBezTo>
                  <a:pt x="12" y="7"/>
                  <a:pt x="4" y="15"/>
                  <a:pt x="2" y="27"/>
                </a:cubicBezTo>
                <a:cubicBezTo>
                  <a:pt x="0" y="39"/>
                  <a:pt x="4" y="60"/>
                  <a:pt x="5" y="72"/>
                </a:cubicBezTo>
                <a:cubicBezTo>
                  <a:pt x="6" y="84"/>
                  <a:pt x="7" y="92"/>
                  <a:pt x="11" y="99"/>
                </a:cubicBezTo>
                <a:cubicBezTo>
                  <a:pt x="15" y="106"/>
                  <a:pt x="23" y="111"/>
                  <a:pt x="32" y="1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3120" y="2414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92640" y="1932120"/>
            <a:ext cx="4554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TELEMETER                           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4C25-2B55-4C39-B330-CA78BD5E3B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079640" y="546120"/>
            <a:ext cx="72691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LIDAR</a:t>
            </a:r>
            <a:endParaRPr b="0" lang="en-US" sz="3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57" name=""/>
          <p:cNvSpPr/>
          <p:nvPr/>
        </p:nvSpPr>
        <p:spPr>
          <a:xfrm>
            <a:off x="388800" y="1335240"/>
            <a:ext cx="834084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measured Time Of Flight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2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e get the dist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the investigated target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ize of investigated volu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measured backscattered signal we get the composition (chemical/physical) of the investigated volu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e obtai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aps, also in fake colors, as a function of the teleme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elevation angle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2"/>
          <a:stretch/>
        </p:blipFill>
        <p:spPr>
          <a:xfrm>
            <a:off x="700200" y="3616200"/>
            <a:ext cx="7634160" cy="31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AAE1-020C-4F88-BF10-FB8305F2F79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662940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assive optical triangulator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09760" y="4422600"/>
                <a:ext cx="6322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Δ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Δα</m:t>
                    </m:r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⋅</m:t>
                    </m:r>
                    <m:r>
                      <m:t xml:space="preserve">Δ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90680" y="1131840"/>
            <a:ext cx="4736880" cy="320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060640" y="3537000"/>
            <a:ext cx="287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584680" y="3627360"/>
            <a:ext cx="2081160" cy="1258920"/>
            <a:chOff x="5584680" y="3627360"/>
            <a:chExt cx="2081160" cy="1258920"/>
          </a:xfrm>
        </p:grpSpPr>
        <p:sp>
          <p:nvSpPr>
            <p:cNvPr id="148" name=""/>
            <p:cNvSpPr/>
            <p:nvPr/>
          </p:nvSpPr>
          <p:spPr>
            <a:xfrm flipH="1">
              <a:off x="5813280" y="4240080"/>
              <a:ext cx="59832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84680" y="3627360"/>
              <a:ext cx="2081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ensitivity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with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25760" y="5635800"/>
                <a:ext cx="2919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α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∝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875640" y="4589640"/>
            <a:ext cx="15332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rror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nc. or r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72080" y="5821200"/>
            <a:ext cx="17524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error or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unc. or res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(rel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67120" y="3871800"/>
            <a:ext cx="12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=tan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538960" y="1360440"/>
            <a:ext cx="3190680" cy="1874880"/>
            <a:chOff x="5538960" y="1360440"/>
            <a:chExt cx="3190680" cy="1874880"/>
          </a:xfrm>
        </p:grpSpPr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5538960" y="1360440"/>
                  <a:ext cx="3190680" cy="12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r>
                            <m:t xml:space="preserve">α</m:t>
                          </m:r>
                        </m:den>
                      </m:f>
                      <m:r>
                        <m:t xml:space="preserve">≃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α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5942160" y="2651040"/>
              <a:ext cx="25858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Book Antiqua"/>
                </a:rPr>
                <a:t>from angular meas. 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000"/>
                  </a:solidFill>
                  <a:latin typeface="Book Antiqua"/>
                </a:rPr>
                <a:t>we get the distance 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47600" y="5241960"/>
            <a:ext cx="1898640" cy="1616040"/>
            <a:chOff x="147600" y="5241960"/>
            <a:chExt cx="1898640" cy="1616040"/>
          </a:xfrm>
        </p:grpSpPr>
        <p:sp>
          <p:nvSpPr>
            <p:cNvPr id="158" name=""/>
            <p:cNvSpPr/>
            <p:nvPr/>
          </p:nvSpPr>
          <p:spPr>
            <a:xfrm>
              <a:off x="147600" y="5629320"/>
              <a:ext cx="18986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note tha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 increases a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Book Antiqua"/>
                </a:rPr>
                <a:t>2</a:t>
              </a:r>
              <a:br>
                <a:rPr sz="2000"/>
              </a:br>
              <a:br>
                <a:rPr sz="800"/>
              </a:b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res. gets worse with increasing d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00040" y="5241960"/>
              <a:ext cx="2811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4280" y="1601640"/>
            <a:ext cx="9921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E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962760" y="5591160"/>
            <a:ext cx="2192400" cy="1123920"/>
            <a:chOff x="6962760" y="5591160"/>
            <a:chExt cx="2192400" cy="112392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962760" y="5672160"/>
                  <a:ext cx="212724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L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σ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L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>
              <a:off x="6999120" y="5591160"/>
              <a:ext cx="1292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700" spc="-1" strike="noStrike">
                  <a:solidFill>
                    <a:srgbClr val="0000ff"/>
                  </a:solidFill>
                  <a:latin typeface="Book Antiqua"/>
                </a:rPr>
                <a:t>UNCertain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64200" y="6353280"/>
              <a:ext cx="2190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quantized meas. </a:t>
              </a:r>
              <a:br>
                <a:rPr sz="1800"/>
              </a:b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(limited res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5160" y="2990880"/>
            <a:ext cx="290520" cy="28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6360" y="296244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50000" y="3157560"/>
            <a:ext cx="2768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L</a:t>
            </a: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 non-linearly depending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on viewing angle </a:t>
            </a: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74160" y="4594320"/>
            <a:ext cx="969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440" y="2916360"/>
            <a:ext cx="507960" cy="4791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4440" y="2162160"/>
            <a:ext cx="507960" cy="479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770A-F71B-40BA-BC70-90C0818EB7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662940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tical lever” on the mirror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23800" y="1411200"/>
            <a:ext cx="8070840" cy="3702240"/>
            <a:chOff x="523800" y="1411200"/>
            <a:chExt cx="8070840" cy="3702240"/>
          </a:xfrm>
        </p:grpSpPr>
        <p:sp>
          <p:nvSpPr>
            <p:cNvPr id="173" name=""/>
            <p:cNvSpPr/>
            <p:nvPr/>
          </p:nvSpPr>
          <p:spPr>
            <a:xfrm>
              <a:off x="523800" y="1411200"/>
              <a:ext cx="8070840" cy="35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06200" y="1726920"/>
              <a:ext cx="737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146320" y="1726920"/>
              <a:ext cx="6210000" cy="189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155680" y="1713960"/>
              <a:ext cx="25560" cy="19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71520" y="3627360"/>
              <a:ext cx="60897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171520" y="2194920"/>
              <a:ext cx="0" cy="32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642920" y="2735280"/>
              <a:ext cx="412920" cy="117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692240" y="3627360"/>
              <a:ext cx="430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7760" y="2205000"/>
              <a:ext cx="8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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r>
                <a:rPr b="1" lang="en-US" sz="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>
                  <a:solidFill>
                    <a:srgbClr val="ff0000"/>
                  </a:solidFill>
                  <a:latin typeface="Book Antiqua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92400" y="326520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24680" y="169704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14920" y="1726920"/>
              <a:ext cx="73080" cy="2779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7" y="0"/>
                  </a:moveTo>
                  <a:cubicBezTo>
                    <a:pt x="3" y="22"/>
                    <a:pt x="0" y="44"/>
                    <a:pt x="1" y="62"/>
                  </a:cubicBezTo>
                  <a:cubicBezTo>
                    <a:pt x="2" y="80"/>
                    <a:pt x="6" y="88"/>
                    <a:pt x="13" y="107"/>
                  </a:cubicBezTo>
                  <a:cubicBezTo>
                    <a:pt x="20" y="126"/>
                    <a:pt x="41" y="164"/>
                    <a:pt x="46" y="175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3026880" y="3349440"/>
              <a:ext cx="73080" cy="2779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7" y="0"/>
                  </a:moveTo>
                  <a:cubicBezTo>
                    <a:pt x="3" y="22"/>
                    <a:pt x="0" y="44"/>
                    <a:pt x="1" y="62"/>
                  </a:cubicBezTo>
                  <a:cubicBezTo>
                    <a:pt x="2" y="80"/>
                    <a:pt x="6" y="88"/>
                    <a:pt x="13" y="107"/>
                  </a:cubicBezTo>
                  <a:cubicBezTo>
                    <a:pt x="20" y="126"/>
                    <a:pt x="41" y="164"/>
                    <a:pt x="46" y="175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160360" y="2001600"/>
              <a:ext cx="1176480" cy="1617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27120" y="3268440"/>
              <a:ext cx="189000" cy="21744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0"/>
                  </a:moveTo>
                  <a:cubicBezTo>
                    <a:pt x="16" y="2"/>
                    <a:pt x="32" y="4"/>
                    <a:pt x="45" y="12"/>
                  </a:cubicBezTo>
                  <a:cubicBezTo>
                    <a:pt x="58" y="20"/>
                    <a:pt x="70" y="33"/>
                    <a:pt x="79" y="46"/>
                  </a:cubicBezTo>
                  <a:cubicBezTo>
                    <a:pt x="88" y="59"/>
                    <a:pt x="96" y="78"/>
                    <a:pt x="101" y="91"/>
                  </a:cubicBezTo>
                  <a:cubicBezTo>
                    <a:pt x="106" y="104"/>
                    <a:pt x="106" y="114"/>
                    <a:pt x="107" y="125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62160" y="3135240"/>
              <a:ext cx="255600" cy="12708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0"/>
                  </a:moveTo>
                  <a:cubicBezTo>
                    <a:pt x="16" y="2"/>
                    <a:pt x="32" y="4"/>
                    <a:pt x="45" y="12"/>
                  </a:cubicBezTo>
                  <a:cubicBezTo>
                    <a:pt x="58" y="20"/>
                    <a:pt x="70" y="33"/>
                    <a:pt x="79" y="46"/>
                  </a:cubicBezTo>
                  <a:cubicBezTo>
                    <a:pt x="88" y="59"/>
                    <a:pt x="96" y="78"/>
                    <a:pt x="101" y="91"/>
                  </a:cubicBezTo>
                  <a:cubicBezTo>
                    <a:pt x="106" y="104"/>
                    <a:pt x="106" y="114"/>
                    <a:pt x="107" y="125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8640" y="3065400"/>
              <a:ext cx="40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12920" y="2809800"/>
              <a:ext cx="40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303280" y="3430440"/>
              <a:ext cx="179280" cy="318960"/>
              <a:chOff x="2303280" y="3430440"/>
              <a:chExt cx="179280" cy="318960"/>
            </a:xfrm>
          </p:grpSpPr>
          <p:sp>
            <p:nvSpPr>
              <p:cNvPr id="192" name=""/>
              <p:cNvSpPr/>
              <p:nvPr/>
            </p:nvSpPr>
            <p:spPr>
              <a:xfrm>
                <a:off x="2303280" y="3430440"/>
                <a:ext cx="17928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311200" y="3579480"/>
                <a:ext cx="169920" cy="169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V="1">
              <a:off x="1949400" y="3295080"/>
              <a:ext cx="162000" cy="196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108160" y="3282840"/>
              <a:ext cx="195120" cy="14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84120" y="2732040"/>
              <a:ext cx="1857240" cy="19047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080000" y="2870280"/>
              <a:ext cx="2158200" cy="1692360"/>
              <a:chOff x="1080000" y="2870280"/>
              <a:chExt cx="2158200" cy="1692360"/>
            </a:xfrm>
          </p:grpSpPr>
          <p:sp>
            <p:nvSpPr>
              <p:cNvPr id="198" name=""/>
              <p:cNvSpPr/>
              <p:nvPr/>
            </p:nvSpPr>
            <p:spPr>
              <a:xfrm rot="2244600">
                <a:off x="852480" y="3648960"/>
                <a:ext cx="2610000" cy="134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67120" y="2871720"/>
                <a:ext cx="2071080" cy="1589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024680" y="3573360"/>
              <a:ext cx="7380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1" i="1" lang="en-US" sz="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</a:t>
              </a:r>
              <a:r>
                <a:rPr b="1" lang="en-US" sz="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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r>
                <a:rPr b="1" lang="en-US" sz="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8800" y="2481120"/>
              <a:ext cx="2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2880" y="2771640"/>
              <a:ext cx="725400" cy="287280"/>
            </a:xfrm>
            <a:custGeom>
              <a:avLst/>
              <a:gdLst/>
              <a:ahLst/>
              <a:rect l="l" t="t" r="r" b="b"/>
              <a:pathLst>
                <a:path w="413" h="137">
                  <a:moveTo>
                    <a:pt x="0" y="137"/>
                  </a:moveTo>
                  <a:cubicBezTo>
                    <a:pt x="8" y="123"/>
                    <a:pt x="17" y="109"/>
                    <a:pt x="36" y="94"/>
                  </a:cubicBezTo>
                  <a:cubicBezTo>
                    <a:pt x="55" y="79"/>
                    <a:pt x="78" y="58"/>
                    <a:pt x="117" y="44"/>
                  </a:cubicBezTo>
                  <a:cubicBezTo>
                    <a:pt x="156" y="30"/>
                    <a:pt x="223" y="14"/>
                    <a:pt x="267" y="7"/>
                  </a:cubicBezTo>
                  <a:cubicBezTo>
                    <a:pt x="311" y="0"/>
                    <a:pt x="357" y="3"/>
                    <a:pt x="381" y="2"/>
                  </a:cubicBezTo>
                  <a:cubicBezTo>
                    <a:pt x="405" y="1"/>
                    <a:pt x="409" y="1"/>
                    <a:pt x="413" y="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03120" y="2766960"/>
              <a:ext cx="125640" cy="13644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99" y="0"/>
                  </a:moveTo>
                  <a:cubicBezTo>
                    <a:pt x="83" y="3"/>
                    <a:pt x="67" y="6"/>
                    <a:pt x="54" y="12"/>
                  </a:cubicBezTo>
                  <a:cubicBezTo>
                    <a:pt x="41" y="18"/>
                    <a:pt x="26" y="32"/>
                    <a:pt x="18" y="39"/>
                  </a:cubicBezTo>
                  <a:cubicBezTo>
                    <a:pt x="10" y="46"/>
                    <a:pt x="11" y="47"/>
                    <a:pt x="8" y="53"/>
                  </a:cubicBezTo>
                  <a:cubicBezTo>
                    <a:pt x="5" y="59"/>
                    <a:pt x="3" y="69"/>
                    <a:pt x="2" y="74"/>
                  </a:cubicBezTo>
                  <a:cubicBezTo>
                    <a:pt x="1" y="79"/>
                    <a:pt x="1" y="84"/>
                    <a:pt x="0" y="8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8960" y="2786040"/>
              <a:ext cx="115920" cy="13644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99" y="0"/>
                  </a:moveTo>
                  <a:cubicBezTo>
                    <a:pt x="83" y="3"/>
                    <a:pt x="67" y="6"/>
                    <a:pt x="54" y="12"/>
                  </a:cubicBezTo>
                  <a:cubicBezTo>
                    <a:pt x="41" y="18"/>
                    <a:pt x="26" y="32"/>
                    <a:pt x="18" y="39"/>
                  </a:cubicBezTo>
                  <a:cubicBezTo>
                    <a:pt x="10" y="46"/>
                    <a:pt x="11" y="47"/>
                    <a:pt x="8" y="53"/>
                  </a:cubicBezTo>
                  <a:cubicBezTo>
                    <a:pt x="5" y="59"/>
                    <a:pt x="3" y="69"/>
                    <a:pt x="2" y="74"/>
                  </a:cubicBezTo>
                  <a:cubicBezTo>
                    <a:pt x="1" y="79"/>
                    <a:pt x="1" y="84"/>
                    <a:pt x="0" y="8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920520" y="2514240"/>
              <a:ext cx="29520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22640" y="4475160"/>
              <a:ext cx="190440" cy="199800"/>
            </a:xfrm>
            <a:custGeom>
              <a:avLst/>
              <a:gdLst/>
              <a:ahLst/>
              <a:rect l="l" t="t" r="r" b="b"/>
              <a:pathLst>
                <a:path w="126" h="138">
                  <a:moveTo>
                    <a:pt x="0" y="138"/>
                  </a:moveTo>
                  <a:cubicBezTo>
                    <a:pt x="27" y="130"/>
                    <a:pt x="54" y="122"/>
                    <a:pt x="72" y="108"/>
                  </a:cubicBezTo>
                  <a:cubicBezTo>
                    <a:pt x="90" y="94"/>
                    <a:pt x="99" y="72"/>
                    <a:pt x="108" y="54"/>
                  </a:cubicBezTo>
                  <a:cubicBezTo>
                    <a:pt x="117" y="36"/>
                    <a:pt x="121" y="18"/>
                    <a:pt x="126" y="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0400" y="4532040"/>
              <a:ext cx="88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</a:t>
              </a:r>
              <a:r>
                <a:rPr b="1" lang="en-US" sz="18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</a:t>
              </a:r>
              <a:r>
                <a:rPr b="1" lang="en-US" sz="8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</a:t>
              </a:r>
              <a:r>
                <a:rPr b="1" i="1" lang="en-US" sz="18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>
                  <a:solidFill>
                    <a:srgbClr val="33cc33"/>
                  </a:solidFill>
                  <a:latin typeface="Book Antiqua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50960" y="5273640"/>
            <a:ext cx="2151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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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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3120" y="5240160"/>
            <a:ext cx="469260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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e get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= 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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e ge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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btracting the two member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 obtain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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43160" y="2406600"/>
            <a:ext cx="819000" cy="360360"/>
          </a:xfrm>
          <a:custGeom>
            <a:avLst/>
            <a:gdLst/>
            <a:ahLst/>
            <a:rect l="l" t="t" r="r" b="b"/>
            <a:pathLst>
              <a:path w="516" h="227">
                <a:moveTo>
                  <a:pt x="0" y="227"/>
                </a:moveTo>
                <a:cubicBezTo>
                  <a:pt x="13" y="201"/>
                  <a:pt x="27" y="175"/>
                  <a:pt x="45" y="152"/>
                </a:cubicBezTo>
                <a:cubicBezTo>
                  <a:pt x="63" y="129"/>
                  <a:pt x="79" y="109"/>
                  <a:pt x="108" y="89"/>
                </a:cubicBezTo>
                <a:cubicBezTo>
                  <a:pt x="137" y="69"/>
                  <a:pt x="178" y="46"/>
                  <a:pt x="216" y="32"/>
                </a:cubicBezTo>
                <a:cubicBezTo>
                  <a:pt x="254" y="18"/>
                  <a:pt x="302" y="10"/>
                  <a:pt x="336" y="5"/>
                </a:cubicBezTo>
                <a:cubicBezTo>
                  <a:pt x="370" y="0"/>
                  <a:pt x="387" y="4"/>
                  <a:pt x="417" y="5"/>
                </a:cubicBezTo>
                <a:cubicBezTo>
                  <a:pt x="447" y="6"/>
                  <a:pt x="481" y="8"/>
                  <a:pt x="516" y="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4160" y="216216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BookT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A446-F858-4F4F-864D-A031F2EC72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447480"/>
            <a:ext cx="7629480" cy="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olution and accuracy in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assive optical triangulator (examples)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3" name=""/>
          <p:cNvSpPr/>
          <p:nvPr/>
        </p:nvSpPr>
        <p:spPr>
          <a:xfrm>
            <a:off x="322200" y="1411200"/>
            <a:ext cx="8821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curacy/resolution of distance measurement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depend on accuracy/resolution of the angle measurement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9600" y="2189160"/>
            <a:ext cx="85723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27360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example, with a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micrometrical-screw goniomet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e can resol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1.5 mra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0.08 °) while with an </a:t>
            </a:r>
            <a:r>
              <a:rPr b="0" lang="en-US" sz="2400" spc="-1" strike="noStrike">
                <a:solidFill>
                  <a:srgbClr val="808000"/>
                </a:solidFill>
                <a:latin typeface="Book Antiqua"/>
              </a:rPr>
              <a:t>angular encod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we can achie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808000"/>
                </a:solidFill>
                <a:latin typeface="Book Antiqua"/>
              </a:rPr>
              <a:t>0.05 mra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0.0029 °)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=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92000" y="3340080"/>
            <a:ext cx="8283600" cy="1289160"/>
            <a:chOff x="792000" y="3340080"/>
            <a:chExt cx="8283600" cy="128916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14600" y="3692520"/>
                  <a:ext cx="395280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m>
                        <m:m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crew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ncoder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792000" y="3340080"/>
              <a:ext cx="82836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07800" indent="-3078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Ex.: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1 m we choos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10 cm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/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0.1 r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22200" y="6172200"/>
            <a:ext cx="882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formance is good until 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s not too small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hence for short ranges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0.1-1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97040" y="4819680"/>
            <a:ext cx="8283600" cy="1303200"/>
            <a:chOff x="797040" y="4819680"/>
            <a:chExt cx="8283600" cy="1303200"/>
          </a:xfrm>
        </p:grpSpPr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1585800" y="5143680"/>
                  <a:ext cx="4108680" cy="97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crew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mr>
                        <m:m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ncoder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>
              <a:off x="797040" y="4819680"/>
              <a:ext cx="82836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07800" indent="-3078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f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100 m we choos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1 m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/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=0.01 r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37120" y="5267160"/>
              <a:ext cx="2600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3000"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it would be insane to keep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=10 cm becaus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it would b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=1 mr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D966-75D4-4C79-A2DF-CEAFD4A66B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2T23:11:32Z</dcterms:created>
  <dc:creator>C. Svelto</dc:creator>
  <dc:description/>
  <dc:language>en-US</dc:language>
  <cp:lastModifiedBy>Notebook HP</cp:lastModifiedBy>
  <cp:lastPrinted>1999-09-13T09:18:36Z</cp:lastPrinted>
  <dcterms:modified xsi:type="dcterms:W3CDTF">2015-12-13T21:12:39Z</dcterms:modified>
  <cp:revision>681</cp:revision>
  <dc:subject/>
  <dc:title>Misure sui laser</dc:title>
</cp:coreProperties>
</file>